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4.png" ContentType="image/png"/>
  <Override PartName="/ppt/media/image11.jpeg" ContentType="image/jpeg"/>
  <Override PartName="/ppt/media/image31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34.png" ContentType="image/png"/>
  <Override PartName="/ppt/media/image33.png" ContentType="image/png"/>
  <Override PartName="/ppt/media/image36.png" ContentType="image/png"/>
  <Override PartName="/ppt/media/image27.jpeg" ContentType="image/jpeg"/>
  <Override PartName="/ppt/media/glass.wav" ContentType="audio/x-wav"/>
  <Override PartName="/ppt/media/image6.jpeg" ContentType="image/jpeg"/>
  <Override PartName="/ppt/media/image40.png" ContentType="image/png"/>
  <Override PartName="/ppt/media/image9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29.jpeg" ContentType="image/jpeg"/>
  <Override PartName="/ppt/media/image38.png" ContentType="image/png"/>
  <Override PartName="/ppt/media/image8.jpeg" ContentType="image/jpeg"/>
  <Override PartName="/ppt/media/image44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20.jpeg" ContentType="image/jpeg"/>
  <Override PartName="/ppt/media/image47.gif" ContentType="image/gif"/>
  <Override PartName="/ppt/media/image10.gif" ContentType="image/gif"/>
  <Override PartName="/ppt/media/image7.jpeg" ContentType="image/jpeg"/>
  <Override PartName="/ppt/media/whoosh.wav" ContentType="audio/x-wav"/>
  <Override PartName="/ppt/media/image28.jpeg" ContentType="image/jpeg"/>
  <Override PartName="/ppt/media/%E7%8B%BC.WAV" ContentType="audio/x-wav"/>
  <Override PartName="/ppt/media/%E7%8B%BC4.wav" ContentType="audio/x-wav"/>
  <Override PartName="/ppt/media/image37.png" ContentType="image/png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B31-EEE2-461E-98F3-014FEEF004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505C-5675-4203-8F8C-4FE2ECCB49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蒲松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字留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一字剑臣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别号柳泉居士。生于明崇祯 十三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公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64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辛于清康熙五十四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公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。他是清代著名的文学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中国乃至世界文学史上享有极高的声誉。十八岁中秀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此后却屡试不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遭遇坎坷。他将自己的怀才不遇、穷困潦倒、以及对当时社会矛盾的体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饱蘸着血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倾注笔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创作了流传百世的〈聊斋志异〉。但他的创作成就并不仅限于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几乎涉及文学的各个门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他创作的诗现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05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19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但曲有包括著名的〈墙头记〉、〈姑妇词〉在内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余万字。此外蒲松龄还撰写了〈历日文〉、〈省身语录〉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种杂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内容涉 及天文、农业、医药、教育等各个方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另有〈闸窘〉等三部戏曲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作者及《聊斋志异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2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蒲松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16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15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字留仙，别号柳泉，山东淄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今淄博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人。他生在一个书香家庭，从小热衷功名，并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时接连考取县、府、道的第一名，名震一时。但此后屡试不第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时，他迫于家贫，应聘为宝应县知县孙蕙的幕宾，整天和“无端而代人歌哭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《戒应酬文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的应酬文字打交道，大违素志，次年辞幕回乡。此后主要是在“缙绅先生家”设帐教学，直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才“撤帐归来”。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年间，他一面教书，一面应考，终究还是个穷秀才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7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他才援例出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年后便死去了。穷愁潦倒的一生，使他能接近和熟悉劳动人民，同情他们的疾苦，对科举制度的腐朽、官场的腐败、社会的黑暗有深刻的认识和体会。这些在他的作品中都有充分的反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《聊斋志异》是蒲松龄的代表作，在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左右已基本完成，此后不断有所增补和修改，是他一生心血的结晶，也是他的文学创作的最高成就。“聊斋”是他的书屋名称，“志”是记述的意思，“异”指奇异的故事。《聊斋志异》有短篇小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9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篇。题材大多来自民间和下层知识分子的传说。多数故事通过描写妖狐神鬼来反映现实的社会生活。有的揭露封建官府的黑暗，有的批判科举制度的弊病，有的表现青年男女冲破封建礼教、争取婚姻自由的思想，在一定程度上揭露了社会矛盾，表达了人民的愿望。但其中也夹杂着封建伦理和因果报应思想。《聊斋志异》的语言简练，描写细腻，人物形象鲜明，故事情节生动，具有较高的艺术成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册教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《聊斋志异》是蒲松龄的代表作，在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岁左右已基本完成，此后不断有所增补和修改，是他一生心血的结晶，也是他的文学创作的最高成就。“聊斋”是他的书屋名称，“志”是记述的意思，“异”指奇异的故事。《聊斋志异》有短篇小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9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篇。题材大多来自民间和下层知识分子的传说。多数故事通过描写妖狐神鬼来反映现实的社会生活。有的揭露封建官府的黑暗，有的批判科举制度的弊病，有的表现青年男女冲破封建礼教、争取婚姻自由的思想，在一定程度上揭露了社会矛盾，表达了人民的愿望。但其中也夹杂着封建伦理和因果报应思想。《聊斋志异》的语言简练，描写细腻，人物形象鲜明，故事情节生动，具有较高的艺术成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译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害怕了，拿起一块骨头扔过去。一只狼得到骨头停下了，另一只狼仍然跟着。屠户又拿起一块骨头扔过去，后得到骨头的那只狼停下了，可是先得到骨头的那只狼又跟上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译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害怕了，拿起一块骨头扔过去。一只狼得到骨头停下了，另一只狼仍然跟着。屠户又拿起一块骨头扔过去，后得到骨头的那只狼停下了，可是先得到骨头的那只狼又跟上来。骨头已经扔完了，两只狼像原来一样一起追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很急很怕，恐怕前后一起受到狼的攻击。屠户于是奔过去倚靠在柴草堆下面，放下担子拿起屠刀。两只狼都不敢向前，瞪眼朝着屠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过了一会儿，一只狼径直走开，另一只狼像狗似的蹲坐在前面。时间长了，那只狼的眼睛似乎闭上了，神情悠闲得很。屠户突然跳起来，用刀劈狼的脑袋，又连砍几刀把狼杀死。屠户正要上路，转到柴草堆后面一看，只见另一只狼正在柴草堆里打洞，想要钻过去从背后对屠户进行攻击。狼的身子已经钻进一半，只有屁股和尾巴露在外面。屠户从后面砍断了狼的后腿，也把狼杀死。这才明白前面的那只狼假装睡觉，原来是用来诱惑敌方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狼也太狡猾了，可是一会儿两只狼都被砍死，禽兽的欺骗手段能有多少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只不过给人们增加笑料罢了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译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害怕了，拿起一块骨头扔过去。一只狼得到骨头停下了，另一只狼仍然跟着。屠户又拿起一块骨头扔过去，后得到骨头的那只狼停下了，可是先得到骨头的那只狼又跟上来。骨头已经扔完了，两只狼像原来一样一起追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很急很怕，恐怕前后一起受到狼的攻击。看见野地里有一个打麦场，场主人把柴草堆在打麦场里，覆盖成小山似的。屠户突然跳起来，用刀劈狼的脑袋，又连砍几刀把狼杀死。屠户正要上路，转到柴草堆后面一看，只见另一只狼正在柴草堆里打洞，想要钻过去从背后对屠户进行攻击。狼的身子已经钻进一半，只有屁股和尾巴露在外面。屠户从后面砍断了狼的后腿，也把狼杀死。这才明白前面的那只狼假装睡觉，原来是用来诱惑敌方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狼也太狡猾了，可是一会儿两只狼都被砍死，禽兽的欺骗手段能有多少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只不过给人们增加笑料罢了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有关资料：译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1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个屠户天晚回家，担子里的肉已经卖完了，只剩下一些骨头。路上遇到两只狼，紧随着走了很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害怕了，拿起一块骨头扔过去。一只狼得到骨头停下了，另一只狼仍然跟着。屠户又拿起一块骨头扔过去，后得到骨头的那只狼停下了，可是先得到骨头的那只狼又跟上来。骨头已经扔完了，两只狼像原来一样一起追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很急很怕，恐怕前后一起受到狼的攻击。看见野地里有一个打麦场，场主人把柴草堆在打麦场里，覆盖成小山似的。屠户于是奔过去倚靠在柴草堆下面，放下担子拿起屠刀。两只狼都不敢向前，瞪眼朝着屠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过了一会儿，一只狼径直走开，另一只狼像狗似的蹲坐在前面。时间长了，那只狼的眼睛似乎闭上了，神情悠闲得很。屠户突然跳起来，用刀劈狼的脑袋，又连砍几刀把狼杀死。，，，，狼也太狡猾了，可是一会儿两只狼都被砍死，禽兽的欺骗手段能有多少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只不过给人们增加笑料罢了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幼圆"/>
                <a:ea typeface="幼圆"/>
              </a:rPr>
              <a:t>：认为这个故事讽喻像狼一样的恶人，不论怎样狡诈，终归要失败的，或者认为这个故事告诫人们，对待像狼一样的恶势力，不能存有幻想、妥协让步，必须敢于斗争，善于斗争，才能取得胜利，诸如此类的理解均无不可，但也未必一定要这样理解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《狼》练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999999"/>
                </a:solidFill>
                <a:latin typeface="Verdana"/>
                <a:ea typeface="宋体"/>
              </a:rPr>
              <a:t>(2003-04-12 13:02:22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一　熟读课文，回答下列问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文是怎样表现狼的狡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文中表现狼的狡猾的语句：“缀行甚远”，“一狼得骨止……两狼之并驱如故”，“狼不敢前，眈眈相向”，“一狼径去，其一犬坐于前……意暇甚”，“意将隧入以攻其后也”，“前狼假寐，盖以诱敌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户的机智表现在什么地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文章写屠户的勇敢聪明，主要是通过他的行为动作表现出来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顾野有麦场；乃奔倚其下，弛担持刀；暴起，以刀劈狼首，又数刀毙之；转视积薪后，一狼洞其中；……屠自后断其股，亦毙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作者对这件事发表了怎样的议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狼亦黠矣，而顷刻两毙，禽兽之变诈几何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止增笑耳。”语在说狼，实则夸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二　联系上下文，解释下列加点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大窘，恐前后受其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攻击，夹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顾野有麦场，场主积薪其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回头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屠乃奔倚其下，弛担持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放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转视积薪后，一狼洞其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这里是名词作动词用，指打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乃悟前狼假寐，盖以诱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假装睡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三　展开联想和想象，把本文改写成一篇白话故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此题为开放性练习，既帮助学生进一步熟悉课文，又能使学生充分发挥联想和想象进行思考和写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《狼》教学建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一、本文故事性很强，教师可采用讲故事的方法，先讲一遍，再引导学生反复诵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如分组分角色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，铭记于心，然后仔细揣摩语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二、教学时引导学生体会和感悟狼的贪婪、凶狠和狡诈的本性，认识屠户性格的变化过程。正确认识人与狼斗智斗勇的矛盾。明确人的智慧胜于一切的深刻道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三、课文中有些词语在不同句子中有不同用法，如“故、前、敌”等，在教学中要引导学生分辨。文中狼和屠户双方矛盾白热化的转折过程是“顾野有麦场”的描写，精彩细腻，值得玩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册教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看见野地里有一个打麦场，场主人把柴草堆在打麦场里，覆盖成小山似的。屠户于是奔过去倚靠在柴草堆下面，放下担子拿起屠刀。两只狼都不敢向前，瞪眼朝着屠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时间长了，那只狼的眼睛似乎闭上了，神情悠闲得很。屠户突然跳起来，用刀劈狼的脑袋，又连砍几刀把狼杀死。屠户正要上路，转到柴草堆后面一看，只见另一只狼正在柴草堆里打洞，狼的身子已经钻进一半，只有屁股和尾巴露在外面。屠户从后面砍断了狼的后腿，也把狼杀死。这才明白前面的那只狼假装睡觉，原来是用来诱惑敌方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狼也太狡猾了，可是一会儿两只狼都被砍死，禽兽的欺骗手段能有多少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只不过给人们增加笑料罢了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教版，九年制义务教育语文初中第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500-40EF-42B6-987D-B312A3D7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822-F7BD-48A0-AE56-FD1A6EAB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73B-83F7-46CA-B241-3CB31B89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E64-E64B-4748-BDD6-2F1F9F54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9F39-0408-41CB-9376-A653370B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50D4-0F52-440B-8036-C286A87D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AADD-7107-4EB5-A6DC-EB82493F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3CAD-C5F4-4AC8-9267-A8F4FD58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4B85-DE0B-4A0E-A68C-F52F06C1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CA32-8C74-482B-953F-71BF9867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3617-B655-4D1E-9698-485E14B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DB7-F767-4789-BAE4-C0739858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27B3-467B-46EE-95BB-21231EA4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6B00-7CB0-4B4D-8BEB-08343779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1C97-721A-41A9-B40B-73391D4D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8E66-B7F7-4C81-8DAC-6B8D1558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453E-810F-4CBC-B04F-FAC6F123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DB7-D9D1-494C-AA11-4D6D49C1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15D-1CD9-4437-B760-0B86E17A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6A7-154A-4E9C-B761-56E91D6E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AF3-631C-43A4-8671-D3129054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49E-D8A2-4627-A580-362D22E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8AB-CACE-45F5-BB48-ED6F6F3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81D-7467-42D3-ACA4-A285F14A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6B24-CF7C-4B9A-B484-E35E6BB2E75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DED7-258A-48F9-8F4D-049DE1C9347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7.xml"/><Relationship Id="rId3" Type="http://schemas.openxmlformats.org/officeDocument/2006/relationships/slide" Target="slide4.xml"/><Relationship Id="rId4" Type="http://schemas.openxmlformats.org/officeDocument/2006/relationships/image" Target="../media/image18.jpeg"/><Relationship Id="rId5" Type="http://schemas.openxmlformats.org/officeDocument/2006/relationships/image" Target="../media/image17.png"/><Relationship Id="rId6" Type="http://schemas.openxmlformats.org/officeDocument/2006/relationships/audio" Target="../media/&#29436;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&#29436;4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&#29436;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cnun.com/cartoon/fm/fm-14.htm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netrogue.myetang.com/son/xiao/pic/jingjv.htm" TargetMode="External"/><Relationship Id="rId6" Type="http://schemas.openxmlformats.org/officeDocument/2006/relationships/image" Target="../media/image22.jpeg"/><Relationship Id="rId7" Type="http://schemas.openxmlformats.org/officeDocument/2006/relationships/audio" Target="../media/&#29436;.WAV"/><Relationship Id="rId8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pengm.com/~cw/tea/wenhua/huihua/xianhua.htm" TargetMode="External"/><Relationship Id="rId2" Type="http://schemas.openxmlformats.org/officeDocument/2006/relationships/image" Target="../media/image23.jpeg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9.xml"/><Relationship Id="rId6" Type="http://schemas.openxmlformats.org/officeDocument/2006/relationships/audio" Target="../media/&#29436;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audio" Target="../media/&#29436;.WAV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audio" Target="../media/&#29436;.WAV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9.xm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audio" Target="../media/&#29436;.WAV"/><Relationship Id="rId8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19.xml"/><Relationship Id="rId7" Type="http://schemas.openxmlformats.org/officeDocument/2006/relationships/audio" Target="../media/&#29436;.WAV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9.xml"/><Relationship Id="rId6" Type="http://schemas.openxmlformats.org/officeDocument/2006/relationships/audio" Target="../media/&#29436;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19.xml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9.xml"/><Relationship Id="rId5" Type="http://schemas.openxmlformats.org/officeDocument/2006/relationships/audio" Target="../media/&#29436;.WAV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audio" Target="../media/&#29436;.WAV"/><Relationship Id="rId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19.xml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&#29436;.WAV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&#29436;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audio" Target="../media/&#29436;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104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4120" y="228600"/>
            <a:ext cx="667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齐秦：我是一头来自北方的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993080" cy="4103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2c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狼狈为奸     狼子野心     狼心狗肺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狼吞虎咽    杯盘狼藉      狼狈不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鬼哭狼嚎    引狼入室      与狼共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狼烟四起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9396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3333cc"/>
                </a:solidFill>
                <a:latin typeface="华文新魏"/>
                <a:ea typeface="华文新魏"/>
              </a:rPr>
              <a:t>1.</a:t>
            </a:r>
            <a:r>
              <a:rPr b="0" i="1" lang="zh-CN" sz="4900" spc="-1" strike="noStrike">
                <a:solidFill>
                  <a:srgbClr val="3333cc"/>
                </a:solidFill>
                <a:latin typeface="华文新魏"/>
                <a:ea typeface="华文新魏"/>
              </a:rPr>
              <a:t>形容大声哭叫，声音凄厉。</a:t>
            </a:r>
            <a:r>
              <a:rPr b="1" i="1" lang="zh-CN" sz="4100" spc="-1" strike="noStrike">
                <a:solidFill>
                  <a:srgbClr val="ffcc00"/>
                </a:solidFill>
                <a:latin typeface="华文行楷"/>
                <a:ea typeface="华文行楷"/>
              </a:rPr>
              <a:t>　</a:t>
            </a:r>
            <a:r>
              <a:rPr b="1" i="1" lang="zh-CN" sz="41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endParaRPr b="1" i="1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219640" y="3357360"/>
            <a:ext cx="32400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鬼哭狼嚎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　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r>
              <a:rPr b="0" i="1" lang="en-US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2.</a:t>
            </a:r>
            <a:r>
              <a:rPr b="0" i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比喻把坏人或敌人引入内部。</a:t>
            </a:r>
            <a:r>
              <a:rPr b="1" i="1" lang="zh-CN" sz="40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endParaRPr b="1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5399280" cy="3635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0" y="2133720"/>
            <a:ext cx="2009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引狼入室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3.</a:t>
            </a:r>
            <a:r>
              <a:rPr b="0" i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比喻凶暴的人居心狠毒，习性难改。</a:t>
            </a:r>
            <a:r>
              <a:rPr b="1" i="1" lang="zh-CN" sz="40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endParaRPr b="1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32000" y="5703840"/>
            <a:ext cx="30196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狼子野心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390080" cy="348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317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4.</a:t>
            </a:r>
            <a:r>
              <a:rPr b="0" i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四处都是报警的烟火，指边疆不平静。</a:t>
            </a:r>
            <a:r>
              <a:rPr b="1" i="1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　</a:t>
            </a:r>
            <a:r>
              <a:rPr b="1" i="1" lang="zh-CN" sz="40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endParaRPr b="1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5752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狼烟四起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573360"/>
            <a:ext cx="79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5.</a:t>
            </a:r>
            <a:r>
              <a:rPr b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形容心肠象狼和狗一样凶恶狠毒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72480" y="5102280"/>
            <a:ext cx="280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狼心狗肺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6.</a:t>
            </a:r>
            <a:r>
              <a:rPr b="0" i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杯子盘子乱七八糟地放着。形容吃喝以后桌面杂乱的样子。</a:t>
            </a:r>
            <a:r>
              <a:rPr b="1" i="1" lang="zh-CN" sz="40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endParaRPr b="1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3963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杯盘狼藉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500280"/>
            <a:ext cx="669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7.</a:t>
            </a:r>
            <a:r>
              <a:rPr b="0" i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比喻坏人当权 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4797360"/>
            <a:ext cx="4680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6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豺狼当道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8.</a:t>
            </a:r>
            <a:r>
              <a:rPr b="0" i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比喻胆小怕事，顾虑太多。</a:t>
            </a:r>
            <a:r>
              <a:rPr b="1" i="1" lang="zh-CN" sz="40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1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34920" y="1700280"/>
            <a:ext cx="561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前怕狼，后怕虎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14172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9.</a:t>
            </a:r>
            <a:r>
              <a:rPr b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比喻赶走了一个敌人，又来了一个敌人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486900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前门拒虎，后门进狼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1052640"/>
            <a:ext cx="7561440" cy="1477080"/>
          </a:xfrm>
          <a:prstGeom prst="rect">
            <a:avLst/>
          </a:prstGeom>
          <a:gradFill rotWithShape="0">
            <a:gsLst>
              <a:gs pos="0">
                <a:srgbClr val="9ce157"/>
              </a:gs>
              <a:gs pos="100000">
                <a:srgbClr val="47672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小山羊和狼             东郭先生和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狼外婆的故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573360"/>
            <a:ext cx="8424720" cy="2531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狗行千里要吃屎，狼行千里要吃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披着羊皮的狼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舍不得孩子，套不住狼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黄鼠狼给鸡拜年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没安好心。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  </a:t>
            </a:r>
            <a:r>
              <a:rPr b="0" lang="zh-CN" sz="3200" spc="-1" strike="noStrike">
                <a:solidFill>
                  <a:srgbClr val="ffcc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89000"/>
            <a:ext cx="71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你能说出跟狼相关的故事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565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你能说出跟狼相关的谚语、歇后语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Arial"/>
              <a:ea typeface="宋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38080" y="3533760"/>
            <a:ext cx="6934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狼的性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坚毅孤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%E7%8B%BC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700" spc="-1" strike="noStrike">
                <a:solidFill>
                  <a:srgbClr val="ffcc00"/>
                </a:solidFill>
                <a:latin typeface="Arial"/>
                <a:ea typeface="隶书"/>
              </a:rPr>
              <a:t>狼 </a:t>
            </a:r>
            <a:r>
              <a:rPr b="1" lang="zh-CN" sz="4500" spc="-1" strike="noStrike">
                <a:solidFill>
                  <a:srgbClr val="ffcc00"/>
                </a:solidFill>
                <a:latin typeface="Arial"/>
                <a:ea typeface="隶书"/>
              </a:rPr>
              <a:t>——专题研究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114800" y="236196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ea typeface="隶书"/>
                <a:hlinkClick r:id="rId1" action="ppaction://hlinksldjump"/>
              </a:rPr>
              <a:t>关于蒲松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  <a:ea typeface="隶书"/>
              </a:rPr>
              <a:t>字词理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  <a:ea typeface="隶书"/>
              </a:rPr>
              <a:t>课文诵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ea typeface="隶书"/>
                <a:hlinkClick r:id="rId2" action="ppaction://hlinksldjump"/>
              </a:rPr>
              <a:t>《狼》译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看图说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课文理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98d43"/>
                </a:solidFill>
                <a:uFillTx/>
                <a:latin typeface="Arial"/>
                <a:ea typeface="隶书"/>
                <a:hlinkClick r:id="rId3" action="ppaction://hlinksldjump"/>
              </a:rPr>
              <a:t>关于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研究探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古文检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82720" y="2514600"/>
            <a:ext cx="269856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868680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7002" y="10800"/>
                </a:moveTo>
                <a:lnTo>
                  <a:pt x="6497" y="17806"/>
                </a:lnTo>
                <a:lnTo>
                  <a:pt x="6497" y="3794"/>
                </a:lnTo>
                <a:close/>
              </a:path>
              <a:path fill="darken" w="27006" h="21600">
                <a:moveTo>
                  <a:pt x="18847" y="3794"/>
                </a:moveTo>
                <a:lnTo>
                  <a:pt x="18847" y="17806"/>
                </a:lnTo>
                <a:lnTo>
                  <a:pt x="20510" y="17806"/>
                </a:lnTo>
                <a:lnTo>
                  <a:pt x="20510" y="3794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%E7%8B%BC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 rot="5400000">
            <a:off x="-1621440" y="2637360"/>
            <a:ext cx="52578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认识狼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733920" y="380880"/>
            <a:ext cx="3446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方正舒体"/>
              </a:rPr>
              <a:t>狼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438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黑体"/>
              </a:rPr>
              <a:t>蒲松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8B%BC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391520" y="655560"/>
            <a:ext cx="121896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655560"/>
            <a:ext cx="60984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隶书"/>
                <a:ea typeface="隶书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3027240" cy="45259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71" name="PlaceHolder 3"/>
          <p:cNvSpPr>
            <a:spLocks noGrp="1"/>
          </p:cNvSpPr>
          <p:nvPr>
            <p:ph type="title"/>
          </p:nvPr>
        </p:nvSpPr>
        <p:spPr>
          <a:xfrm>
            <a:off x="2987640" y="5445000"/>
            <a:ext cx="3168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  <a:ea typeface="隶书"/>
              </a:rPr>
              <a:t>蒲松龄</a:t>
            </a:r>
            <a:endParaRPr b="1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4771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郭沫若写蒲松龄的对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5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华文新魏"/>
              </a:rPr>
              <a:t>一、简介蒲松龄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蒲松龄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(1640—1715)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，字留仙，别号柳泉，山东淄川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今淄博市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他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岁时接连考取县、府、道的第一名，名震一时。但此后屡试不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31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岁时，他迫于家贫，应聘为宝应县知县孙蕙的幕宾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次年辞幕回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此后主要是在“缙绅先生家”设帐教学，直到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70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岁才“撤帐归来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%E7%8B%BC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蒲松龄落第自勉联</a:t>
            </a:r>
            <a:endParaRPr b="1" i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720" y="1295280"/>
            <a:ext cx="1752840" cy="452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有志者，事竟成，破釜沉舟，百二秦关终属楚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4000" y="1341360"/>
            <a:ext cx="1600200" cy="452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苦心人，天不负，卧薪尝胆，三千越甲可吞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4160" y="2197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565360"/>
            <a:ext cx="720720" cy="533520"/>
          </a:xfrm>
          <a:prstGeom prst="leftArrow">
            <a:avLst>
              <a:gd name="adj1" fmla="val 50000"/>
              <a:gd name="adj2" fmla="val 3377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340000" y="479736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4149720"/>
            <a:ext cx="2303640" cy="18684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3364920" y="1341360"/>
            <a:ext cx="2076840" cy="2171880"/>
            <a:chOff x="3364920" y="1341360"/>
            <a:chExt cx="2076840" cy="2171880"/>
          </a:xfrm>
        </p:grpSpPr>
        <p:pic>
          <p:nvPicPr>
            <p:cNvPr id="183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636720" y="1341360"/>
              <a:ext cx="180504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364920" y="1455840"/>
              <a:ext cx="7290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西楚霸王——项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%E7%8B%BC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华文新魏"/>
              </a:rPr>
              <a:t>二、《聊斋志异》的写作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720" y="1486080"/>
            <a:ext cx="7772400" cy="4741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%E7%8B%BC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华文新魏"/>
              </a:rPr>
              <a:t>《聊斋志异》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0773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聊斋志异》是蒲松龄的代表作，在他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左右已基本完成，此后不断有所增补和修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聊斋”是他的书屋名称，“志”是记述的意思，“异”指奇异的故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聊斋志异》有短篇小说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91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篇。题材大多来自民间和下层知识分子的传说。多数故事通过描写妖狐神鬼来反映现实的社会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聊斋志异》的语言简练，描写细腻，人物形象鲜明，故事情节生动，具有较高的艺术成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5" action="ppaction://hlinksldjump"/>
          </p:cNvPr>
          <p:cNvSpPr/>
          <p:nvPr/>
        </p:nvSpPr>
        <p:spPr>
          <a:xfrm>
            <a:off x="868680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%E7%8B%BC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c00"/>
                </a:solidFill>
                <a:latin typeface="Arial"/>
                <a:ea typeface="宋体"/>
              </a:rPr>
              <a:t>生字注音</a:t>
            </a:r>
            <a:br>
              <a:rPr sz="4800"/>
            </a:br>
            <a:endParaRPr b="1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缀行                 大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苫蔽                 驰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眈眈                 少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意暇                 毙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黠                     瞑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尻                     假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1844640"/>
            <a:ext cx="5185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zhuì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jiǒng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shān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chí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dān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（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hǎo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xiá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bì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xiá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íng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kāo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        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èi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7" name="%E7%8B%BC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宋体"/>
              </a:rPr>
              <a:t>三、译文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屠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晚归，担中肉尽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止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剩骨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8480" y="3052800"/>
            <a:ext cx="22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有个屠户天晚回家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屠夫，宰杀牲畜卖肉的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527688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剩下的骨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92360" y="3038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担子里的肉已经卖完了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70800" y="297180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只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同“只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8686800" y="6477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46040" y="1557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途中两狼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缀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行甚远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屠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惧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投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以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3284640"/>
            <a:ext cx="61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路上遇到两只狼，紧随着走了很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5516640"/>
            <a:ext cx="61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屠户害怕了，拿起一块骨头扔过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126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hu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348000" y="2349360"/>
            <a:ext cx="1800360" cy="936720"/>
            <a:chOff x="3348000" y="2349360"/>
            <a:chExt cx="1800360" cy="936720"/>
          </a:xfrm>
        </p:grpSpPr>
        <p:sp>
          <p:nvSpPr>
            <p:cNvPr id="208" name=""/>
            <p:cNvSpPr/>
            <p:nvPr/>
          </p:nvSpPr>
          <p:spPr>
            <a:xfrm>
              <a:off x="3348000" y="2349360"/>
              <a:ext cx="1800360" cy="936720"/>
            </a:xfrm>
            <a:prstGeom prst="wedgeRoundRectCallout">
              <a:avLst>
                <a:gd name="adj1" fmla="val 879"/>
                <a:gd name="adj2" fmla="val -67796"/>
                <a:gd name="adj3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19640" y="242100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连结，这里是紧跟的意思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332000" y="5084640"/>
            <a:ext cx="1152360" cy="520560"/>
            <a:chOff x="1332000" y="5084640"/>
            <a:chExt cx="1152360" cy="520560"/>
          </a:xfrm>
        </p:grpSpPr>
        <p:sp>
          <p:nvSpPr>
            <p:cNvPr id="211" name=""/>
            <p:cNvSpPr/>
            <p:nvPr/>
          </p:nvSpPr>
          <p:spPr>
            <a:xfrm>
              <a:off x="1332000" y="5084640"/>
              <a:ext cx="1152360" cy="504000"/>
            </a:xfrm>
            <a:prstGeom prst="wedgeEllipseCallout">
              <a:avLst>
                <a:gd name="adj1" fmla="val -14736"/>
                <a:gd name="adj2" fmla="val -82106"/>
              </a:avLst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76360" y="5084640"/>
              <a:ext cx="93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害怕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03640" y="5013360"/>
            <a:ext cx="1152360" cy="520560"/>
            <a:chOff x="3203640" y="5013360"/>
            <a:chExt cx="1152360" cy="520560"/>
          </a:xfrm>
        </p:grpSpPr>
        <p:sp>
          <p:nvSpPr>
            <p:cNvPr id="214" name=""/>
            <p:cNvSpPr/>
            <p:nvPr/>
          </p:nvSpPr>
          <p:spPr>
            <a:xfrm>
              <a:off x="3203640" y="5013360"/>
              <a:ext cx="1152360" cy="504000"/>
            </a:xfrm>
            <a:prstGeom prst="wedgeEllipseCallout">
              <a:avLst>
                <a:gd name="adj1" fmla="val -14736"/>
                <a:gd name="adj2" fmla="val -82106"/>
              </a:avLst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8000" y="5013360"/>
              <a:ext cx="93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用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%E7%8B%BC.WAV"/>
      </p:stSnd>
    </p:sndAc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狼得骨止，一狼仍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从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复投之，后狼止而前狼又至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2276640"/>
            <a:ext cx="31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只狼得到骨头停下了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4221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后得到骨头的那只狼停下了，可是先得到骨头的那只狼又跟上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22050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跟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00720" y="27813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另一只狼仍然跟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414972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屠户又拿起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块骨头扔过去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%E7%8B%BC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已尽矣，而两狼之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并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驱如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故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屠大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窘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恐前后受其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敌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79680" y="2924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两只狼像原来一样一起追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恐怕前后一起受到狼的攻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骨头已经扔完了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" y="5029200"/>
            <a:ext cx="24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屠户非常紧张为难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89480" y="450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紧张为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5840" y="4437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胁迫，攻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44000" y="2276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一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708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原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%E7%8B%BC.WAV"/>
      </p:stSnd>
    </p:sndAc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顾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野有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麦场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场主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积薪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中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苫蔽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成丘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3141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看见野地里有一个打麦场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928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场主人把柴草堆在打麦场里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50133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覆盖成小山似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看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2720" y="2492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打麦子的场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720" y="2349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堆柴草（麦秸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108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覆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472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遮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181080" y="1600200"/>
            <a:ext cx="979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屠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乃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奔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倚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其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下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弛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担持刀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狼不敢前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眈眈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向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3068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屠户于是奔过去倚靠在柴草堆下面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4720" y="3141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放下担子拿起屠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501336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两只狼都不敢向前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78560" y="544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瞪眼朝着屠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79120" y="24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于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58280" y="249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00200" y="243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倚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2421000"/>
            <a:ext cx="11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代词，指柴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671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放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26000" y="508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注视的样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%E7%8B%BC.WAV"/>
      </p:stSnd>
    </p:sndAc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少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，一狼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径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去，其一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犬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坐于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久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之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目似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瞑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意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暇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甚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720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过了一会儿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5205240"/>
            <a:ext cx="25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神情悠闲得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2787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一只狼径直走开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7874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另一只狼像狗似的蹲坐在前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5205240"/>
            <a:ext cx="19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时间长了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52261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那只狼的眼睛似乎闭上了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一会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2006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径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201924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像狗那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43592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调解音节，没有实在含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闭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4365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神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51640" y="43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悠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43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非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%E7%8B%BC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屠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暴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起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以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刀劈狼首，又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数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刀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毙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362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突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2362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2362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449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杀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2895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屠户突然跳起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2720" y="2900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用刀劈狼的脑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24400" y="2895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又连砍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35880" y="5288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刀把狼杀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方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欲 行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转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视积薪后，一狼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洞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中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意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将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隧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以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攻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其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2205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正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205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转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860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打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860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企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51280" y="3860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钻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3860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攻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56360" y="39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他，指屠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2637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屠户正要上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32000" y="2637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到柴草堆后面一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0" y="22766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只见另一只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4508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在柴草堆里打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3280" y="450864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想要钻过去从背后对屠户进行攻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身已半入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止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露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尻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尾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屠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自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断其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股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亦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毙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2060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“只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06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屁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76360" y="45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1280" y="45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0000" y="465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杀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2565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狼的身子已经钻进一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80000" y="256536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只有屁股和尾巴露在外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50133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屠户从后面砍断了狼的后腿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2360" y="5013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也杀死（了）它（指狼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%E7%8B%BC.WAV"/>
      </p:stSnd>
    </p:sndAc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95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乃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悟前狼假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寐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盖以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诱敌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睡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0364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原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4036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3213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才明白前面的那只狼假装睡觉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48360" y="321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原来是用来诱惑敌方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狼亦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黠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矣，而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顷刻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两毙，禽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兽之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变诈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几何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哉？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止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笑耳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8000" y="2133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狡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会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35280" y="42926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作假，欺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43657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436572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同“只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2492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狼也是很狡猾了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2492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可是一会儿两只狼都被杀死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4941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禽兽的欺骗手段能有多少呢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51640" y="4869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只不过给人们增加笑料罢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宋体"/>
              </a:rPr>
              <a:t>词语解释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苫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顷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几何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95640" y="981000"/>
            <a:ext cx="626400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紧跟。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旧，原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困窘，处境危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敌对，这里是胁迫、攻击的意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覆盖、遮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闭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这里指神情、态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突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狡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一会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多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%E7%8B%BC.WAV"/>
      </p:stSnd>
    </p:sndAc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62640" y="112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通假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1640" y="907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止有剩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】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止”通“只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止增笑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】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止”通“只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7280" y="981000"/>
            <a:ext cx="287280" cy="935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54800" y="27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今异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禽兽之变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几何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古义：多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今义：一门学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27280" y="242100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81720" y="465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特殊句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43280" y="429264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投以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倒装句兼省略句，应为“以骨投    之”，意思是“把骨头扔给狼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2728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459640" y="62373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10017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  <a:path fill="darken" w="27032" h="21600">
                <a:moveTo>
                  <a:pt x="6509" y="3794"/>
                </a:moveTo>
                <a:lnTo>
                  <a:pt x="8172" y="3794"/>
                </a:lnTo>
                <a:lnTo>
                  <a:pt x="8172" y="17806"/>
                </a:lnTo>
                <a:lnTo>
                  <a:pt x="6509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0880" y="304812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屠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19320" y="3200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32004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32004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43800" y="3200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9520" y="549360"/>
            <a:ext cx="86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ff"/>
                </a:solidFill>
                <a:latin typeface="Times New Roman"/>
                <a:ea typeface="隶书"/>
              </a:rPr>
              <a:t>齐读课文，理清故事结构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16286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在下面的横线上填上一个动词，概括故事情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320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2004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32004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256536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2565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0" y="2492280"/>
            <a:ext cx="4500720" cy="2185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4500720" y="2492280"/>
            <a:ext cx="4643280" cy="28814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0" y="4670280"/>
            <a:ext cx="4500720" cy="2187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7" name="%E7%8B%BC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50840" y="5554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2362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1447920"/>
            <a:ext cx="48769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91983"/>
                </a:solidFill>
                <a:latin typeface="Arial"/>
                <a:ea typeface="华文中宋"/>
              </a:rPr>
              <a:t>屠夫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91983"/>
                </a:solidFill>
                <a:latin typeface="Arial"/>
                <a:ea typeface="华文中宋"/>
              </a:rPr>
              <a:t>狼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2590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机智、勇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69560" y="365760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凶恶、贪婪、狡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609480"/>
            <a:ext cx="2247840" cy="134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彩云"/>
              </a:rPr>
              <a:t>形象分析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%E7%8B%BC.WAV"/>
      </p:stSnd>
    </p:sndAc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cc00"/>
                </a:solidFill>
                <a:latin typeface="宋体"/>
                <a:ea typeface="宋体"/>
              </a:rPr>
              <a:t>形象塑造</a:t>
            </a:r>
            <a:endParaRPr b="1" i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缀行甚远”“并驱如故”等，表现了狼的贪婪和凶狠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狼不敢前，眈眈相向”“径去”“犬坐”“目似瞑，意暇甚”“洞其中”等，表现了狼的狡诈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惧”“投以骨”“复投之”等，表现了屠户的害怕心理和侥幸心理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顾”“奔倚”“驰”“持”等，表现了屠户丢掉幻想准备抵抗的决心和行动，也表现了他的机智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幼圆"/>
              </a:rPr>
              <a:t>暴起”“劈”“毙”“转视”“断”等，表现了屠夫的勇敢机智的斗争精神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>
            <a:hlinkClick r:id="rId6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7" name="%E7%8B%BC.WAV"/>
      </p:stSnd>
    </p:sndAc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09480" y="14176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本文的主旨就是最后一段作者的议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文章是以狼为主来叙事的，并从狼自取灭亡的角度来归结故事的主旨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这个故事也表现了屠户的机智勇敢和斗争精神，但决非故事主旨所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人们可以从中受到某些启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>
            <a:hlinkClick r:id="rId5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cc00"/>
                </a:solidFill>
                <a:latin typeface="幼圆"/>
                <a:ea typeface="幼圆"/>
              </a:rPr>
              <a:t>3. </a:t>
            </a:r>
            <a:r>
              <a:rPr b="0" i="1" lang="zh-CN" sz="4800" spc="-1" strike="noStrike">
                <a:solidFill>
                  <a:srgbClr val="ffcc00"/>
                </a:solidFill>
                <a:latin typeface="幼圆"/>
                <a:ea typeface="幼圆"/>
              </a:rPr>
              <a:t>怎样理解本文的中心？</a:t>
            </a:r>
            <a:endParaRPr b="1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%E7%8B%BC.WAV"/>
      </p:stSnd>
    </p:sndAc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11280" y="692280"/>
            <a:ext cx="770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面对象狼一样的恶势力，不要存有幻想，妥协让步，要敢于斗争，善于斗争，才能取得胜利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3573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这个故事讽喻像狼一样的恶人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论怎样狡诈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终归要失败的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88360" y="61657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9988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8143" y="3794"/>
                </a:lnTo>
                <a:lnTo>
                  <a:pt x="8143" y="17806"/>
                </a:lnTo>
                <a:lnTo>
                  <a:pt x="6481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Arial"/>
              <a:ea typeface="宋体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780000" y="18900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五、同进同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508464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狼虽然通常独自活动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但狼是最团结的动物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你不会发现哪只狼在同伴受伤时独自逃跑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448920" cy="7057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华文新魏"/>
              </a:rPr>
              <a:t>附录：检测</a:t>
            </a:r>
            <a:endParaRPr b="1" i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．《狼》节选自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________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中的《狼三则》，作者是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___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（朝代）著名文学家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1905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《聊斋志异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4083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5181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蒲松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cc00"/>
                </a:solidFill>
                <a:latin typeface="Arial"/>
                <a:ea typeface="华文新魏"/>
              </a:rPr>
              <a:t>2</a:t>
            </a:r>
            <a:r>
              <a:rPr b="1" i="1" lang="zh-CN" sz="5400" spc="-1" strike="noStrike">
                <a:solidFill>
                  <a:srgbClr val="ffcc00"/>
                </a:solidFill>
                <a:latin typeface="Arial"/>
                <a:ea typeface="华文新魏"/>
              </a:rPr>
              <a:t>、为划线字注音。</a:t>
            </a:r>
            <a:endParaRPr b="1" i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尻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假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眈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苫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暇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í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kā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è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xi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jiǒ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ān dā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shà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8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xi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1341360"/>
            <a:ext cx="7920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个世界上的角色有很多种，我是作为一个动物来到这个世界上的。在冥冥的安排之中，我并没有选择我自身属性的权利，这就是所谓的天注定。我生下来就注定会拥有足以切断猎物肌肉与骨骼的牙齿，也注定会拥有足以在猎物的身上留下致命伤口的爪子。这些与生俱来、无法更改的东西是我的徽章，也是我在这个世界上生存、奋斗的最原始资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32000" y="0"/>
            <a:ext cx="2667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的自白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92360" y="5218200"/>
            <a:ext cx="6479280" cy="1639080"/>
            <a:chOff x="1692360" y="5218200"/>
            <a:chExt cx="6479280" cy="1639080"/>
          </a:xfrm>
        </p:grpSpPr>
        <p:sp>
          <p:nvSpPr>
            <p:cNvPr id="105" name=""/>
            <p:cNvSpPr/>
            <p:nvPr/>
          </p:nvSpPr>
          <p:spPr>
            <a:xfrm>
              <a:off x="1692360" y="5486040"/>
              <a:ext cx="64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ffff"/>
                  </a:solidFill>
                  <a:latin typeface="Times New Roman"/>
                </a:rPr>
                <a:t>我就是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----</a:t>
              </a:r>
              <a:r>
                <a:rPr b="1" i="1" lang="zh-CN" sz="2800" spc="-1" strike="noStrike">
                  <a:solidFill>
                    <a:srgbClr val="ffffff"/>
                  </a:solidFill>
                  <a:latin typeface="Times New Roman"/>
                </a:rPr>
                <a:t>狼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898240" y="5218200"/>
              <a:ext cx="2273400" cy="163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  <p:sndAc>
      <p:stSnd>
        <p:snd r:embed="rId2" name="%E7%8B%BC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c00"/>
                </a:solidFill>
                <a:latin typeface="宋体"/>
                <a:ea typeface="华文新魏"/>
              </a:rPr>
              <a:t>3</a:t>
            </a:r>
            <a:r>
              <a:rPr b="1" i="1" lang="zh-CN" sz="4800" spc="-1" strike="noStrike">
                <a:solidFill>
                  <a:srgbClr val="ffcc00"/>
                </a:solidFill>
                <a:latin typeface="宋体"/>
                <a:ea typeface="华文新魏"/>
              </a:rPr>
              <a:t>、解释下列句中加线的词语。</a:t>
            </a:r>
            <a:endParaRPr b="1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新魏"/>
              </a:rPr>
              <a:t>本题中加线的词语，有的古今义不同（如“顾”），有的用法特殊（如“犬坐”“洞”“隧”），有的生僻难懂（如“苫蔽”“假寐”）。要理解这些词语的意思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1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） </a:t>
            </a:r>
            <a:r>
              <a:rPr b="1" i="1" lang="zh-CN" sz="4800" spc="-1" strike="noStrike" u="sng">
                <a:solidFill>
                  <a:srgbClr val="ffcc00"/>
                </a:solidFill>
                <a:uFillTx/>
                <a:latin typeface="华文新魏"/>
                <a:ea typeface="华文新魏"/>
              </a:rPr>
              <a:t>顾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野有麦场，场主积薪其中，</a:t>
            </a:r>
            <a:r>
              <a:rPr b="1" i="1" lang="zh-CN" sz="4800" spc="-1" strike="noStrike" u="sng">
                <a:solidFill>
                  <a:srgbClr val="ffcc00"/>
                </a:solidFill>
                <a:uFillTx/>
                <a:latin typeface="华文新魏"/>
                <a:ea typeface="华文新魏"/>
              </a:rPr>
              <a:t>苫蔽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成丘。</a:t>
            </a:r>
            <a:endParaRPr b="1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顾：回头看。          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苫：盖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蔽：遮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%E7%8B%BC.WAV"/>
      </p:stSnd>
    </p:sndAc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2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）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一狼</a:t>
            </a:r>
            <a:r>
              <a:rPr b="1" i="1" lang="zh-CN" sz="4400" spc="-1" strike="noStrike" u="sng">
                <a:solidFill>
                  <a:srgbClr val="ffcc00"/>
                </a:solidFill>
                <a:uFillTx/>
                <a:latin typeface="宋体"/>
                <a:ea typeface="宋体"/>
              </a:rPr>
              <a:t>径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去，其一</a:t>
            </a:r>
            <a:r>
              <a:rPr b="1" i="1" lang="zh-CN" sz="4400" spc="-1" strike="noStrike" u="sng">
                <a:solidFill>
                  <a:srgbClr val="ffcc00"/>
                </a:solidFill>
                <a:uFillTx/>
                <a:latin typeface="宋体"/>
                <a:ea typeface="宋体"/>
              </a:rPr>
              <a:t>犬坐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于前。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径：径直  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犬坐：像犬一样坐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%E7%8B%BC.WAV"/>
      </p:stSnd>
    </p:sndAc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3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）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转视积薪后，一狼</a:t>
            </a:r>
            <a:r>
              <a:rPr b="1" i="1" lang="zh-CN" sz="4400" spc="-1" strike="noStrike" u="sng">
                <a:solidFill>
                  <a:srgbClr val="ffcc00"/>
                </a:solidFill>
                <a:uFillTx/>
                <a:latin typeface="宋体"/>
                <a:ea typeface="宋体"/>
              </a:rPr>
              <a:t>洞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其中，意将</a:t>
            </a:r>
            <a:r>
              <a:rPr b="1" i="1" lang="zh-CN" sz="4400" spc="-1" strike="noStrike" u="sng">
                <a:solidFill>
                  <a:srgbClr val="ffcc00"/>
                </a:solidFill>
                <a:uFillTx/>
                <a:latin typeface="宋体"/>
                <a:ea typeface="宋体"/>
              </a:rPr>
              <a:t>隧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入以攻其后也。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洞：打洞。         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隧：从洞中，即钻洞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%E7%8B%BC.WAV"/>
      </p:stSnd>
    </p:sndAc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 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4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）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乃悟前狼</a:t>
            </a:r>
            <a:r>
              <a:rPr b="1" i="1" lang="zh-CN" sz="4400" spc="-1" strike="noStrike" u="sng">
                <a:solidFill>
                  <a:srgbClr val="ffcc00"/>
                </a:solidFill>
                <a:uFillTx/>
                <a:latin typeface="宋体"/>
                <a:ea typeface="宋体"/>
              </a:rPr>
              <a:t>假寐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，盖以诱敌。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假寐：假装睡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325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宋体"/>
              </a:rPr>
              <a:t>5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）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</a:rPr>
              <a:t>两狼之并驱如</a:t>
            </a:r>
            <a:r>
              <a:rPr b="1" i="1" lang="zh-CN" sz="4400" spc="-1" strike="noStrike" u="sng">
                <a:solidFill>
                  <a:srgbClr val="ffcc00"/>
                </a:solidFill>
                <a:uFillTx/>
                <a:latin typeface="宋体"/>
              </a:rPr>
              <a:t>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4383000"/>
            <a:ext cx="71629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故：原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%E7%8B%BC.WAV"/>
      </p:stSnd>
    </p:sndAc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5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）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  <a:ea typeface="宋体"/>
              </a:rPr>
              <a:t>两狼之并驱如</a:t>
            </a:r>
            <a:r>
              <a:rPr b="1" i="1" lang="zh-CN" sz="4400" spc="-1" strike="noStrike" u="sng">
                <a:solidFill>
                  <a:srgbClr val="ffcc00"/>
                </a:solidFill>
                <a:uFillTx/>
                <a:latin typeface="宋体"/>
                <a:ea typeface="宋体"/>
              </a:rPr>
              <a:t>故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故：原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063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i="1" lang="zh-CN" sz="4800" spc="-1" strike="noStrike">
                <a:solidFill>
                  <a:srgbClr val="ffcc00"/>
                </a:solidFill>
                <a:latin typeface="华文新魏"/>
                <a:ea typeface="华文新魏"/>
              </a:rPr>
              <a:t>）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</a:rPr>
              <a:t>一狼</a:t>
            </a:r>
            <a:r>
              <a:rPr b="1" i="1" lang="zh-CN" sz="4400" spc="-1" strike="noStrike" u="sng">
                <a:solidFill>
                  <a:srgbClr val="ffcc00"/>
                </a:solidFill>
                <a:uFillTx/>
                <a:latin typeface="宋体"/>
              </a:rPr>
              <a:t>洞</a:t>
            </a:r>
            <a:r>
              <a:rPr b="1" i="1" lang="zh-CN" sz="4400" spc="-1" strike="noStrike">
                <a:solidFill>
                  <a:srgbClr val="ffcc00"/>
                </a:solidFill>
                <a:latin typeface="宋体"/>
              </a:rPr>
              <a:t>其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4437000"/>
            <a:ext cx="4752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洞：打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宋体"/>
              </a:rPr>
              <a:t>5.</a:t>
            </a: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宋体"/>
              </a:rPr>
              <a:t>把下面的句子翻译成现代文。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）少时，一狼径去，其一犬坐于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）意将隧入以攻其后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47640" y="2421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过了一会儿，一只狼径直走开，另一只狼像狗似的蹲坐在前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19280" y="4724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想要钻过去从背后对屠户进行攻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从后面的情节发展看，“一狼径去”是为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_________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其一犬坐于前”“目似瞑，意暇甚”是为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_________ 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，表现了狼的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____ ___________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93440" y="2620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攻其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739320" y="3535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诱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12080" y="4373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变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．文段中最能表现屠户当机立断杀狼的描写的是（用原文）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66920" y="274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</a:rPr>
              <a:t>暴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cc00"/>
              </a:solidFill>
              <a:latin typeface="Arial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86104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0001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8156" y="3794"/>
                </a:lnTo>
                <a:lnTo>
                  <a:pt x="8156" y="17806"/>
                </a:lnTo>
                <a:lnTo>
                  <a:pt x="6494" y="17806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934320" y="1371600"/>
            <a:ext cx="187776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3640" y="177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亚欧大陆，北美洲等地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2492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残忍而机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3141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鹿类，羚羊，兔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3933720"/>
            <a:ext cx="20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3789360"/>
            <a:ext cx="39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灰色（这是我的保护色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548640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57340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嗅觉敏锐，听觉良好，极善奔跑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62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63a0"/>
                </a:solidFill>
                <a:latin typeface="Times New Roman"/>
              </a:rPr>
              <a:t>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443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63a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我是一只来自北方的狼</a:t>
            </a:r>
            <a:r>
              <a:rPr b="1" lang="en-US" sz="2400" spc="-1" strike="noStrike">
                <a:solidFill>
                  <a:srgbClr val="2663a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5084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63a0"/>
                </a:solidFill>
                <a:latin typeface="Times New Roman"/>
              </a:rPr>
              <a:t>《 </a:t>
            </a: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怀念狼</a:t>
            </a:r>
            <a:r>
              <a:rPr b="1" lang="en-US" sz="2400" spc="-1" strike="noStrike">
                <a:solidFill>
                  <a:srgbClr val="2663a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2663a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狼图腾</a:t>
            </a:r>
            <a:r>
              <a:rPr b="1" lang="en-US" sz="2400" spc="-1" strike="noStrike">
                <a:solidFill>
                  <a:srgbClr val="2663a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1125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63a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－－</a:t>
            </a:r>
            <a:r>
              <a:rPr b="1" lang="en-US" sz="2400" spc="-1" strike="noStrike">
                <a:solidFill>
                  <a:srgbClr val="2663a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0" y="22860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4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幼圆"/>
              </a:rPr>
              <a:t>我的档案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幼圆"/>
              <a:ea typeface="幼圆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260280"/>
            <a:ext cx="32403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姓名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龄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庭住址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的性格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最喜欢的食物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最喜欢的颜色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最喜欢听的歌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最喜欢看的书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的特长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%E7%8B%BC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 rot="5400000">
            <a:off x="4990680" y="2933640"/>
            <a:ext cx="510552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课外拓展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7" name=""/>
          <p:cNvSpPr/>
          <p:nvPr/>
        </p:nvSpPr>
        <p:spPr>
          <a:xfrm>
            <a:off x="990720" y="990720"/>
            <a:ext cx="23619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2806"/>
                </a:solidFill>
                <a:latin typeface="Times New Roman"/>
                <a:ea typeface="华文新魏"/>
              </a:rPr>
              <a:t>《</a:t>
            </a:r>
            <a:r>
              <a:rPr b="1" lang="zh-CN" sz="5400" spc="-1" strike="noStrike">
                <a:solidFill>
                  <a:srgbClr val="d22806"/>
                </a:solidFill>
                <a:latin typeface="Times New Roman"/>
                <a:ea typeface="华文新魏"/>
              </a:rPr>
              <a:t>狼</a:t>
            </a:r>
            <a:r>
              <a:rPr b="1" lang="en-US" sz="5400" spc="-1" strike="noStrike">
                <a:solidFill>
                  <a:srgbClr val="d22806"/>
                </a:solidFill>
                <a:latin typeface="Times New Roman"/>
                <a:ea typeface="华文新魏"/>
              </a:rPr>
              <a:t>》</a:t>
            </a:r>
            <a:r>
              <a:rPr b="1" lang="zh-CN" sz="5400" spc="-1" strike="noStrike">
                <a:solidFill>
                  <a:srgbClr val="d22806"/>
                </a:solidFill>
                <a:latin typeface="Times New Roman"/>
                <a:ea typeface="华文新魏"/>
              </a:rPr>
              <a:t>三则之一、三阅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3124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62120" y="533520"/>
            <a:ext cx="807696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狼三则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的第一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屠人货（卖）肉归，日已暮，一狼来，瞰（窥视）担上肉，似甚垂涎，随屠尾行数里。屠惧，示之以刃，少却（退）；及走，又从之。屠思狼所欲者肉，不如悬诸（相当于“之乎”）树而早取之。遂钩肉，翘足挂树间，示以空担。狼乃止。屠归。昧爽往取肉，遥望树上悬巨物，似人缢死状，大骇。逡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qūn xú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有所顾虑而徘徊）近视，则死狼也。仰首细审，见狼口中含肉，钩刺狼腭，如鱼吞饵。时狼皮价昂，直十余金，屠小裕焉。缘木求鱼，狼则罹之，是可笑也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762120" y="76212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狼三则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的第三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屠暮行，为狼所逼。道旁有夜耕者所遗行室，奔入伏焉。狼自苫中探爪入。屠急捉之，令不可去。但思无计可以死之。惟有小刀不盈寸，遂割破爪下皮，以吹豕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ｓ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猪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法吹之。极力吹移时，觉狼不甚动，方缚以带。出视，则狼胀如牛，股直不能屈，口张不得合。遂负之以归。非屠，乌能作此谋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三事皆出于屠；则屠人之残，杀狼亦可用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" descr="41.gif (921 bytes)"/>
          <p:cNvPicPr/>
          <p:nvPr/>
        </p:nvPicPr>
        <p:blipFill>
          <a:blip r:embed="rId2"/>
          <a:stretch/>
        </p:blipFill>
        <p:spPr>
          <a:xfrm>
            <a:off x="7848720" y="6149880"/>
            <a:ext cx="871560" cy="4032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宋体"/>
              </a:rPr>
              <a:t>这三则故事有哪些相同点与不同点，这三则共同告诉了我们一个什么道理？</a:t>
            </a:r>
            <a:endParaRPr b="1" i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"/>
              </a:rPr>
              <a:t>共同道理：人有狼没有的智慧、勇气和力量，人能战胜狼，战胜像狼一样的恶势力。对待像狼一样的恶人，必须敢于斗争，善于斗争，做一个机智勇敢的人，才能取得胜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5640" y="206064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相同点：都是写屠户遇狼杀狼的故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同点：遇狼的情况不同，杀狼的方法不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7" dur="2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3429000"/>
            <a:ext cx="83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有关我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成语、歇后语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都是贬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63640" y="981000"/>
            <a:ext cx="345600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我的烦恼：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6666ff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4370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中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谚语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中我的形象也不佳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故事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中的我总是扮演反面角色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%E7%8B%BC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4000" cy="388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500720" cy="381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44000" y="5013360"/>
            <a:ext cx="531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请列举几个带”狼”字的成语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%E7%8B%BC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1:08:25Z</dcterms:created>
  <dc:creator>张璇</dc:creator>
  <dc:description/>
  <dc:language>en-US</dc:language>
  <cp:lastModifiedBy>微软用户</cp:lastModifiedBy>
  <dcterms:modified xsi:type="dcterms:W3CDTF">2012-12-24T00:10:53Z</dcterms:modified>
  <cp:revision>398</cp:revision>
  <dc:subject/>
  <dc:title>《狼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