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type.wav" ContentType="audio/x-wav"/>
  <Override PartName="/ppt/media/image6.jpeg" ContentType="image/jpeg"/>
  <Override PartName="/ppt/media/laser.wav" ContentType="audio/x-wav"/>
  <Override PartName="/ppt/media/image1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27.jpeg" ContentType="image/jpeg"/>
  <Override PartName="/ppt/media/glass.wav" ContentType="audio/x-wav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drumroll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8.jpeg" ContentType="image/jpeg"/>
  <Override PartName="/ppt/media/whoosh.wav" ContentType="audio/x-wav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C70B-DA1D-4DE9-9995-6B8EC5F9D8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nhyz.org/dengxl/index.htm" TargetMode="External"/><Relationship Id="rId2" Type="http://schemas.openxmlformats.org/officeDocument/2006/relationships/hyperlink" Target="http://www.nhyz.org/dengxl/index.htm" TargetMode="External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承天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承天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承天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0000"/>
                </a:solidFill>
                <a:latin typeface="Times New Roman"/>
              </a:rPr>
              <a:t>郦道元——中国最早的地理学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个古代做官的人，到各地游历时，用心考察各地山川河流，写出了一部流芳百世的书——《水经注》，成为中国古代著名的地理学家。这个人就是南北朝北魏时期的郦道元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约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66—527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郦道元出生在河北省涿县一个官宦世家，少年时代就喜爱游览。后来他做了官，就到各地游历，每到一地除参观名胜古迹外，还用心勘察水流地势，了解沿岸地理、地貌、土壤、气候，人民的生产生活，地域的变迁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他发现古代的地理书——《水经》，对大小河流的来龙去脉缺乏准确记载；由于时代更替，城邑兴衰，有些河流改道，名称也变了，但书上却未加以补充和说明。郦道元决心亲自给《水经》作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了写《水经注》，他阅读有关书籍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多种，查阅了所有地图，研究了大量文物资料，还亲自到实地考察，核实书上的记载。那时候，交通不便，路途险峻，但他不畏艰难，跋山涉水，考察各地的山水草木和岩洞、土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《水经》原来记载的大小河流有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37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条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万多字，经过郦道元注释以后，大小河流增加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5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条，共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多万字，比原著增加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倍。书中记述了各条河流的发源与流向，各流域的自然地理和经济地理状况，以及火山、温泉、水利工程等。这部书文字优美生动，也可以说是一部文学著作。由于《水经注》在中国科学文化发展史上的巨大价值，历代许多学者专门对它进行研究，形成一门“郦学”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郦道元为官清廉，执法严明，因此遭到朝廷权贵的忌恨，他们怂恿朝廷派郦道元到发生叛乱的地方当关右大使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27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年，郦道元在赴任途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和他的弟弟及两个儿子一起，被叛将萧宝夤杀害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&gt;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BF5-2C6B-4896-BCA3-FB2D2D4C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217-D719-4099-BE63-4B278A8C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8AB-B495-4F26-8822-1AA02734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B8E-FC7F-460B-A1C5-ADCB2BB8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942-34CE-4024-94F4-1180ABD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E22-1DFB-479E-8B9A-4B23FA9A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376-18CE-42EB-A24B-F1BFA531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16E-1262-4365-BE55-0E1C47E6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56C-BAF6-40AE-90FC-274AE657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E41-B62A-4B58-9525-994F2F2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726-C72C-4C0A-828E-0957D4F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546-2867-4C50-A4B3-436CA49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AF8D-4D4F-406E-A336-4FF11DC635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楷体"/>
              </a:rPr>
              <a:t>你知道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郦道元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时期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家，散文         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家。他撰写的《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》不仅是一部具有重大科学价值的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而且也是一部颇具特色的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长江三峡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峡、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峡、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峡的总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1200" y="198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北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54720" y="19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地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2560" y="2590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水经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89360" y="3200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地理巨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65680" y="3809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山水游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00320" y="4572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瞿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1320" y="458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2840" y="458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西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609480"/>
            <a:ext cx="8305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春冬之时，则素湍绿潭，回清倒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286000"/>
            <a:ext cx="792468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：季节     则：连词，不译。 素：白色    湍：急流的水                              潭：潭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983040"/>
            <a:ext cx="8610480" cy="229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春冬季节，白色的急流，回旋着清波；碧绿的潭水，映出了（山石林木的）倒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素湍绿潭，回清倒影——素湍回清，绿潭倒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25360"/>
            <a:ext cx="9325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绝献（加山旁）多生怪柏，悬泉瀑布，飞漱其间，清荣峻茂，良多趣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97360"/>
            <a:ext cx="9372600" cy="132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绝：极 （山献）：山峰   悬：悬挂      漱：冲荡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：的确         清荣峻茂：水清、树茂、山峻、草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53000"/>
            <a:ext cx="932508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极高的山峰上长着许多奇形怪状的古柏，悬挂着的泉水瀑布，从它们中间飞泻、冲荡下来，水清、树茂、山高、草盛，实在是趣味无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2286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65284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春冬景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2205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素湍绿潭，回清倒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2133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俯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819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绝（山献）多生怪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飞漱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7273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仰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429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色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429000"/>
            <a:ext cx="45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浪、绿潭、青山、花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038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一字一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076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、荣、峻、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层急转之下，文气由上一层的紧张激烈变得轻松晓畅，向人们展示了一幅有动有静，色彩斑谰的山水画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33440" y="762120"/>
            <a:ext cx="6477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至晴初霜旦，林寒涧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：刚刚         旦：早晨           涧：山涧    肃：寂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114800"/>
            <a:ext cx="8381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每逢秋雨初晴或降霜的早晨，树林山涧里一片清冷寂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514600" cy="2414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60199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常有高猿长啸，属引凄异，空谷传响，哀转久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590920"/>
            <a:ext cx="8915400" cy="116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属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ǔ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连续              引：延长                 响：回声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通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同“啭”声音曲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43400"/>
            <a:ext cx="89154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常有一些高处的猿猴拉长了声音在叫，叫声连续不断，音调凄凉怪异，空荡的山谷里传来回声，悲哀婉转，很长时间才消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5280" y="1628640"/>
            <a:ext cx="8153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渔者歌曰：“巴东三峡巫峡长，猿鸣三声泪沾裳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573360"/>
            <a:ext cx="81532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：所以     三声：几声，这里的三字是泛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4797360"/>
            <a:ext cx="83059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所以打渔的人唱道：“巴东三峡巫峡长，猿鸣三声泪沾裳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22860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3716280"/>
            <a:ext cx="12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秋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284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峡秋景：悲寂、凄凉（对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4292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地渔歌：渔民船夫的悲惨生活                （联想）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层和上一层欢快明朗的气氛形成了鲜明的对照。到处笼罩着悲寂、凄凉的气氛。用渔歌作结，“泪沾裳”把自然景物与人的思想感情融为一体，侧面表现了三峡渔民船夫的悲惨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4360" y="5877000"/>
            <a:ext cx="878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5373720"/>
            <a:ext cx="8640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下面有几幅画，请你给它们配上恰当的词语（用文中的语句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72000" y="177336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重岩叠嶂隐天蔽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6680" y="6338880"/>
            <a:ext cx="93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16360" y="3933720"/>
            <a:ext cx="2016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壮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88000" y="5013360"/>
            <a:ext cx="25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奔放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1700280"/>
            <a:ext cx="2592720" cy="2016000"/>
          </a:xfrm>
          <a:prstGeom prst="rightArrowCallout">
            <a:avLst>
              <a:gd name="adj1" fmla="val 25002"/>
              <a:gd name="adj2" fmla="val 25000"/>
              <a:gd name="adj3" fmla="val 21435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2421000"/>
            <a:ext cx="3384720" cy="2520720"/>
          </a:xfrm>
          <a:prstGeom prst="rightArrowCallout">
            <a:avLst>
              <a:gd name="adj1" fmla="val 25002"/>
              <a:gd name="adj2" fmla="val 25000"/>
              <a:gd name="adj3" fmla="val 22379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149720"/>
            <a:ext cx="3887640" cy="2160720"/>
          </a:xfrm>
          <a:prstGeom prst="rightArrowCallout">
            <a:avLst>
              <a:gd name="adj1" fmla="val 25002"/>
              <a:gd name="adj2" fmla="val 25000"/>
              <a:gd name="adj3" fmla="val 29987"/>
              <a:gd name="adj4" fmla="val 66667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夏水襄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沿溯阻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9640" y="2637000"/>
            <a:ext cx="226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多生怪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20643" t="0" r="0" b="22227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95640" y="2060640"/>
            <a:ext cx="2376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悬泉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飞漱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4437000"/>
            <a:ext cx="194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奇特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312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076720" y="4005360"/>
            <a:ext cx="181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清幽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9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素湍绿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404640"/>
            <a:ext cx="234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林寒涧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高猿长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0" t="0" r="54173" b="0"/>
          <a:stretch/>
        </p:blipFill>
        <p:spPr>
          <a:xfrm>
            <a:off x="0" y="1981080"/>
            <a:ext cx="3419640" cy="4876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81080" y="2819520"/>
            <a:ext cx="2514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16720" y="4869000"/>
            <a:ext cx="195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凄婉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8000" y="54936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峡之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------</a:t>
            </a:r>
            <a:r>
              <a:rPr b="1" lang="zh-CN" sz="5400" spc="-1" strike="noStrike">
                <a:solidFill>
                  <a:srgbClr val="000080"/>
                </a:solidFill>
                <a:latin typeface="Times New Roman"/>
                <a:ea typeface="华文中宋"/>
              </a:rPr>
              <a:t>瞿塘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1413000"/>
            <a:ext cx="475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瞿塘峡雄踞长江三峡之首，西起白帝城，东至巫山大溪镇，全长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公里，以其雄伟壮观而著称。瞿塘峡锁全川水的险要气势。 瞿塘峡在三峡中虽然最短，却是一幅神奇的自然画卷和文化艺术走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72360" y="0"/>
            <a:ext cx="914400" cy="8571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0" y="692280"/>
            <a:ext cx="1763640" cy="2809440"/>
            <a:chOff x="0" y="692280"/>
            <a:chExt cx="1763640" cy="28094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0" y="692280"/>
              <a:ext cx="1763640" cy="280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20320" y="1249560"/>
              <a:ext cx="1348560" cy="502920"/>
              <a:chOff x="220320" y="1249560"/>
              <a:chExt cx="1348560" cy="502920"/>
            </a:xfrm>
          </p:grpSpPr>
          <p:sp>
            <p:nvSpPr>
              <p:cNvPr id="64" name=""/>
              <p:cNvSpPr/>
              <p:nvPr/>
            </p:nvSpPr>
            <p:spPr>
              <a:xfrm>
                <a:off x="220320" y="1249560"/>
                <a:ext cx="13485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0320" y="1249560"/>
                <a:ext cx="13485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7093080" y="3573360"/>
            <a:ext cx="1806480" cy="3095280"/>
            <a:chOff x="7093080" y="3573360"/>
            <a:chExt cx="1806480" cy="309528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7093080" y="3573360"/>
              <a:ext cx="1806480" cy="30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765920" y="5025240"/>
              <a:ext cx="184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093080" y="765000"/>
            <a:ext cx="1800000" cy="2880000"/>
            <a:chOff x="7093080" y="765000"/>
            <a:chExt cx="1800000" cy="2880000"/>
          </a:xfrm>
        </p:grpSpPr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7093080" y="765000"/>
              <a:ext cx="1800000" cy="288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7283520" y="1671480"/>
              <a:ext cx="1389240" cy="266760"/>
              <a:chOff x="7283520" y="1671480"/>
              <a:chExt cx="1389240" cy="266760"/>
            </a:xfrm>
          </p:grpSpPr>
          <p:sp>
            <p:nvSpPr>
              <p:cNvPr id="72" name=""/>
              <p:cNvSpPr/>
              <p:nvPr/>
            </p:nvSpPr>
            <p:spPr>
              <a:xfrm>
                <a:off x="7283520" y="1671480"/>
                <a:ext cx="138924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83520" y="1671480"/>
                <a:ext cx="138924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0" y="3500280"/>
            <a:ext cx="17874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a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819720" y="1752480"/>
            <a:ext cx="1826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01016"/>
                </a:solidFill>
                <a:latin typeface="Times New Roman"/>
              </a:rPr>
              <a:t>三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907920"/>
            <a:ext cx="609840" cy="3124440"/>
          </a:xfrm>
          <a:custGeom>
            <a:avLst/>
            <a:gdLst>
              <a:gd name="textAreaLeft" fmla="*/ 389520 w 609840"/>
              <a:gd name="textAreaRight" fmla="*/ 610200 w 60984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94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1016"/>
                </a:solidFill>
                <a:latin typeface="Times New Roman"/>
              </a:rPr>
              <a:t>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76360" y="35002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1016"/>
                </a:solidFill>
                <a:latin typeface="Times New Roman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620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连绵、高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2276640"/>
            <a:ext cx="381240" cy="3276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17733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1016"/>
                </a:solidFill>
                <a:latin typeface="Times New Roman"/>
              </a:rPr>
              <a:t>夏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57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</a:rPr>
              <a:t>春冬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5157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1016"/>
                </a:solidFill>
                <a:latin typeface="Times New Roman"/>
              </a:rPr>
              <a:t>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1557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大水猛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133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江流湍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32846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素湍绿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386064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清荣峻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013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林寒涧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5734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哀猿凄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1844640"/>
            <a:ext cx="8839440" cy="375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先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七百里山势——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（山高江窄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接着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夏水迅猛——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（江水暴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继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春冬美景——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（风平浪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末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寒秋肃杀——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（水枯谷空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28600" y="3421080"/>
            <a:ext cx="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文章的思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8520" y="1849320"/>
            <a:ext cx="90154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描写动静结合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全文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———静，文气平静舒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夏水——动，文气激烈紧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冬景色——静中微动，文气轻松晓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萧瑟之秋——文气沉重、弛缓、凄清、悲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二：写作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76240" y="1981080"/>
            <a:ext cx="7391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部分看：第三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素湍、回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绿潭、倒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生怪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悬泉瀑布、飞漱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2708280"/>
            <a:ext cx="84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36450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458136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54450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总结二：写作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112536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描写动静结合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2057400"/>
            <a:ext cx="9144000" cy="354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互文——两个（三个）语句内容相互揉杂，彼此隐含，理解时，要上下文应并成一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重岩叠嶂——重叠岩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隐天蔽日——隐蔽天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林寒涧肃——林涧寒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秦时明月汉时关——秦汉时的明月和关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结三：修辞——互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1197000"/>
            <a:ext cx="8147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写三峡四时风光，为什么从“山”写起？写水，为什么不按春夏秋冬的顺序来写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13000"/>
            <a:ext cx="81774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”峡”的意思就是两山夹水的地方，有山才有“峡”，所以从山写起。三峡的水又是最有特色的，所以接着写水。写水先写夏水，后写春冬之水。因为夏水最盛，最为凶险，迅疾，最有特点。最后写三峡之秋的悲凉气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后练习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后练习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释下列字词的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峡七百里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亭午夜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沿溯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哀转久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山献）多生怪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御风不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王命急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飞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至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夏水襄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属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凄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清荣峻茂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趣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19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676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200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极（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73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使；奔驰的马；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如）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4495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冲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5562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续不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确，实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峡的诗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848360" cy="28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赋  长江三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唐 白居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瞿塘峡口水烟低，白帝城头月向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唱到竹枝声咽处，寒猿喑鸟一时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60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外延伸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峡的诗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327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瞿唐峡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 张问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峡两蒙蒙竟日闲，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扁舟珍落画图间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便将万管玲珑笔，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难写瞿唐两岸山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260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外延伸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峡的诗（三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47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峡次巴东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唐 白居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巫山暮足沾花雨，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陇水春多逆浪风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片红旗数声鼓，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使君艛艓上巴东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60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外延伸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幽深秀丽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------</a:t>
            </a:r>
            <a:r>
              <a:rPr b="1" lang="zh-CN" sz="5400" spc="-1" strike="noStrike">
                <a:solidFill>
                  <a:srgbClr val="000080"/>
                </a:solidFill>
                <a:latin typeface="Times New Roman"/>
                <a:ea typeface="华文中宋"/>
              </a:rPr>
              <a:t>巫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33520"/>
            <a:ext cx="914400" cy="857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170028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巫峡自巫山县城东大宁河起，至巴东县官渡口止，全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，有大峡之称，以幽深秀丽称奇于天下。巫峡两岸群峰，以十二峰为奇，它们各具特色，尤以神女峰最为纤丽奇俏。 “秀峰岂止十二座，更有零星百万峰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172200" y="1628640"/>
            <a:ext cx="2720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峡的诗（四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早发白帝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唐 李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朝辞白帝彩云间，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千里江陵一日还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两岸猿声啼不住，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轻舟已过万重山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260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外延伸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峡的诗（五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543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三峡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宋 陆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)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十二巫山见九峰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船头彩翠满秋空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朝云暮雨浑虚雨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夜猿啼明月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260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外延伸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333600" cy="2190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2457720" cy="3333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508720" y="4437000"/>
            <a:ext cx="3333600" cy="2210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651640" y="189000"/>
            <a:ext cx="3333600" cy="2247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132000" y="2565360"/>
            <a:ext cx="333396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500720" y="260280"/>
            <a:ext cx="64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今日三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40000" y="62064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滩多水急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------</a:t>
            </a:r>
            <a:r>
              <a:rPr b="1" lang="zh-CN" sz="5400" spc="-1" strike="noStrike">
                <a:solidFill>
                  <a:srgbClr val="000080"/>
                </a:solidFill>
                <a:latin typeface="Times New Roman"/>
                <a:ea typeface="华文中宋"/>
              </a:rPr>
              <a:t>西陵峡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1844640"/>
            <a:ext cx="5334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西陵峡滩多流急，以“险”出名，以“奇”著称，“奇”、“险”化为西陵峡的壮美。整个峡区都是高山、峡谷、险滩、暗礁。峡中有峡、滩中有滩，大滩含小滩，自古三峡船夫世世代代在此与险滩激流相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33520"/>
            <a:ext cx="91440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9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47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"/>
              </a:rPr>
              <a:t>你会读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处      重岩叠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陵　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风     沿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素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啸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引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　　 飞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47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qu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447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zhà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x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1447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xiā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2743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s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743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tuā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743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yǎ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038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xià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038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zh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4038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743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3434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1148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</a:rPr>
              <a:t>sh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三               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郦道元——字善长，北魏人，地理学家，散文家。著有《水经注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72148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60948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自三峡七百里中，两岸连山，略无阙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676520"/>
            <a:ext cx="4511520" cy="1556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：在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略无：完全没有。略：完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阙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通假字，同“缺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609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重岩叠嶂，                         隐天蔽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692280"/>
            <a:ext cx="6248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非亭午夜分，不见曦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057400"/>
            <a:ext cx="754380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：如果        非：不是      亭午：正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分：半夜      曦：早晨的阳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0840" y="4640400"/>
            <a:ext cx="667872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句子的正确理解：自非亭午，不见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非夜分，不见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除非正午，看不见太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除非半夜，看不见月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828800"/>
            <a:ext cx="70956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13716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百里  ———————  山长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18446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略无阙处 ——————  山多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38284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、叠、隐藏—————山陡、高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6864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非——侧面写山高峻， 暗示江面狭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铺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夏水的迅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层：写三峡两岸的山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1600" y="1066680"/>
            <a:ext cx="60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至于夏水襄陵，沿溯阻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133720"/>
            <a:ext cx="5333760" cy="1818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于：到了       襄：上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陵：山陵            沿：顺流而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溯：逆流而上     绝：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648320"/>
            <a:ext cx="67820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到了夏天，江水暴涨，漫上两岸的山陵，上下航行的船都阻隔断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427640" y="342900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105264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或王命急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有时朝发白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暮到江陵，其间千二百里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虽乘奔御风，不以疾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048120"/>
            <a:ext cx="9144000" cy="132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：如有              宣：宣布                   虽：即使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奔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动词用作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奔驰的骏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14760"/>
            <a:ext cx="911232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如有皇帝的命令要紧急传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有时早上从白帝城出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即使是骑着奔驰的骏马，驾着长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不如船行得快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754200"/>
            <a:ext cx="7010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05740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襄陵、阻绝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发白帝、暮到江陵、千二百里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虽乘奔御风，不以疾也————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514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夏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4000" y="198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凶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96080" y="2666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迅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3357720"/>
            <a:ext cx="11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7846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层写水，顺上层山势的高峻，江面的狭窄之势先写最盛的夏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2:25:20Z</dcterms:created>
  <dc:creator>xlc</dc:creator>
  <dc:description/>
  <dc:language>en-US</dc:language>
  <cp:lastModifiedBy>微软用户</cp:lastModifiedBy>
  <dcterms:modified xsi:type="dcterms:W3CDTF">2012-11-22T23:32:38Z</dcterms:modified>
  <cp:revision>23</cp:revision>
  <dc:subject/>
  <dc:title> 三                      峡</dc:title>
</cp:coreProperties>
</file>