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68A-90D3-414E-B0FC-D5B537C2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AA4-8EEA-4719-BE38-285B8434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8B0-241A-4DD9-A560-99BBE9FD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E7B-8D50-4772-9F74-58847F6B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AA6-05E8-4A6A-AD4E-20709C6F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5D1-14DA-4F62-A4FA-CACA2828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C08-2CA3-42F9-904D-51272714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031-79D0-4997-93D4-725C80F6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882-BC8C-4107-8EFF-A546EA01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396-1BE8-4793-8FAE-871A1547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6A1-F430-44D8-B802-E8528013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6D7-E482-4AD1-87EE-161643DC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87A4-F454-49C0-84F5-F2A67E268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866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复习测试．如图，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一点，分别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垂线，垂足分别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EF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F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E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32702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52280"/>
            <a:ext cx="8991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如图，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相交于点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且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求证：∠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4480" y="2191320"/>
            <a:ext cx="3555720" cy="2543760"/>
            <a:chOff x="384480" y="2191320"/>
            <a:chExt cx="3555720" cy="2543760"/>
          </a:xfrm>
        </p:grpSpPr>
        <p:sp>
          <p:nvSpPr>
            <p:cNvPr id="103" name=""/>
            <p:cNvSpPr/>
            <p:nvPr/>
          </p:nvSpPr>
          <p:spPr>
            <a:xfrm flipH="1">
              <a:off x="608040" y="2581920"/>
              <a:ext cx="858960" cy="179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67360" y="2581920"/>
              <a:ext cx="2455560" cy="179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07680" y="2581920"/>
              <a:ext cx="2455560" cy="179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63600" y="2581920"/>
              <a:ext cx="858960" cy="179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0880" y="4323240"/>
              <a:ext cx="229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52720" y="219132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5800" y="27046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6560" y="2202480"/>
              <a:ext cx="229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4480" y="4300920"/>
              <a:ext cx="229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52280"/>
            <a:ext cx="8991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如图，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E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F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O=DO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EO=FO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求证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O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2209680"/>
            <a:ext cx="4419720" cy="2928600"/>
            <a:chOff x="228600" y="2209680"/>
            <a:chExt cx="4419720" cy="2928600"/>
          </a:xfrm>
        </p:grpSpPr>
        <p:sp>
          <p:nvSpPr>
            <p:cNvPr id="114" name=""/>
            <p:cNvSpPr/>
            <p:nvPr/>
          </p:nvSpPr>
          <p:spPr>
            <a:xfrm>
              <a:off x="762120" y="259092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7400" y="48006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761760" y="2590920"/>
              <a:ext cx="335268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057040" y="2590920"/>
              <a:ext cx="76212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599840" y="2590920"/>
              <a:ext cx="12193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057040" y="4191120"/>
              <a:ext cx="12193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495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43434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040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52480" y="34290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29718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9520" y="2286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3124080"/>
            <a:ext cx="3733560" cy="2865240"/>
            <a:chOff x="0" y="3124080"/>
            <a:chExt cx="3733560" cy="2865240"/>
          </a:xfrm>
        </p:grpSpPr>
        <p:sp>
          <p:nvSpPr>
            <p:cNvPr id="128" name=""/>
            <p:cNvSpPr/>
            <p:nvPr/>
          </p:nvSpPr>
          <p:spPr>
            <a:xfrm>
              <a:off x="533160" y="525780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33160" y="3390480"/>
              <a:ext cx="1955880" cy="186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9120" y="4190760"/>
              <a:ext cx="711000" cy="26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33160" y="3924000"/>
              <a:ext cx="3200400" cy="13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044440" y="4457520"/>
              <a:ext cx="355680" cy="79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955880" y="3835080"/>
              <a:ext cx="444240" cy="62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00120" y="4457520"/>
              <a:ext cx="0" cy="79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813200"/>
              <a:ext cx="71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77760" y="365724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10920" y="516888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22640" y="5346720"/>
              <a:ext cx="71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0200" y="3124080"/>
              <a:ext cx="71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77960" y="419076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2"/>
          <p:cNvSpPr/>
          <p:nvPr/>
        </p:nvSpPr>
        <p:spPr>
          <a:xfrm>
            <a:off x="0" y="152280"/>
            <a:ext cx="8991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如图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O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O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B,PD⊥OA,PE⊥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E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4479" t="31846" r="73763" b="16418"/>
          <a:stretch/>
        </p:blipFill>
        <p:spPr>
          <a:xfrm>
            <a:off x="457200" y="2286000"/>
            <a:ext cx="3454560" cy="3962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4479" t="5310" r="36640" b="66838"/>
          <a:stretch/>
        </p:blipFill>
        <p:spPr>
          <a:xfrm>
            <a:off x="0" y="0"/>
            <a:ext cx="9144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6372360" y="155736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663560" y="1981080"/>
            <a:ext cx="628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探索三角形全等的条件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04920" y="144792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直尺和圆规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7200" y="609480"/>
            <a:ext cx="3672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一、自主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3"/>
          <p:cNvSpPr/>
          <p:nvPr/>
        </p:nvSpPr>
        <p:spPr>
          <a:xfrm>
            <a:off x="1693440" y="76320"/>
            <a:ext cx="40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探索三角形全等的条件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838080" y="1371600"/>
            <a:ext cx="7632720" cy="115236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边分别相等的两个三角形全等（可以简写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边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1"/>
          <p:cNvGrpSpPr/>
          <p:nvPr/>
        </p:nvGrpSpPr>
        <p:grpSpPr>
          <a:xfrm>
            <a:off x="130320" y="2421000"/>
            <a:ext cx="3504240" cy="3783960"/>
            <a:chOff x="130320" y="2421000"/>
            <a:chExt cx="3504240" cy="3783960"/>
          </a:xfrm>
        </p:grpSpPr>
        <p:grpSp>
          <p:nvGrpSpPr>
            <p:cNvPr id="50" name="Group 6"/>
            <p:cNvGrpSpPr/>
            <p:nvPr/>
          </p:nvGrpSpPr>
          <p:grpSpPr>
            <a:xfrm>
              <a:off x="130320" y="2421000"/>
              <a:ext cx="3351960" cy="1983600"/>
              <a:chOff x="130320" y="2421000"/>
              <a:chExt cx="3351960" cy="1983600"/>
            </a:xfrm>
          </p:grpSpPr>
          <p:sp>
            <p:nvSpPr>
              <p:cNvPr id="51" name="Line 7"/>
              <p:cNvSpPr/>
              <p:nvPr/>
            </p:nvSpPr>
            <p:spPr>
              <a:xfrm flipH="1">
                <a:off x="663480" y="2801880"/>
                <a:ext cx="68544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>
                <a:off x="663480" y="4021200"/>
                <a:ext cx="236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9"/>
              <p:cNvSpPr/>
              <p:nvPr/>
            </p:nvSpPr>
            <p:spPr>
              <a:xfrm>
                <a:off x="1349280" y="2801880"/>
                <a:ext cx="167616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10"/>
              <p:cNvSpPr/>
              <p:nvPr/>
            </p:nvSpPr>
            <p:spPr>
              <a:xfrm>
                <a:off x="968400" y="242100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11"/>
              <p:cNvSpPr/>
              <p:nvPr/>
            </p:nvSpPr>
            <p:spPr>
              <a:xfrm>
                <a:off x="130320" y="394488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12"/>
              <p:cNvSpPr/>
              <p:nvPr/>
            </p:nvSpPr>
            <p:spPr>
              <a:xfrm>
                <a:off x="2720520" y="3944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13"/>
            <p:cNvGrpSpPr/>
            <p:nvPr/>
          </p:nvGrpSpPr>
          <p:grpSpPr>
            <a:xfrm>
              <a:off x="282240" y="4221360"/>
              <a:ext cx="3352320" cy="1983600"/>
              <a:chOff x="282240" y="4221360"/>
              <a:chExt cx="3352320" cy="1983600"/>
            </a:xfrm>
          </p:grpSpPr>
          <p:sp>
            <p:nvSpPr>
              <p:cNvPr id="58" name="Line 14"/>
              <p:cNvSpPr/>
              <p:nvPr/>
            </p:nvSpPr>
            <p:spPr>
              <a:xfrm flipH="1">
                <a:off x="815400" y="4602240"/>
                <a:ext cx="68544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815400" y="582156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>
                <a:off x="1501200" y="4602240"/>
                <a:ext cx="167616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7"/>
              <p:cNvSpPr/>
              <p:nvPr/>
            </p:nvSpPr>
            <p:spPr>
              <a:xfrm>
                <a:off x="1120320" y="422136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8"/>
              <p:cNvSpPr/>
              <p:nvPr/>
            </p:nvSpPr>
            <p:spPr>
              <a:xfrm>
                <a:off x="282240" y="574524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19"/>
              <p:cNvSpPr/>
              <p:nvPr/>
            </p:nvSpPr>
            <p:spPr>
              <a:xfrm>
                <a:off x="2872800" y="57452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21"/>
          <p:cNvSpPr/>
          <p:nvPr/>
        </p:nvSpPr>
        <p:spPr>
          <a:xfrm>
            <a:off x="4164120" y="2924280"/>
            <a:ext cx="40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△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△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DEF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4211640" y="5413320"/>
            <a:ext cx="51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∴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△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ABC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≌△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DEF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S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629640" y="4768920"/>
            <a:ext cx="45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0"/>
          <p:cNvGrpSpPr/>
          <p:nvPr/>
        </p:nvGrpSpPr>
        <p:grpSpPr>
          <a:xfrm>
            <a:off x="3371760" y="3470400"/>
            <a:ext cx="3504960" cy="1818000"/>
            <a:chOff x="3371760" y="3470400"/>
            <a:chExt cx="3504960" cy="1818000"/>
          </a:xfrm>
        </p:grpSpPr>
        <p:grpSp>
          <p:nvGrpSpPr>
            <p:cNvPr id="68" name="Group 23"/>
            <p:cNvGrpSpPr/>
            <p:nvPr/>
          </p:nvGrpSpPr>
          <p:grpSpPr>
            <a:xfrm>
              <a:off x="3371760" y="3470400"/>
              <a:ext cx="3504960" cy="1818000"/>
              <a:chOff x="3371760" y="3470400"/>
              <a:chExt cx="3504960" cy="1818000"/>
            </a:xfrm>
          </p:grpSpPr>
          <p:sp>
            <p:nvSpPr>
              <p:cNvPr id="69" name="Text Box 24"/>
              <p:cNvSpPr/>
              <p:nvPr/>
            </p:nvSpPr>
            <p:spPr>
              <a:xfrm>
                <a:off x="3371760" y="3470400"/>
                <a:ext cx="3504960" cy="18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800000"/>
                    </a:solidFill>
                    <a:latin typeface="宋体"/>
                  </a:rPr>
                  <a:t>       </a:t>
                </a:r>
                <a:r>
                  <a:rPr b="1" i="1" lang="en-US" sz="2800" spc="-1" strike="noStrike">
                    <a:solidFill>
                      <a:srgbClr val="800000"/>
                    </a:solidFill>
                    <a:latin typeface="Times New Roman"/>
                  </a:rPr>
                  <a:t>AB</a:t>
                </a:r>
                <a:r>
                  <a:rPr b="1" lang="zh-CN" sz="2800" spc="-1" strike="noStrike">
                    <a:solidFill>
                      <a:srgbClr val="800000"/>
                    </a:solidFill>
                    <a:latin typeface="Times New Roman"/>
                  </a:rPr>
                  <a:t>＝</a:t>
                </a:r>
                <a:r>
                  <a:rPr b="1" i="1" lang="en-US" sz="2800" spc="-1" strike="noStrike">
                    <a:solidFill>
                      <a:srgbClr val="800000"/>
                    </a:solidFill>
                    <a:latin typeface="Times New Roman"/>
                  </a:rPr>
                  <a:t>DE</a:t>
                </a:r>
                <a:r>
                  <a:rPr b="1" lang="zh-CN" sz="2800" spc="-1" strike="noStrike">
                    <a:solidFill>
                      <a:srgbClr val="800000"/>
                    </a:solidFill>
                    <a:latin typeface="Times New Roman"/>
                  </a:rPr>
                  <a:t>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0000"/>
                    </a:solidFill>
                    <a:latin typeface="宋体"/>
                  </a:rPr>
                  <a:t>       </a:t>
                </a:r>
                <a:r>
                  <a:rPr b="1" i="1" lang="en-US" sz="2800" spc="-1" strike="noStrike">
                    <a:solidFill>
                      <a:srgbClr val="800000"/>
                    </a:solidFill>
                    <a:latin typeface="Times New Roman"/>
                  </a:rPr>
                  <a:t>BC</a:t>
                </a:r>
                <a:r>
                  <a:rPr b="1" lang="zh-CN" sz="2800" spc="-1" strike="noStrike">
                    <a:solidFill>
                      <a:srgbClr val="800000"/>
                    </a:solidFill>
                    <a:latin typeface="Times New Roman"/>
                  </a:rPr>
                  <a:t>＝</a:t>
                </a:r>
                <a:r>
                  <a:rPr b="1" i="1" lang="en-US" sz="2800" spc="-1" strike="noStrike">
                    <a:solidFill>
                      <a:srgbClr val="800000"/>
                    </a:solidFill>
                    <a:latin typeface="Times New Roman"/>
                  </a:rPr>
                  <a:t>EF</a:t>
                </a:r>
                <a:r>
                  <a:rPr b="1" lang="zh-CN" sz="2800" spc="-1" strike="noStrike">
                    <a:solidFill>
                      <a:srgbClr val="800000"/>
                    </a:solidFill>
                    <a:latin typeface="Times New Roman"/>
                  </a:rPr>
                  <a:t>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0000"/>
                    </a:solidFill>
                    <a:latin typeface="宋体"/>
                  </a:rPr>
                  <a:t>       </a:t>
                </a:r>
                <a:r>
                  <a:rPr b="1" i="1" lang="en-US" sz="2800" spc="-1" strike="noStrike">
                    <a:solidFill>
                      <a:srgbClr val="800000"/>
                    </a:solidFill>
                    <a:latin typeface="Times New Roman"/>
                  </a:rPr>
                  <a:t>CA</a:t>
                </a:r>
                <a:r>
                  <a:rPr b="1" lang="zh-CN" sz="2800" spc="-1" strike="noStrike">
                    <a:solidFill>
                      <a:srgbClr val="800000"/>
                    </a:solidFill>
                    <a:latin typeface="Times New Roman"/>
                  </a:rPr>
                  <a:t>＝</a:t>
                </a:r>
                <a:r>
                  <a:rPr b="1" i="1" lang="en-US" sz="2800" spc="-1" strike="noStrike">
                    <a:solidFill>
                      <a:srgbClr val="800000"/>
                    </a:solidFill>
                    <a:latin typeface="Times New Roman"/>
                  </a:rPr>
                  <a:t>FD</a:t>
                </a:r>
                <a:r>
                  <a:rPr b="1" lang="zh-CN" sz="2800" spc="-1" strike="noStrike">
                    <a:solidFill>
                      <a:srgbClr val="800000"/>
                    </a:solidFill>
                    <a:latin typeface="Times New Roman"/>
                  </a:rPr>
                  <a:t>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25"/>
              <p:cNvSpPr/>
              <p:nvPr/>
            </p:nvSpPr>
            <p:spPr>
              <a:xfrm>
                <a:off x="4285800" y="3668040"/>
                <a:ext cx="380880" cy="1251720"/>
              </a:xfrm>
              <a:custGeom>
                <a:avLst/>
                <a:gdLst>
                  <a:gd name="textAreaLeft" fmla="*/ 243360 w 380880"/>
                  <a:gd name="textAreaRight" fmla="*/ 381240 w 380880"/>
                  <a:gd name="textAreaTop" fmla="*/ 32400 h 1251720"/>
                  <a:gd name="textAreaBottom" fmla="*/ 1219320 h 125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27"/>
            <p:cNvSpPr/>
            <p:nvPr/>
          </p:nvSpPr>
          <p:spPr>
            <a:xfrm>
              <a:off x="3587400" y="4000320"/>
              <a:ext cx="45720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609480" y="609480"/>
            <a:ext cx="3672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二、自主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38088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如果一个三角形三边的长度确定，那么这个三角形的形状和大小就完全确定．三角形的这个性质叫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三角形的稳定性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8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887640" cy="266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11-19空调架"/>
          <p:cNvPicPr/>
          <p:nvPr/>
        </p:nvPicPr>
        <p:blipFill>
          <a:blip r:embed="rId2"/>
          <a:stretch/>
        </p:blipFill>
        <p:spPr>
          <a:xfrm>
            <a:off x="4572000" y="3068640"/>
            <a:ext cx="4032360" cy="26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152280"/>
            <a:ext cx="89154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△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求证：∠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3"/>
          <p:cNvGrpSpPr/>
          <p:nvPr/>
        </p:nvGrpSpPr>
        <p:grpSpPr>
          <a:xfrm>
            <a:off x="457200" y="1676520"/>
            <a:ext cx="3168720" cy="2524320"/>
            <a:chOff x="457200" y="1676520"/>
            <a:chExt cx="3168720" cy="2524320"/>
          </a:xfrm>
        </p:grpSpPr>
        <p:sp>
          <p:nvSpPr>
            <p:cNvPr id="78" name="Line 5"/>
            <p:cNvSpPr/>
            <p:nvPr/>
          </p:nvSpPr>
          <p:spPr>
            <a:xfrm>
              <a:off x="888840" y="3764160"/>
              <a:ext cx="23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7"/>
            <p:cNvSpPr/>
            <p:nvPr/>
          </p:nvSpPr>
          <p:spPr>
            <a:xfrm flipH="1">
              <a:off x="888840" y="2179800"/>
              <a:ext cx="115272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8"/>
            <p:cNvSpPr/>
            <p:nvPr/>
          </p:nvSpPr>
          <p:spPr>
            <a:xfrm>
              <a:off x="2041560" y="2179800"/>
              <a:ext cx="122400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1825560" y="16765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1"/>
            <p:cNvSpPr/>
            <p:nvPr/>
          </p:nvSpPr>
          <p:spPr>
            <a:xfrm>
              <a:off x="3193920" y="361656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457200" y="36194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228600"/>
            <a:ext cx="3886200" cy="2166840"/>
            <a:chOff x="228600" y="228600"/>
            <a:chExt cx="3886200" cy="2166840"/>
          </a:xfrm>
        </p:grpSpPr>
        <p:sp>
          <p:nvSpPr>
            <p:cNvPr id="85" name=""/>
            <p:cNvSpPr/>
            <p:nvPr/>
          </p:nvSpPr>
          <p:spPr>
            <a:xfrm>
              <a:off x="685800" y="685800"/>
              <a:ext cx="2895480" cy="1219320"/>
            </a:xfrm>
            <a:prstGeom prst="parallelogram">
              <a:avLst>
                <a:gd name="adj" fmla="val 593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14400" y="228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16002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9520" y="17528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81280" y="3812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69608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52280"/>
            <a:ext cx="89917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如图，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求证：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∠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∠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0880" y="1905120"/>
            <a:ext cx="4572000" cy="3156840"/>
            <a:chOff x="380880" y="1905120"/>
            <a:chExt cx="4572000" cy="3156840"/>
          </a:xfrm>
        </p:grpSpPr>
        <p:sp>
          <p:nvSpPr>
            <p:cNvPr id="93" name=""/>
            <p:cNvSpPr/>
            <p:nvPr/>
          </p:nvSpPr>
          <p:spPr>
            <a:xfrm>
              <a:off x="380880" y="32000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76160" y="441936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52480" y="190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27636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066680" y="2514240"/>
              <a:ext cx="990720" cy="104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66680" y="3504960"/>
              <a:ext cx="990720" cy="104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57400" y="2514240"/>
              <a:ext cx="22860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057400" y="3504600"/>
              <a:ext cx="22860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11-27T00:35:49Z</dcterms:modified>
  <cp:revision>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