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6230-D47D-4E26-9711-B80AC719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5DC6-8E31-4746-9B14-F63113F6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9D53-740C-4947-9BB6-1035417E8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602F-080A-48DF-AF94-6FB9A619A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8BCC-CCDA-4561-B273-94E5D73C5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5DB3-AA05-4CD3-A183-5FEF44D3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8C5E-7465-4A90-ADF9-9A3A4A85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0AF2-9F70-4C29-A4C8-804787ED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FE24-37CB-4B19-9F99-73A191A7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EF31-C483-42BB-A20B-22AD97F5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7457-D5C1-40FF-BF9B-298691BB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6360-DD91-4AB7-80EF-6B83755C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3090-5D18-45D5-8089-828EEB75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3181-4EDB-48A1-82D6-F2E78CE6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88FE-5465-4174-B440-F072E81C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A960-9DDF-4AA6-810A-78314CA5E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55B5-C68C-43ED-9445-40550AC84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792F-24E0-4B91-A0B7-66E15A1D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C295-7008-416F-B0AD-5AD07470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1E23-D7A9-406A-A996-63D28A85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2AFF-A086-47F7-9916-72928479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FB62-A08A-4255-A9D8-649C67AA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66E9-3C0E-4A44-84DC-84C8E3F5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C1A1-A6DC-412D-A10E-89A86957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9B9D-570D-449C-B525-A23C273F0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9F89-7A8F-48A8-A514-1E10DB2CD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2285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艺术学科工作要点 </a:t>
            </a: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武进区教育局教研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李珊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371600"/>
            <a:ext cx="854064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听音乐回答，这段音乐中有没有二胡的声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聆听两个版本的音乐，这两个版本速度一样吗？哪个调高？主题一样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听音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惊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听音乐主题出现四次，那一次最      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听歌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伏尔加船夫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哪个力度是正确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听节奏，看节奏谱（原型），再听四组节奏，哪一个与原型是一样的。（考核读谱能力和记忆能力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现场表现测试：不提供伴奏，学生清唱指定歌曲。（自信心、记忆、表现能力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做艺术教师常态研修的促进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魏书生说：教育哪来那么多新鲜事。他主张带着平常心，做好平常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研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研修课程标准，眼界放宽。深入研读教材，情感入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研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研究应该用怎样的技能才能更好地辅助支持学生的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研教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怎样教才能教到学生心里，才能教出学生的关键能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引导教师把握好方向和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衷心祝愿所有的老师和学生都能获得更好地成长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愿大家都能拥有更幸福快乐的生活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感谢大家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音乐最早是从教堂、庙堂里出来的，开启人类智慧的必定是音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美术就是要你有想象力，绘画是开拓想象力的重要方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马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640" y="2565360"/>
            <a:ext cx="8015040" cy="30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做艺术课程规范实施的执行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做艺术教师常态研修的促进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540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做艺术课程规范实施的执行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把握好学科“好课”标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标准：美不美、有没有留下记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艺术作品本身是美的，教学中所有问题和活动如果能指向音乐本身，就一定会感受到美，表现出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走出教室时，学生应该保留对作品深刻记忆，有记忆才会有回味，才会有期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记忆是因为重复形成的，是因为专注而形成的，深入参与对话而形成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抓主要问题进行突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明确学科内容领域的主要构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音乐：感受与欣赏、表现、创造、音乐与相关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美术：造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现、设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应用、欣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评述、综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探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229600" cy="33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抓研究重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各校而言，应针对教学中的微观问题，逐个解决，如：问题设计，示范的方式方法；“模仿”的运用；识谱的渐进性等，研究最为困惑的小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267920"/>
            <a:ext cx="854064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区域层面，抓共性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音乐学科：感受与欣赏教学策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作品构成的课型的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现教学为主的欣赏环节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作品形成的对比性的欣赏研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美术学科：欣赏与评述教学策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题式的欣赏课型研究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现教学为主的欣赏环节研究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具体关注：作品的优化筛选；欣赏要素的挖掘与确定；体验活动的设计与指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科学开展学业检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质量检测测的是两个方面，第一，教学中教没教，第二，教学中学没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测试的依据是课程标准和国际测试的方式方法，测试与具体教材没有关系，与学校管理以及教师的教学有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测评关注三个方面：学生发展情况、学生的差异，以及影响因素。其方式是两个方面，纸笔测试和现场表现测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76000" y="1599840"/>
            <a:ext cx="73659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纸笔测试包括三个方面的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听记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听辨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听力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5T02:13:08Z</dcterms:created>
  <dc:creator>Administrator</dc:creator>
  <dc:description/>
  <dc:language>en-US</dc:language>
  <cp:lastModifiedBy>Sky123.Org</cp:lastModifiedBy>
  <dcterms:modified xsi:type="dcterms:W3CDTF">2016-02-25T03:54:06Z</dcterms:modified>
  <cp:revision>4</cp:revision>
  <dc:subject/>
  <dc:title>艺术学科工作要点 </dc:title>
</cp:coreProperties>
</file>