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AD3-32D2-4EC4-9075-F420BBF4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939-2B55-4F8F-B9D8-52E4C88B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935-7F51-440F-ADAB-F55E8011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C4B-2C48-4DE8-964C-2578EBD7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5BE9-FD76-47A4-948B-09C026D5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B76C-79ED-4ABF-869A-E04944DF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F3F-347B-4F8B-BBCB-0FE6BC03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4CA7-C6EB-4FED-9EDD-1B874C4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0AD3-C70B-4F0E-BE17-0369EAFE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CC72-0A09-4B97-B3CD-0A290431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BD22-0909-4CB1-9A3D-FD01B8A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A4D-3B56-40FB-BD1A-E37D219E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A66-B0DA-417A-9CAD-2D063DA2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8C5-E07A-466B-A536-69F804F3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981-CAF3-4CE3-90F3-7FE9D1CB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D57E-D320-4D89-9C94-23A01232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1CDD-EAB5-4F39-A0B6-213F9989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7FD-48F3-4D42-BAA5-F0F47A92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06E-D583-45AA-9E8C-8192E9ED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AD7-732D-404B-9C97-BB0DCC5D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9EF-132E-4E8A-84AB-466FC5C3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154-4788-4BFA-A618-C20C278F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41B-64FA-4065-AFD3-42A360E4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AE8-63EF-4217-99B8-F301396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7F73-866C-4084-A5F6-A6730930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9C80-DEF0-4A72-A429-5FAC73BC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096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Times New Roman"/>
              </a:rPr>
              <a:t>小学英语学科  </a:t>
            </a:r>
            <a:r>
              <a:rPr b="0" lang="en-US" sz="2800" spc="-1" strike="noStrike">
                <a:solidFill>
                  <a:srgbClr val="e40000"/>
                </a:solidFill>
                <a:latin typeface="Times New Roman"/>
              </a:rPr>
              <a:t>2016</a:t>
            </a:r>
            <a:r>
              <a:rPr b="0" lang="zh-CN" sz="2800" spc="-1" strike="noStrike">
                <a:solidFill>
                  <a:srgbClr val="e40000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e4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40000"/>
                </a:solidFill>
                <a:latin typeface="Times New Roman"/>
              </a:rPr>
              <a:t>月</a:t>
            </a:r>
            <a:r>
              <a:rPr b="0" lang="en-US" sz="2800" spc="-1" strike="noStrike">
                <a:solidFill>
                  <a:srgbClr val="e40000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e40000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63280" y="2852280"/>
            <a:ext cx="5977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研究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学科教学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Times New Roman"/>
              </a:rPr>
              <a:t>一、研究重点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元教学的研究即单元整体教学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材三至六年级 每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单元（每个单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~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板块）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板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语篇教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ory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句型教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un time+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阅读教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rtoon time+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板块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Projec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（综合实践活动项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语篇教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ory time)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532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语篇整体输入与输出，技能训练（听说读写）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句型教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un time+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借鉴、创新板块活动形色，整合成语篇中练习，语言知识与语言能力并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536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阅读教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rtoon time+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语篇阅读，阅读策略与阅读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板块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题突出，综合性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Projec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（综合实践活动项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中用  综合  语言实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Times New Roman"/>
              </a:rPr>
              <a:t>二、学科教学建议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15364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引领教师真实备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要求、教学内容、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视三年级的教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起始阶段 专业要求 教学要求领悟  教学经验（教学管理，教学组织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Times New Roman"/>
              </a:rPr>
              <a:t>二、学科教学建议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促进教师学科理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语能力（学科关键能力 市教科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核心素养：语言情感、语言能力（语言策略  语言习惯  语言思维 语言技能  综合能力）、语言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江苏省中小学生英语听力口语网络测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省牛津英语网承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市小学生英语故事表演赛（中高年段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市教科院听力监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的课程培养目标是人的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核心素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在英语课程表现为四个素养或能力：语言能力、文化品格、学习能力和思维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连仲（北京外国语大学教授，教育部国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英语课程标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制及修订组核心成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Times New Roman"/>
              </a:rPr>
              <a:t>二、学科教学建议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造优秀教师团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名师  学带  骨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关注；跟踪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注：协作片教学研讨活动（规范 高质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时证明、公开课证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科中心组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40000"/>
                </a:solidFill>
                <a:latin typeface="华文彩云"/>
                <a:ea typeface="华文彩云"/>
              </a:rPr>
              <a:t>Thank you!</a:t>
            </a:r>
            <a:endParaRPr b="0" lang="en-US" sz="9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06:22:48Z</dcterms:created>
  <dc:creator>Administrator</dc:creator>
  <dc:description/>
  <dc:language>en-US</dc:language>
  <cp:lastModifiedBy>Sky123.Org</cp:lastModifiedBy>
  <dcterms:modified xsi:type="dcterms:W3CDTF">2016-02-25T01:43:18Z</dcterms:modified>
  <cp:revision>7</cp:revision>
  <dc:subject/>
  <dc:title>小学英语学科  2016年2月25日</dc:title>
</cp:coreProperties>
</file>