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d4d4d"/>
                </a:solidFill>
                <a:latin typeface="Times New Roman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d4d4d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516080" y="61214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title"/>
          </p:nvPr>
        </p:nvSpPr>
        <p:spPr>
          <a:xfrm>
            <a:off x="620280" y="1757160"/>
            <a:ext cx="682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b41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13b41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2280" y="197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70109"/>
                </a:solidFill>
                <a:latin typeface="黑体"/>
                <a:ea typeface="黑体"/>
              </a:rPr>
              <a:t>小学数学教研计划说明与教学建议</a:t>
            </a:r>
            <a:r>
              <a:rPr b="1" lang="zh-CN" sz="4000" spc="-1" strike="noStrike">
                <a:solidFill>
                  <a:srgbClr val="fd1f2a"/>
                </a:solidFill>
                <a:latin typeface="黑体"/>
                <a:ea typeface="黑体"/>
              </a:rPr>
              <a:t>  </a:t>
            </a:r>
            <a:endParaRPr b="1" lang="en-US" sz="4000" spc="-1" strike="noStrike">
              <a:solidFill>
                <a:srgbClr val="013b4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72960" y="1095480"/>
            <a:ext cx="69692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Verdana"/>
                <a:ea typeface="黑体"/>
              </a:rPr>
              <a:t>一、教研工作的几点思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720" y="1792440"/>
            <a:ext cx="7594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思考三：校本教研背景下的学生研究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5520" y="2579760"/>
            <a:ext cx="7937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  </a:t>
            </a:r>
            <a:r>
              <a:rPr b="0" lang="en-US" sz="2400" spc="-1" strike="noStrike">
                <a:solidFill>
                  <a:srgbClr val="fd1f2a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关注中年段（三、四年级）学生的数学学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8560" y="3333600"/>
            <a:ext cx="7581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Times New Roman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d1f2a"/>
                </a:solidFill>
                <a:latin typeface="Times New Roman"/>
                <a:ea typeface="楷体_GB2312"/>
              </a:rPr>
              <a:t>由于中年段的数学教学内容多、课时少、要求高，部分学校师资弱、重视不够，造成学生两极分化严重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dbe8b2"/>
              </a:solidFill>
              <a:latin typeface="Verdana"/>
              <a:ea typeface="宋体"/>
            </a:endParaRPr>
          </a:p>
        </p:txBody>
      </p:sp>
      <p:sp>
        <p:nvSpPr>
          <p:cNvPr id="123" name=""/>
          <p:cNvSpPr/>
          <p:nvPr/>
        </p:nvSpPr>
        <p:spPr>
          <a:xfrm>
            <a:off x="372960" y="1095480"/>
            <a:ext cx="69692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Verdana"/>
                <a:ea typeface="黑体"/>
              </a:rPr>
              <a:t>二、教研计划的几点说明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200" y="1792440"/>
            <a:ext cx="8242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、关于研究主题：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改进策略教学，培养学生解决实际问题的能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95320" y="3201840"/>
            <a:ext cx="8248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宋体"/>
                <a:ea typeface="宋体"/>
              </a:rPr>
              <a:t>主要研究基本策略：如从条件想起、从问题想起、画图等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20880" y="4008600"/>
            <a:ext cx="7029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宋体"/>
                <a:ea typeface="宋体"/>
              </a:rPr>
              <a:t>主要研究“数与代数”领域的实际问题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2960" y="1095480"/>
            <a:ext cx="69692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Verdana"/>
                <a:ea typeface="黑体"/>
              </a:rPr>
              <a:t>二、教研计划的几点说明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720" y="1792440"/>
            <a:ext cx="8242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、关于基本功比赛：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95320" y="2496960"/>
            <a:ext cx="66866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宋体"/>
                <a:ea typeface="宋体"/>
              </a:rPr>
              <a:t>对象：</a:t>
            </a:r>
            <a:r>
              <a:rPr b="0" lang="en-US" sz="2400" spc="-1" strike="noStrike">
                <a:solidFill>
                  <a:srgbClr val="fd1f2a"/>
                </a:solidFill>
                <a:latin typeface="宋体"/>
                <a:ea typeface="宋体"/>
              </a:rPr>
              <a:t>40</a:t>
            </a:r>
            <a:r>
              <a:rPr b="0" lang="zh-CN" sz="2400" spc="-1" strike="noStrike">
                <a:solidFill>
                  <a:srgbClr val="fd1f2a"/>
                </a:solidFill>
                <a:latin typeface="宋体"/>
                <a:ea typeface="宋体"/>
              </a:rPr>
              <a:t>周岁以下的数学教师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132000"/>
            <a:ext cx="85345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d1f2a"/>
                </a:solidFill>
                <a:latin typeface="宋体"/>
                <a:ea typeface="宋体"/>
              </a:rPr>
              <a:t>项目：第一轮：专业素养测试、教学设计与课件制作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宋体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fd1f2a"/>
                </a:solidFill>
                <a:latin typeface="宋体"/>
                <a:ea typeface="宋体"/>
              </a:rPr>
              <a:t>第二轮：粉笔字、即兴演讲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宋体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fd1f2a"/>
                </a:solidFill>
                <a:latin typeface="宋体"/>
                <a:ea typeface="宋体"/>
              </a:rPr>
              <a:t>第三轮：课堂教学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7760" y="4656240"/>
            <a:ext cx="66866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宋体"/>
                <a:ea typeface="宋体"/>
              </a:rPr>
              <a:t>时间：四月份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72960" y="1095480"/>
            <a:ext cx="69692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Verdana"/>
                <a:ea typeface="黑体"/>
              </a:rPr>
              <a:t>二、教研计划的几点说明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720" y="1792440"/>
            <a:ext cx="8242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、关于“小小数学家”评选活动：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5320" y="2496960"/>
            <a:ext cx="77533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参加第二轮的名单和小论文名单发通知上的指定邮箱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小论文（纸质的）交区教研室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72960" y="1095480"/>
            <a:ext cx="69692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Verdana"/>
                <a:ea typeface="黑体"/>
              </a:rPr>
              <a:t>二、教研计划的几点说明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720" y="1792440"/>
            <a:ext cx="8242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、关于交流平台：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630520"/>
            <a:ext cx="6686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宋体"/>
                <a:ea typeface="宋体"/>
              </a:rPr>
              <a:t>“</a:t>
            </a:r>
            <a:r>
              <a:rPr b="0" lang="zh-CN" sz="2400" spc="-1" strike="noStrike">
                <a:solidFill>
                  <a:srgbClr val="fd1f2a"/>
                </a:solidFill>
                <a:latin typeface="宋体"/>
                <a:ea typeface="宋体"/>
              </a:rPr>
              <a:t>武进小数之家”</a:t>
            </a:r>
            <a:r>
              <a:rPr b="0" lang="en-US" sz="2400" spc="-1" strike="noStrike">
                <a:solidFill>
                  <a:srgbClr val="fd1f2a"/>
                </a:solidFill>
                <a:latin typeface="宋体"/>
                <a:ea typeface="宋体"/>
              </a:rPr>
              <a:t>QQ</a:t>
            </a:r>
            <a:r>
              <a:rPr b="0" lang="zh-CN" sz="2400" spc="-1" strike="noStrike">
                <a:solidFill>
                  <a:srgbClr val="fd1f2a"/>
                </a:solidFill>
                <a:latin typeface="宋体"/>
                <a:ea typeface="宋体"/>
              </a:rPr>
              <a:t>群：</a:t>
            </a:r>
            <a:r>
              <a:rPr b="0" lang="en-US" sz="2400" spc="-1" strike="noStrike">
                <a:solidFill>
                  <a:srgbClr val="fd1f2a"/>
                </a:solidFill>
                <a:latin typeface="宋体"/>
                <a:ea typeface="宋体"/>
              </a:rPr>
              <a:t>470108054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（以“校名</a:t>
            </a:r>
            <a:r>
              <a:rPr b="0" lang="en-US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+</a:t>
            </a: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姓名”加入）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39960" y="3228840"/>
            <a:ext cx="675936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70109"/>
                </a:solidFill>
                <a:latin typeface="Verdana"/>
                <a:ea typeface="黑体"/>
              </a:rPr>
              <a:t>二、教研计划的几点说明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7360" y="2225520"/>
            <a:ext cx="675936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70109"/>
                </a:solidFill>
                <a:latin typeface="Verdana"/>
                <a:ea typeface="黑体"/>
              </a:rPr>
              <a:t>一、教研工作的几点思考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72960" y="1095480"/>
            <a:ext cx="69692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Verdana"/>
                <a:ea typeface="黑体"/>
              </a:rPr>
              <a:t>一、教研工作的几点思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720" y="1792440"/>
            <a:ext cx="7594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思考一：核心素养背景下的课堂转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704880" y="2573280"/>
            <a:ext cx="8724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buClr>
                <a:srgbClr val="fd1f2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变落实“双基”为落实“四基”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                         </a:t>
            </a: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实现“过程与结果”的统一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26320" y="3836880"/>
            <a:ext cx="1131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Times New Roman"/>
                <a:ea typeface="宋体"/>
              </a:rPr>
              <a:t>基础知识、 基本技能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98800" y="4459320"/>
            <a:ext cx="320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Times New Roman"/>
                <a:ea typeface="宋体"/>
              </a:rPr>
              <a:t>基本思想、基本活动经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05240" y="3849840"/>
            <a:ext cx="2413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1f2a"/>
                </a:solidFill>
                <a:latin typeface="Times New Roman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fd1f2a"/>
                </a:solidFill>
                <a:latin typeface="Times New Roman"/>
                <a:ea typeface="楷体_GB2312"/>
              </a:rPr>
              <a:t>结果性目标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10120" y="4573440"/>
            <a:ext cx="23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1f2a"/>
                </a:solidFill>
                <a:latin typeface="Times New Roman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fd1f2a"/>
                </a:solidFill>
                <a:latin typeface="Times New Roman"/>
                <a:ea typeface="楷体_GB2312"/>
              </a:rPr>
              <a:t>过程性目标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72960" y="1095480"/>
            <a:ext cx="69692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Verdana"/>
                <a:ea typeface="黑体"/>
              </a:rPr>
              <a:t>一、教研工作的几点思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720" y="1792440"/>
            <a:ext cx="7594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思考一：核心素养背景下的课堂转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04920" y="2573280"/>
            <a:ext cx="7867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1f2a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变“学科教学”为“学科教育”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                         </a:t>
            </a: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实现“教书与育人”的统一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754440"/>
            <a:ext cx="8051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从“学科教学”到“学科教育”</a:t>
            </a:r>
            <a:r>
              <a:rPr b="0" lang="en-US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〈 </a:t>
            </a: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人民教育</a:t>
            </a:r>
            <a:r>
              <a:rPr b="0" lang="en-US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〉</a:t>
            </a:r>
            <a:r>
              <a:rPr b="0" lang="en-US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2015</a:t>
            </a: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年第</a:t>
            </a:r>
            <a:r>
              <a:rPr b="0" lang="en-US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17</a:t>
            </a: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期）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72960" y="1095480"/>
            <a:ext cx="69692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Verdana"/>
                <a:ea typeface="黑体"/>
              </a:rPr>
              <a:t>一、教研工作的几点思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3640" y="1792440"/>
            <a:ext cx="728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思考一：核心素养背景下的课堂转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649600"/>
            <a:ext cx="7696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1f2a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变“机械灌输”为“学为中心”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                     </a:t>
            </a: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实现“教与学”的统一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754440"/>
            <a:ext cx="8051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存在问题：教师教得过盛，学生学力不足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3080" y="4313160"/>
            <a:ext cx="8051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课堂追求：会思考、善倾听、能表达、敢质疑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dbe8b2"/>
              </a:solidFill>
              <a:latin typeface="Verdana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372960" y="1095480"/>
            <a:ext cx="69692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Verdana"/>
                <a:ea typeface="黑体"/>
              </a:rPr>
              <a:t>一、教研工作的几点思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720" y="1792440"/>
            <a:ext cx="7594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思考一：核心素养背景下的课堂转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181160" y="2459160"/>
            <a:ext cx="94489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1f2a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变“冰冷美丽”为“火热思考”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实现“有意义与有意思”的统一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533520" y="3449520"/>
            <a:ext cx="8051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有意义：把握数学学科的本质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14440" y="4084560"/>
            <a:ext cx="8051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有意思：遵循学生学习的规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20840" y="4719600"/>
            <a:ext cx="7004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让学生感到数学好玩，并能玩好数学，需要教师的智慧，更需要教师用情、用心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72960" y="1095480"/>
            <a:ext cx="69692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Verdana"/>
                <a:ea typeface="黑体"/>
              </a:rPr>
              <a:t>一、教研工作的几点思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720" y="1792440"/>
            <a:ext cx="7594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思考二：质量提升背景下的常规落实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6720" y="2496960"/>
            <a:ext cx="5962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1f2a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提高常态课质量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8280" y="3056040"/>
            <a:ext cx="8305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</a:t>
            </a:r>
            <a:r>
              <a:rPr b="0" lang="zh-CN" sz="2400" spc="-1" strike="noStrike">
                <a:solidFill>
                  <a:srgbClr val="fd1f2a"/>
                </a:solidFill>
                <a:latin typeface="Times New Roman"/>
                <a:ea typeface="仿宋_GB2312"/>
              </a:rPr>
              <a:t>与轰轰烈烈的公开课相比，我们对常态课还缺少足够的关注，对常态课还缺乏应有的研究意识。如何提高常态课的教学质量值得每一位教师关注与重视。建议广大教师在精心上好公开课，提升公开课价值与效应的同时，应该花更多的精力与心血投入常态课的教学。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2960" y="1095480"/>
            <a:ext cx="69692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Verdana"/>
                <a:ea typeface="黑体"/>
              </a:rPr>
              <a:t>一、教研工作的几点思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720" y="1792440"/>
            <a:ext cx="7594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思考二：质量提升背景下的常规落实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5040" y="2617920"/>
            <a:ext cx="7810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fd1f2a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重视新授课教学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25440" y="3305160"/>
            <a:ext cx="5899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Times New Roman"/>
                <a:ea typeface="楷体_GB2312"/>
              </a:rPr>
              <a:t>概念的形成、法则的归纳、算理的理解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Times New Roman"/>
                <a:ea typeface="楷体_GB2312"/>
              </a:rPr>
              <a:t>公式的推导、规律的探索、策略的感悟</a:t>
            </a:r>
            <a:r>
              <a:rPr b="0" lang="zh-CN" sz="2000" spc="-1" strike="noStrike">
                <a:solidFill>
                  <a:srgbClr val="fd1f2a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2960" y="1095480"/>
            <a:ext cx="69692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Verdana"/>
                <a:ea typeface="黑体"/>
              </a:rPr>
              <a:t>一、教研工作的几点思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720" y="1792440"/>
            <a:ext cx="7594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0109"/>
                </a:solidFill>
                <a:latin typeface="Times New Roman"/>
                <a:ea typeface="仿宋_GB2312"/>
              </a:rPr>
              <a:t>思考三：校本教研背景下的学生研究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8560" y="2611440"/>
            <a:ext cx="44006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1f2a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fd1f2a"/>
                </a:solidFill>
                <a:latin typeface="黑体"/>
                <a:ea typeface="黑体"/>
              </a:rPr>
              <a:t>关注学困生的数学学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6880" y="3265560"/>
            <a:ext cx="7410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1f2a"/>
                </a:solidFill>
                <a:latin typeface="宋体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上海学生参加</a:t>
            </a:r>
            <a:r>
              <a:rPr b="0" lang="en-US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PISA</a:t>
            </a: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考试成功的原因之一，即是对后进生的不放弃。数学学科的结果有六个等级，最差等级上海学生只有</a:t>
            </a:r>
            <a:r>
              <a:rPr b="0" lang="en-US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3.8%,</a:t>
            </a: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而美国达到</a:t>
            </a:r>
            <a:r>
              <a:rPr b="0" lang="en-US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25%</a:t>
            </a:r>
            <a:r>
              <a:rPr b="0" lang="zh-CN" sz="2400" spc="-1" strike="noStrike">
                <a:solidFill>
                  <a:srgbClr val="fd1f2a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w</dc:creator>
  <dc:description/>
  <dc:language>en-US</dc:language>
  <cp:lastModifiedBy>User</cp:lastModifiedBy>
  <dcterms:modified xsi:type="dcterms:W3CDTF">2016-02-25T00:28:40Z</dcterms:modified>
  <cp:revision>208</cp:revision>
  <dc:subject/>
  <dc:title>PowerPoint Template </dc:title>
</cp:coreProperties>
</file>