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745-C73A-4BE6-85BE-6786CEBE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9EE-9AA6-45D4-8394-C6887CE6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A27-E374-4FBB-A194-14C7640B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8BCA-FF6E-4C4F-AF6C-B199D36D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F436-A797-4A3D-8439-68C624F3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F06A-7A11-452E-A4D4-150EC154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A251-7752-4CFE-8FA1-9378762B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FB7C-8A0A-43DC-8465-7C8DB705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E0D7-A1D3-480A-9C03-9839CDEF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94A7-69D4-4E9B-A2F8-97B9EDB3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7093-2F54-4568-ACDA-3D2EC6B3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2357-9BE5-447A-A38F-D31198C2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9675-9714-49B8-A85E-C5E1586B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B5C6-FFC1-469D-884A-F0757B31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24A6-A561-489C-8AD1-B1266634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98B7-CDC0-4406-9401-ED39E465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7637-8C9D-492F-87CC-834ABBE8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4B1F-7F94-49BC-A5B6-10C85CA2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784-7BA4-424D-ABAB-3C99617B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BA5-F865-4E77-A5B5-6485C008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F5AD-37B6-4E61-9199-6A7E74A0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2BA3-8E0E-439D-9CD6-36658A9C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7FA-8593-4683-A99A-0383ECC9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07F-F119-4963-A3D8-853534E6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3420-AA6D-45E6-8582-53CF7215C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3700-DCBE-43F4-9D37-3C1452EB0E10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1"/>
          <p:cNvSpPr/>
          <p:nvPr/>
        </p:nvSpPr>
        <p:spPr>
          <a:xfrm>
            <a:off x="1763640" y="1628640"/>
            <a:ext cx="63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小学语文教学工作要点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835280" y="3645000"/>
            <a:ext cx="60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a77"/>
                </a:solidFill>
                <a:latin typeface="华文隶书"/>
                <a:ea typeface="华文隶书"/>
              </a:rPr>
              <a:t>武进区教育局教研室      张新东</a:t>
            </a:r>
            <a:endParaRPr b="1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3348000" y="5157720"/>
            <a:ext cx="26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2016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25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日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三、常规管理意见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99640" y="2491920"/>
            <a:ext cx="7488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优化制度建设：在细节处下功夫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优化团队建设：在合力上做文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优化资源建设：在分享上求发展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7a77"/>
                </a:solidFill>
                <a:latin typeface="Arial"/>
              </a:rPr>
              <a:t>感谢大家对小语工作的支持。祝大家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猴年猴赛雷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小学语文教学工作要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02920" y="2565360"/>
            <a:ext cx="6048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一、研究重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二、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教学建议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一、研究重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7559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围绕市学科关键能力“阅读理解能力”进行深入研究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 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根据省规划重点自筹课题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基于核心素养培育小学生语文气质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研究内容展开研究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136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关于阅读理解能力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272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、四个层级：复述性理解  解释性理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评价性理解  创造性理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、三种测试情境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为了获取信息而进行的阅读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为了获得文学体验而进行的阅读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为了完成某项任务而进行的阅读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关注非连续性文本的阅读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08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关于语文气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7777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基于核心素养的语文气质，是从人的全面发展角度出发，按照学生学习语文的本质特点及规律，在经历一定时间的语文课程学习后，所拥有的比较稳定的，具有群体特征的语文素养的综合表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语文气质和语文核心素养在育人目标上是一致的，两者都要在语用能力上下功夫，语文气质可能更多地关注兴趣、习惯、审美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关于语文气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56108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以课程视野选择适切的教学内容，关注培育气质的四个方面：兴趣与习惯、语用能力、合作意识与审美情趣。近阶段的阅读教学研究聚焦在语用能力的培养上，把理解与表达更好地融合起来，“向读学写”，同时根据不同学段的要求，采用多样的教学手段和方法，提高语文课堂教学质量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教学建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7870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68360" y="2276640"/>
            <a:ext cx="5185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一、学科研究方向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二、课堂教学要求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三、常规管理意见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学科研究方向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06472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、持续关注核心素养，聚焦育人目标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、辩证看待理解表达，确定教学内容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、尤其重视整体把握，提高思维含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二、课堂教学要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488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强调一课一得，上好常态课（</a:t>
            </a:r>
            <a:r>
              <a:rPr b="1" lang="zh-CN" sz="3600" spc="-1" strike="noStrike">
                <a:solidFill>
                  <a:srgbClr val="dc5900"/>
                </a:solidFill>
                <a:latin typeface="Arial"/>
              </a:rPr>
              <a:t>清简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展开言语实践，上好展示课（</a:t>
            </a:r>
            <a:r>
              <a:rPr b="1" lang="zh-CN" sz="3600" spc="-1" strike="noStrike">
                <a:solidFill>
                  <a:srgbClr val="dc5900"/>
                </a:solidFill>
                <a:latin typeface="Arial"/>
              </a:rPr>
              <a:t>活动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拓宽课程视野，上好研究课（</a:t>
            </a:r>
            <a:r>
              <a:rPr b="1" lang="zh-CN" sz="3600" spc="-1" strike="noStrike">
                <a:solidFill>
                  <a:srgbClr val="dc5900"/>
                </a:solidFill>
                <a:latin typeface="Arial"/>
              </a:rPr>
              <a:t>个性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1:22:11Z</dcterms:created>
  <dc:creator>张新东</dc:creator>
  <dc:description/>
  <dc:language>en-US</dc:language>
  <cp:lastModifiedBy>Sky123.Org</cp:lastModifiedBy>
  <dcterms:modified xsi:type="dcterms:W3CDTF">2016-02-25T03:55:50Z</dcterms:modified>
  <cp:revision>156</cp:revision>
  <dc:subject/>
  <dc:title>幻灯片 1</dc:title>
</cp:coreProperties>
</file>