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8AB9-096E-4F01-8626-636C968F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71600" y="599364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AA4D-C5F2-4683-8783-E85CFFD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45644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7E4E-F289-471E-962A-C0F12682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0704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44284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7160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40704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44284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C8D4-FD3F-4E6E-8CB4-4D787842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6C40-B2B5-4886-9A96-E24D60B9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3C30-DEEA-46CF-BCBF-B8F9AFC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34E-88CA-4F96-9899-300193A9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359F-CD6A-4358-BCF7-72064838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DF18-EE65-433E-8E05-2F461D0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3789000"/>
            <a:ext cx="4390920" cy="46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808D-C795-4DDE-8A47-BB34B8D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5C4-BDB5-4EEF-92F7-8212A43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A0FA-8E16-4F7E-9FCF-C2255DE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644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4C63-0D82-4CBC-9553-1AAE9FA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2CDC-0439-472F-B9C4-4F5D5B0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599364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4DC5-EC59-40DE-8A31-6EA86AFC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5644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0FD-25FE-45B9-8B3C-817037A4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0704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42840" y="571500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0704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42840" y="5993640"/>
            <a:ext cx="193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5B8-01CE-4395-813E-E6CA1505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D6B8-DA49-475D-94B1-A32DDA7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9B28-62D7-4450-9994-AD0EC01B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AE87-6158-459A-8A5D-3458A9AA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440" y="3789000"/>
            <a:ext cx="4390920" cy="46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2684-D639-412F-87A4-A36E06A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82D8-3271-458D-A813-8B62815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440" y="599364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5D9B-3977-4518-9539-5585573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6440" y="5715000"/>
            <a:ext cx="2937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5993640"/>
            <a:ext cx="6019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D05C-59A2-4509-9BE4-A162569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b5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b5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fb56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2000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BE8-D944-403C-8726-78087A5A2A3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066680"/>
            <a:ext cx="8839440" cy="5486400"/>
          </a:xfrm>
          <a:prstGeom prst="roundRect">
            <a:avLst>
              <a:gd name="adj" fmla="val 32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15000" y="6324120"/>
            <a:ext cx="1143000" cy="38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304560" y="6536880"/>
            <a:ext cx="275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33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  <a:ea typeface="宋体"/>
              </a:rPr>
              <a:t>http://user.qzone.qq.com/3795389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8785080" cy="863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 rot="18900000">
            <a:off x="250920" y="1196640"/>
            <a:ext cx="717480" cy="568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 rot="300000">
            <a:off x="250920" y="1701720"/>
            <a:ext cx="431640" cy="341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 rot="1020000">
            <a:off x="684360" y="2204640"/>
            <a:ext cx="482400" cy="3826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 rot="20820000">
            <a:off x="250920" y="2349000"/>
            <a:ext cx="717480" cy="568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 rot="300000">
            <a:off x="539640" y="1844640"/>
            <a:ext cx="432000" cy="3430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 rot="300000">
            <a:off x="826920" y="307008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 flipH="1" rot="300600">
            <a:off x="539280" y="3212640"/>
            <a:ext cx="416160" cy="360360"/>
          </a:xfrm>
          <a:prstGeom prst="rect">
            <a:avLst/>
          </a:prstGeom>
          <a:ln w="0">
            <a:noFill/>
          </a:ln>
        </p:spPr>
      </p:pic>
      <p:sp>
        <p:nvSpPr>
          <p:cNvPr id="14" name="未知"/>
          <p:cNvSpPr/>
          <p:nvPr/>
        </p:nvSpPr>
        <p:spPr>
          <a:xfrm>
            <a:off x="465120" y="2031840"/>
            <a:ext cx="125280" cy="4143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3818" y="0"/>
                </a:moveTo>
                <a:cubicBezTo>
                  <a:pt x="3818" y="662"/>
                  <a:pt x="4254" y="2584"/>
                  <a:pt x="3818" y="3876"/>
                </a:cubicBezTo>
                <a:cubicBezTo>
                  <a:pt x="3381" y="5168"/>
                  <a:pt x="1745" y="6426"/>
                  <a:pt x="1309" y="7719"/>
                </a:cubicBezTo>
                <a:cubicBezTo>
                  <a:pt x="872" y="9011"/>
                  <a:pt x="1309" y="10269"/>
                  <a:pt x="1309" y="11561"/>
                </a:cubicBezTo>
                <a:cubicBezTo>
                  <a:pt x="1309" y="12853"/>
                  <a:pt x="0" y="14146"/>
                  <a:pt x="1309" y="15438"/>
                </a:cubicBezTo>
                <a:cubicBezTo>
                  <a:pt x="2618" y="16730"/>
                  <a:pt x="5563" y="18253"/>
                  <a:pt x="8945" y="19280"/>
                </a:cubicBezTo>
                <a:cubicBezTo>
                  <a:pt x="12327" y="20307"/>
                  <a:pt x="19527" y="21202"/>
                  <a:pt x="21600" y="21599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未知"/>
          <p:cNvSpPr/>
          <p:nvPr/>
        </p:nvSpPr>
        <p:spPr>
          <a:xfrm>
            <a:off x="971640" y="2565360"/>
            <a:ext cx="1094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614" y="0"/>
                </a:moveTo>
                <a:cubicBezTo>
                  <a:pt x="4774" y="106"/>
                  <a:pt x="13187" y="26"/>
                  <a:pt x="15802" y="636"/>
                </a:cubicBezTo>
                <a:cubicBezTo>
                  <a:pt x="18416" y="1245"/>
                  <a:pt x="17621" y="2676"/>
                  <a:pt x="18530" y="3710"/>
                </a:cubicBezTo>
                <a:cubicBezTo>
                  <a:pt x="19440" y="4744"/>
                  <a:pt x="20690" y="5751"/>
                  <a:pt x="21145" y="6784"/>
                </a:cubicBezTo>
                <a:cubicBezTo>
                  <a:pt x="21600" y="7818"/>
                  <a:pt x="21145" y="8852"/>
                  <a:pt x="21145" y="9885"/>
                </a:cubicBezTo>
                <a:cubicBezTo>
                  <a:pt x="21145" y="10919"/>
                  <a:pt x="21600" y="11926"/>
                  <a:pt x="21145" y="12960"/>
                </a:cubicBezTo>
                <a:cubicBezTo>
                  <a:pt x="20690" y="13993"/>
                  <a:pt x="19894" y="15000"/>
                  <a:pt x="18530" y="16034"/>
                </a:cubicBezTo>
                <a:cubicBezTo>
                  <a:pt x="17166" y="17067"/>
                  <a:pt x="16256" y="18207"/>
                  <a:pt x="13187" y="19135"/>
                </a:cubicBezTo>
                <a:cubicBezTo>
                  <a:pt x="10117" y="20062"/>
                  <a:pt x="2160" y="21175"/>
                  <a:pt x="0" y="2160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674640" y="2852640"/>
            <a:ext cx="182520" cy="43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01" y="0"/>
                </a:moveTo>
                <a:cubicBezTo>
                  <a:pt x="6698" y="767"/>
                  <a:pt x="3537" y="3108"/>
                  <a:pt x="2333" y="4683"/>
                </a:cubicBezTo>
                <a:cubicBezTo>
                  <a:pt x="1128" y="6257"/>
                  <a:pt x="0" y="7792"/>
                  <a:pt x="602" y="9366"/>
                </a:cubicBezTo>
                <a:cubicBezTo>
                  <a:pt x="1204" y="10941"/>
                  <a:pt x="3838" y="12515"/>
                  <a:pt x="5870" y="14090"/>
                </a:cubicBezTo>
                <a:cubicBezTo>
                  <a:pt x="7902" y="15665"/>
                  <a:pt x="10235" y="17522"/>
                  <a:pt x="12869" y="18773"/>
                </a:cubicBezTo>
                <a:cubicBezTo>
                  <a:pt x="15503" y="20025"/>
                  <a:pt x="20170" y="21115"/>
                  <a:pt x="21600" y="2160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未知"/>
          <p:cNvSpPr/>
          <p:nvPr/>
        </p:nvSpPr>
        <p:spPr>
          <a:xfrm>
            <a:off x="824040" y="3421080"/>
            <a:ext cx="258480" cy="73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41" y="0"/>
                </a:moveTo>
                <a:cubicBezTo>
                  <a:pt x="9900" y="148"/>
                  <a:pt x="13976" y="371"/>
                  <a:pt x="15035" y="872"/>
                </a:cubicBezTo>
                <a:cubicBezTo>
                  <a:pt x="16094" y="1374"/>
                  <a:pt x="14611" y="2228"/>
                  <a:pt x="15035" y="3027"/>
                </a:cubicBezTo>
                <a:cubicBezTo>
                  <a:pt x="15458" y="3825"/>
                  <a:pt x="16623" y="4810"/>
                  <a:pt x="17470" y="5608"/>
                </a:cubicBezTo>
                <a:cubicBezTo>
                  <a:pt x="18317" y="6407"/>
                  <a:pt x="19323" y="7057"/>
                  <a:pt x="19958" y="7781"/>
                </a:cubicBezTo>
                <a:cubicBezTo>
                  <a:pt x="20594" y="8506"/>
                  <a:pt x="21600" y="9212"/>
                  <a:pt x="21176" y="9936"/>
                </a:cubicBezTo>
                <a:cubicBezTo>
                  <a:pt x="20752" y="10660"/>
                  <a:pt x="19111" y="11589"/>
                  <a:pt x="17470" y="12090"/>
                </a:cubicBezTo>
                <a:cubicBezTo>
                  <a:pt x="15829" y="12592"/>
                  <a:pt x="13394" y="12889"/>
                  <a:pt x="11329" y="12963"/>
                </a:cubicBezTo>
                <a:cubicBezTo>
                  <a:pt x="9264" y="13038"/>
                  <a:pt x="7041" y="12963"/>
                  <a:pt x="5188" y="12536"/>
                </a:cubicBezTo>
                <a:cubicBezTo>
                  <a:pt x="3335" y="12109"/>
                  <a:pt x="0" y="10790"/>
                  <a:pt x="211" y="10363"/>
                </a:cubicBezTo>
                <a:cubicBezTo>
                  <a:pt x="423" y="9936"/>
                  <a:pt x="4341" y="9936"/>
                  <a:pt x="6405" y="9936"/>
                </a:cubicBezTo>
                <a:cubicBezTo>
                  <a:pt x="8470" y="9936"/>
                  <a:pt x="10482" y="10066"/>
                  <a:pt x="12547" y="10363"/>
                </a:cubicBezTo>
                <a:cubicBezTo>
                  <a:pt x="14611" y="10660"/>
                  <a:pt x="17682" y="11087"/>
                  <a:pt x="18688" y="11663"/>
                </a:cubicBezTo>
                <a:cubicBezTo>
                  <a:pt x="19694" y="12239"/>
                  <a:pt x="18688" y="13093"/>
                  <a:pt x="18688" y="13818"/>
                </a:cubicBezTo>
                <a:cubicBezTo>
                  <a:pt x="18688" y="14542"/>
                  <a:pt x="18900" y="15266"/>
                  <a:pt x="18688" y="15991"/>
                </a:cubicBezTo>
                <a:cubicBezTo>
                  <a:pt x="18476" y="16715"/>
                  <a:pt x="18688" y="17495"/>
                  <a:pt x="17470" y="18145"/>
                </a:cubicBezTo>
                <a:cubicBezTo>
                  <a:pt x="16252" y="18795"/>
                  <a:pt x="13394" y="19296"/>
                  <a:pt x="11329" y="19872"/>
                </a:cubicBezTo>
                <a:cubicBezTo>
                  <a:pt x="9264" y="20448"/>
                  <a:pt x="6194" y="21302"/>
                  <a:pt x="5188" y="2160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828720" y="1557360"/>
            <a:ext cx="76320" cy="26820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0" y="0"/>
                </a:moveTo>
                <a:cubicBezTo>
                  <a:pt x="0" y="1761"/>
                  <a:pt x="0" y="7138"/>
                  <a:pt x="0" y="10753"/>
                </a:cubicBezTo>
                <a:cubicBezTo>
                  <a:pt x="0" y="14369"/>
                  <a:pt x="0" y="19745"/>
                  <a:pt x="0" y="2160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" name="" descr=""/>
          <p:cNvPicPr/>
          <p:nvPr/>
        </p:nvPicPr>
        <p:blipFill>
          <a:blip r:embed="rId10"/>
          <a:stretch/>
        </p:blipFill>
        <p:spPr>
          <a:xfrm flipH="1" rot="298800">
            <a:off x="900000" y="1054080"/>
            <a:ext cx="414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200040" y="65527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CF4-02BE-42E1-A0B4-50A3B74F5AA1}" type="slidenum">
              <a:rPr b="0" lang="zh-CN" sz="10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85440" y="3789000"/>
            <a:ext cx="4390920" cy="995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b564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3fb564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24000" y="4221000"/>
            <a:ext cx="94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让自己成为控制心态的主人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24000" y="31417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b564"/>
                    </a:gs>
                    <a:gs pos="100000">
                      <a:srgbClr val="7f70d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谢谢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b564"/>
                  </a:gs>
                  <a:gs pos="100000">
                    <a:srgbClr val="7f70d8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53840" y="4362120"/>
            <a:ext cx="78562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3fb564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35280" y="1413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心态就是你的主人。在现实生活中，我们不能控制自己的遭遇，却可以控制自己的心态；我们不能改变别人，却可以改变自己。其实，人与人之间并无太大的区别，真正的区别在于心态。所以，一个人成功与否，主要取决于他的心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536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气不如争气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864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人生有顺境也有逆境，不可能处处是逆境；人生有巅峰也有谷底，不可能时时处谷底。因为顺境或巅峰而趾高气昂，因为逆境或低谷而垂头丧气，都是浅薄的人生。面对挫折，如果只是一味地抱怨、生气，那么你注定永远是个弱者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自信才能赢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古往今来，许多人之所以失败，究其原因，不是因为无能，而是因为不自信。自信是一种力量，更是一种动力。当你不自信的时候，你很难做好事情；当你什么也做不好的时候，你就更加不自信。这是一种恶性循环。若想从这种恶性循环中解脱出来，就得与失败做斗争，就得树立牢固的自信心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动更要行动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770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心动不如行动，虽然行动不一定会成功。生活不会因为你想做什么而给你报酬，而是因为你做了什么才给你报酬。一个人的目标是从梦想开始的，一个人的幸福是从心态上把握的，而一个人的成功则是在行动中实现的。因为只有行动，才是滋润你成功的食物和泉水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平常心不可少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人生不可能一帆风顺，有成功，也有失败；有开心，也有失落。如果我们把生活中的这些起起落落看得太重，那么生活对于我们来说永远都不会坦然，永远都没有欢笑。人生应该有所追求，但暂时得不到并不会阻碍日常生活的幸福，因此，拥有一颗平常心，是人生必不可少的润滑剂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宽容是一种美德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俗话说的好：“退一步海阔天空，让几分心平气和。”这就是说人与人之间需要宽容。宽容是一种美德，它能使一个人得到尊重；宽容是一种良药，它能挽救一个人的灵魂；宽容就像一盏明灯，能在黑夜中放射着万丈光芒，照亮每一个心灵。</a:t>
            </a:r>
            <a:endParaRPr b="1" lang="en-US" sz="44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会给心灵松绑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人的心灵是脆弱的，需要经常地激励与抚慰。常常自我激励，自我表扬，会使心灵快乐无比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学会给心灵松绑，就是要给自己营造一个温馨的港湾，常常走进去为自己忙碌疲惫的心灵做做按摩，使心灵的各个零件经常得到维护和保养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避免烦恼成心病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8548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fb564"/>
                </a:solidFill>
                <a:latin typeface="楷体_GB2312"/>
                <a:ea typeface="楷体_GB2312"/>
              </a:rPr>
              <a:t>在现实生活中，终日烦恼的人，实际上并不是遭遇了太多的不幸，而是根源于烦恼者的内心世界。因此，当烦恼降临的时候，我们既不要怨天尤人，也不要自暴自弃，要学会给心灵松绑，从心理上调适自己，避免烦恼变成心病。</a:t>
            </a:r>
            <a:endParaRPr b="1" lang="en-US" sz="3600" spc="-1" strike="noStrike">
              <a:solidFill>
                <a:srgbClr val="3fb5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1:56Z</dcterms:created>
  <dc:creator>Bill</dc:creator>
  <dc:description/>
  <cp:keywords/>
  <dc:language>en-US</dc:language>
  <cp:lastModifiedBy>win7w</cp:lastModifiedBy>
  <cp:lastPrinted>1899-12-30T00:00:00Z</cp:lastPrinted>
  <dcterms:modified xsi:type="dcterms:W3CDTF">2014-09-02T08:44:59Z</dcterms:modified>
  <cp:revision>9</cp:revision>
  <dc:subject/>
  <dc:title>PowerPoint Template</dc:title>
</cp:coreProperties>
</file>