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6B5-D028-4019-8957-E9140DD2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C97-D02B-4E1A-BCA0-18EFA37E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CB9-0375-49A1-A3D7-53D1B1C7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474-92B2-4E92-99A6-6F26C717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D7B-573E-4A86-B8A9-9E24B9D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2F3-0A02-4491-B84D-A75631A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367-42D1-4BF0-B0B1-A7DC76B1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E46-BD14-4F4C-B026-5EC6C1B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F53-9BE6-4FB8-8382-76282B1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625-96B3-4D4F-87F2-2397D1E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DCD-0B1E-4AED-A121-7D412E0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75F-6249-43E6-A663-E519353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4B7-E844-4E7D-A4F1-E24093C6EE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15-02-28T01:23:57Z</dcterms:modified>
  <cp:revision>24</cp:revision>
  <dc:subject/>
  <dc:title>幻灯片 1</dc:title>
</cp:coreProperties>
</file>