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13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1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4.gif" ContentType="image/gif"/>
  <Override PartName="/ppt/media/image1.jpeg" ContentType="image/jpeg"/>
  <Override PartName="/ppt/media/image7.png" ContentType="image/pn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1C72-A056-40FD-A001-1E77D7BA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EAB-4FEA-4798-80D2-557BF9EE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261-F337-4B27-8289-D1E9897E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79C-57DD-4FAC-B6B4-0B710F29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0D85-23D7-436C-BC22-E4405E21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A9CE-2782-44C8-B658-EC3B233E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2891-FC67-4BC4-8184-97F90DD8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6B56-DCE8-4185-ACF2-EB16F68A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7BC3-ECBE-4C99-9106-C3B65E06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A669-FF92-40F4-945B-23E231CB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7AC4-CAF7-4384-B30E-0997B672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373-30EF-47A5-AD7C-E318A047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64A4-E7DA-4415-8BD6-04BED0ED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7B12-9D2F-4B68-AC69-5518105C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72B7-2CD4-4C3F-853B-9A475254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1887-B4BC-48FE-9B47-F768D4D4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E99C-0383-40F2-AA98-72168769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194A-D1A6-48E1-8834-2E20ADBF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A7D-0C9B-4440-BF85-58BF9002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55BA-B369-436F-BD82-A1ADBF05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7E2-06E8-4BE2-B22B-76CE6C19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895-DB4A-4E42-804D-DDA90258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E24C-C973-4E6E-805D-88C43638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B17-1B8C-4B06-A8AB-EA33F820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9D16-28FD-42F0-9BAC-74CA64394AFF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A24D-8DBF-4CDB-B97E-3EA2D047DADB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ameqq.com/display.asp?id=9853" TargetMode="External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23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9600" y="3068640"/>
            <a:ext cx="8834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华文行楷"/>
                <a:ea typeface="华文行楷"/>
              </a:rPr>
              <a:t>第一节</a:t>
            </a: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</a:t>
            </a:r>
            <a:r>
              <a:rPr b="1" lang="zh-CN" sz="7200" spc="-1" strike="noStrike">
                <a:solidFill>
                  <a:srgbClr val="ff3300"/>
                </a:solidFill>
                <a:latin typeface="华文行楷"/>
                <a:ea typeface="华文行楷"/>
              </a:rPr>
              <a:t>生态</a:t>
            </a:r>
            <a:r>
              <a:rPr b="1" lang="zh-CN" sz="5400" spc="-1" strike="noStrike">
                <a:solidFill>
                  <a:srgbClr val="ff3300"/>
                </a:solidFill>
                <a:latin typeface="华文行楷"/>
                <a:ea typeface="华文行楷"/>
              </a:rPr>
              <a:t>系统的组成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71640" y="549360"/>
            <a:ext cx="41907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第二十五章  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1052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"/>
              </a:rPr>
              <a:t>同学分小组合作完成学案上的探究一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1320" y="3933720"/>
            <a:ext cx="264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友情提醒：谁吃谁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"/>
              </a:rPr>
              <a:t>吃草的有：鼠、兔、鸟、 蝗虫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"/>
              </a:rPr>
              <a:t>鹰吃的有：蛇、鼠、兔、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"/>
              </a:rPr>
              <a:t>蛇吃的有：鼠、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15960" y="4046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试一试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170028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画食物链的原则：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"/>
              </a:rPr>
              <a:t>、起点必须从绿色植物开始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"/>
              </a:rPr>
              <a:t>、箭头的指向是被取食者指向取者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"/>
              </a:rPr>
              <a:t>、符合取食关系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9480" y="156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4360" y="1268280"/>
          <a:ext cx="7149600" cy="4903920"/>
        </p:xfrm>
        <a:graphic>
          <a:graphicData uri="http://schemas.openxmlformats.org/drawingml/2006/table">
            <a:tbl>
              <a:tblPr/>
              <a:tblGrid>
                <a:gridCol w="905040"/>
                <a:gridCol w="624456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、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草→鼠→蛇 →鹰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、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草→鼠 →鹰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、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草→兔 →鹰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、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草→鸟 →蛇 →鹰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、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草→ 鸟→鹰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、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草→蝗虫 →鸟 →蛇 →鹰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、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草→蝗虫 →鸟 →鹰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 txBox="1"/>
          <p:nvPr/>
        </p:nvSpPr>
        <p:spPr>
          <a:xfrm>
            <a:off x="1763640" y="260280"/>
            <a:ext cx="30481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"/>
              </a:rPr>
              <a:t>你写对了吗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900000" y="249120"/>
            <a:ext cx="5566320" cy="6612480"/>
            <a:chOff x="900000" y="249120"/>
            <a:chExt cx="5566320" cy="6612480"/>
          </a:xfrm>
        </p:grpSpPr>
        <p:grpSp>
          <p:nvGrpSpPr>
            <p:cNvPr id="136" name=""/>
            <p:cNvGrpSpPr/>
            <p:nvPr/>
          </p:nvGrpSpPr>
          <p:grpSpPr>
            <a:xfrm>
              <a:off x="900000" y="249120"/>
              <a:ext cx="4848840" cy="6598080"/>
              <a:chOff x="900000" y="249120"/>
              <a:chExt cx="4848840" cy="65980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900000" y="249120"/>
                <a:ext cx="4848840" cy="6598080"/>
                <a:chOff x="900000" y="249120"/>
                <a:chExt cx="4848840" cy="6598080"/>
              </a:xfrm>
            </p:grpSpPr>
            <p:pic>
              <p:nvPicPr>
                <p:cNvPr id="13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00000" y="249120"/>
                  <a:ext cx="4848840" cy="6598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>
                  <a:off x="2880000" y="5815080"/>
                  <a:ext cx="1090800" cy="442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617360" y="2939760"/>
                  <a:ext cx="1090800" cy="442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607200" y="1170360"/>
                  <a:ext cx="1090800" cy="442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132440" y="4414320"/>
                  <a:ext cx="1090800" cy="442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900000" y="6036120"/>
                  <a:ext cx="807840" cy="442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788840" y="1834200"/>
                <a:ext cx="282600" cy="22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960640" y="4561560"/>
                <a:ext cx="282600" cy="294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3122280" y="3307680"/>
                <a:ext cx="282600" cy="294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5080" y="1170360"/>
              <a:ext cx="18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（富集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833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万倍）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02760" y="4488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小鱼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39240" y="6036120"/>
              <a:ext cx="84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浮游生物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37240" y="293976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（富集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66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万倍）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31240" y="441432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（富集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17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万倍）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97800" y="5962320"/>
              <a:ext cx="18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（富集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1. 3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万倍）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27320" y="3234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大鱼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50600" y="139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鹰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828800" y="182880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2708280"/>
            <a:ext cx="2698920" cy="1590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072200" y="228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443640" y="981000"/>
            <a:ext cx="2519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生物从周围环境中吸收并积累某种物质，使生物体内该物质的浓度不断增加的现象就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生物富集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3920" y="453564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DDT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杀虫剂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771280" y="2924280"/>
            <a:ext cx="863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4360" y="1052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人类的活动会对生态系统造成一定的破坏，而一旦生态系统被破坏了，最终受害的还是人类自己！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3645000"/>
            <a:ext cx="792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保护生态     人人有责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4360" y="1197000"/>
            <a:ext cx="813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以小组为单位，共同学习课本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86--87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“生态系统的成分”的相关内容，结合学案上的“池塘生态系统”，完成探究三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讨论思考：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该生态系统中的成分有哪些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尝试用大括号的形式分类表示出来）       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各成分的作用是什么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各生物成分之间的关系如何？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444680" y="2142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合作学习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341360" cy="1371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187280" y="189000"/>
            <a:ext cx="6337440" cy="4824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55640" y="530064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水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二氧化碳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5589720"/>
            <a:ext cx="1150920" cy="0"/>
          </a:xfrm>
          <a:prstGeom prst="line">
            <a:avLst/>
          </a:prstGeom>
          <a:ln w="507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280" y="50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光照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73160" y="5300640"/>
            <a:ext cx="20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有机物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氧气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639000" y="1773360"/>
            <a:ext cx="1826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生  产  者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54160" y="1262880"/>
            <a:ext cx="10033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消  费  者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700360" y="333360"/>
            <a:ext cx="3213000" cy="2413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258920" y="3141720"/>
            <a:ext cx="3384360" cy="2314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4932360" y="3141720"/>
            <a:ext cx="3416400" cy="2344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230880" y="46224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草食动物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99680" y="558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肉食动物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28760" y="558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杂食动物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2520" y="759600"/>
            <a:ext cx="10033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分  解  者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63640" y="465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4941720"/>
            <a:ext cx="23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有机物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5300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5589720"/>
            <a:ext cx="23047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494172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无机物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1440" y="5013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腐生菌等分解者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00360" y="5589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动植物遗体）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25440" y="5589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二氧化碳和水）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1258920" y="0"/>
            <a:ext cx="64818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54880" y="925200"/>
            <a:ext cx="789840" cy="47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 能 判 断 吗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042920" y="907920"/>
            <a:ext cx="7129440" cy="4962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181760" y="5805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湖泊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84360" y="1890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是否是生态系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54880" y="925200"/>
            <a:ext cx="789840" cy="47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 能 判 断 吗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1042920" y="1197000"/>
            <a:ext cx="6913800" cy="4586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273560" y="5734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森林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84360" y="1890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是否是生态系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370440" y="907920"/>
            <a:ext cx="18262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看图片  猜俗语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332000" y="189000"/>
            <a:ext cx="7667640" cy="5627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50920" y="5734080"/>
            <a:ext cx="64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螳螂捕蝉    黄雀在后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54880" y="925200"/>
            <a:ext cx="789840" cy="47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 能 判 断 吗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332000" y="1052640"/>
            <a:ext cx="6912000" cy="4752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780000" y="5661000"/>
            <a:ext cx="17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草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1890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是否是生态系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4880" y="925200"/>
            <a:ext cx="789840" cy="47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 能 判 断 吗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1403280" y="1268280"/>
            <a:ext cx="6553440" cy="4321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759840" y="5589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花坛里的花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40000" y="333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是否是生态系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54880" y="925200"/>
            <a:ext cx="789840" cy="47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 能 判 断 吗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1403280" y="1052640"/>
            <a:ext cx="6624720" cy="4465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273560" y="5589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地球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84360" y="1890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是否是生态系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99240" y="925200"/>
            <a:ext cx="789840" cy="47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 能 判 断 吗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547640" y="1268280"/>
            <a:ext cx="6337440" cy="4314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059280" y="55897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天空中的鸽子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4360" y="404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是否是生态系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54880" y="925200"/>
            <a:ext cx="789840" cy="47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 能 判 断 吗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59280" y="57340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校  园  一  角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042920" y="836640"/>
            <a:ext cx="7056360" cy="48974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484360" y="1890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是否是生态系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54880" y="925200"/>
            <a:ext cx="789840" cy="47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 能 判 断 吗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16360" y="5805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校   园   一   角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1332000" y="907920"/>
            <a:ext cx="7127640" cy="49881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484360" y="1890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是否是生态系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54880" y="925200"/>
            <a:ext cx="789840" cy="47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 能 判 断 吗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3640" y="5516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蔚蓝的天空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84360" y="1890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是否是生态系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1258920" y="878040"/>
            <a:ext cx="6697800" cy="4678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223440" y="1773360"/>
            <a:ext cx="2741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华文行楷"/>
              </a:rPr>
              <a:t>在一定的区域里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生物与环境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华文行楷"/>
              </a:rPr>
              <a:t>相互作用所形成的统一整体，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华文行楷"/>
              </a:rPr>
              <a:t>叫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生态系统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华文行楷"/>
              </a:rPr>
              <a:t>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9640" y="549360"/>
            <a:ext cx="30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你掌握了吗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62560" y="1628640"/>
            <a:ext cx="429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什么是生态系统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生态系统的成分有哪些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各成分的作用分别是什么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它们的关系是怎样的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你会解释生物富集现象吗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你会写食物链吗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370440" y="907920"/>
            <a:ext cx="18262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看图片  猜俗语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21421" t="-1313" r="0" b="0"/>
          <a:stretch/>
        </p:blipFill>
        <p:spPr>
          <a:xfrm>
            <a:off x="1403280" y="189000"/>
            <a:ext cx="7345440" cy="5472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04400" y="5661000"/>
            <a:ext cx="442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大鱼吃小鱼  小鱼吃虾米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03000" y="1197000"/>
            <a:ext cx="420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楷体"/>
              </a:rPr>
              <a:t>生物之间通过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取食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楷体"/>
              </a:rPr>
              <a:t>的关系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楷体"/>
              </a:rPr>
              <a:t>而互相联系形成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食物链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403000" y="1197000"/>
            <a:ext cx="420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楷体"/>
              </a:rPr>
              <a:t>生物之间通过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取食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楷体"/>
              </a:rPr>
              <a:t>的关系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楷体"/>
              </a:rPr>
              <a:t>而互相联系形成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食物链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47640" y="3213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表示方法：用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3573360"/>
            <a:ext cx="1008000" cy="0"/>
          </a:xfrm>
          <a:prstGeom prst="line">
            <a:avLst/>
          </a:prstGeom>
          <a:ln w="6660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90280" y="3213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来表示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rcRect l="21421" t="-1313" r="0" b="0"/>
          <a:stretch/>
        </p:blipFill>
        <p:spPr>
          <a:xfrm>
            <a:off x="611280" y="189000"/>
            <a:ext cx="8137440" cy="5256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040" y="5661000"/>
            <a:ext cx="314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虾米     小鱼     大鱼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6021360"/>
            <a:ext cx="64944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80360" y="6021360"/>
            <a:ext cx="64764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82080" y="566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浮游动物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6021360"/>
            <a:ext cx="50508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79640" y="6021360"/>
            <a:ext cx="50328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440" y="566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浮游植物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497800" cy="5438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588000" y="602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840" y="386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497800" cy="5438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835280" y="5589720"/>
            <a:ext cx="662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蝉          螳螂          黄雀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602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7840" y="386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64000" y="6021360"/>
            <a:ext cx="108108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6000" y="6021360"/>
            <a:ext cx="107964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6021360"/>
            <a:ext cx="79200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13040" y="573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树叶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15480" y="1700280"/>
            <a:ext cx="23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画食物链的原则：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"/>
              </a:rPr>
              <a:t>、起点必须从绿色植物开始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"/>
              </a:rPr>
              <a:t>、箭头的指向是被取食者指向取食者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"/>
              </a:rPr>
              <a:t>、符合取食关系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3352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6089760"/>
            <a:ext cx="9220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02:30:48Z</dcterms:created>
  <dc:creator>feng</dc:creator>
  <dc:description/>
  <dc:language>en-US</dc:language>
  <cp:lastModifiedBy>windows8</cp:lastModifiedBy>
  <dcterms:modified xsi:type="dcterms:W3CDTF">2013-04-22T11:48:49Z</dcterms:modified>
  <cp:revision>45</cp:revision>
  <dc:subject/>
  <dc:title>PowerPoint 演示文稿</dc:title>
</cp:coreProperties>
</file>