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laser.wav" ContentType="audio/x-wav"/>
  <Override PartName="/ppt/media/image4.jpeg" ContentType="image/jpeg"/>
  <Override PartName="/ppt/media/chimes.wav" ContentType="audio/x-wav"/>
  <Override PartName="/ppt/media/image6.jpeg" ContentType="image/jpeg"/>
  <Override PartName="/ppt/media/image16.gif" ContentType="image/gif"/>
  <Override PartName="/ppt/media/image8.png" ContentType="image/png"/>
  <Override PartName="/ppt/media/image14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D556-E7D6-484E-A55A-EFA6D8617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D75C-3144-4596-8E68-CD15D3327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680-F574-4BB3-8BB8-05E15155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2FA-E751-4711-9DFF-5DA24CEA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382-8A11-4A13-8683-821D8DD0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8CE-3997-4BF1-BA9E-9D37FBEE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7F7-2D9E-4B8D-A7FF-3468DAC8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7E9-7C92-463C-B773-1BD97AC1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391-1AD9-4A0C-A5A0-E7636FF7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3A6-E9FE-486B-97B3-D61DD12A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D0E-C253-4C3C-9A5D-2E3A145B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EE8-5E87-40B5-8E8C-9E70DD87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DA7-DD0F-4CA6-945F-4E87AAEC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677-15F3-4521-AD94-7300F77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215-D7C2-4281-B897-57AE8C7A7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6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laser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隶书"/>
              </a:rPr>
              <a:t>光临指导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隶书"/>
              </a:rPr>
              <a:t>欢迎各位老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tr04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6788160" y="4653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清澈的潭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84720" y="6338880"/>
            <a:ext cx="305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587700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宁静的林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ree">
            <a:hlinkClick r:id="rId2" action="ppaction://hlinksldjump"/>
          </p:cNvPr>
          <p:cNvSpPr/>
          <p:nvPr/>
        </p:nvSpPr>
        <p:spPr>
          <a:xfrm>
            <a:off x="8269200" y="5950080"/>
            <a:ext cx="874800" cy="6206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0320" y="0"/>
            <a:ext cx="9013680" cy="6669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5516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厚密的青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ree">
            <a:hlinkClick r:id="rId2" action="ppaction://hlinksldjump"/>
          </p:cNvPr>
          <p:cNvSpPr/>
          <p:nvPr/>
        </p:nvSpPr>
        <p:spPr>
          <a:xfrm>
            <a:off x="7885080" y="5877000"/>
            <a:ext cx="874800" cy="6206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jsk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356000" y="83664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无边的森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-2766960" y="-681120"/>
            <a:ext cx="6846840" cy="7539120"/>
            <a:chOff x="-2766960" y="-681120"/>
            <a:chExt cx="6846840" cy="7539120"/>
          </a:xfrm>
        </p:grpSpPr>
        <p:sp>
          <p:nvSpPr>
            <p:cNvPr id="130" name="Rectangle 3"/>
            <p:cNvSpPr/>
            <p:nvPr/>
          </p:nvSpPr>
          <p:spPr>
            <a:xfrm>
              <a:off x="-2766960" y="-681120"/>
              <a:ext cx="5308200" cy="75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-2766960" y="-681120"/>
              <a:ext cx="6846840" cy="6450840"/>
              <a:chOff x="-2766960" y="-681120"/>
              <a:chExt cx="6846840" cy="6450840"/>
            </a:xfrm>
          </p:grpSpPr>
          <p:sp>
            <p:nvSpPr>
              <p:cNvPr id="132" name="Rectangle 5"/>
              <p:cNvSpPr/>
              <p:nvPr/>
            </p:nvSpPr>
            <p:spPr>
              <a:xfrm>
                <a:off x="-2766960" y="-681120"/>
                <a:ext cx="5308200" cy="64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6"/>
              <p:cNvSpPr/>
              <p:nvPr/>
            </p:nvSpPr>
            <p:spPr>
              <a:xfrm>
                <a:off x="-2766960" y="-681120"/>
                <a:ext cx="6846840" cy="41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7"/>
          <p:cNvSpPr/>
          <p:nvPr/>
        </p:nvSpPr>
        <p:spPr>
          <a:xfrm>
            <a:off x="7956720" y="765000"/>
            <a:ext cx="549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F:\4.4\十八、阿里山记行\图片\神木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43800" y="1951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古老的神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71360" y="2819520"/>
            <a:ext cx="152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风光美如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>
            <a:hlinkClick r:id="rId1" action="ppaction://hlinksldjump"/>
          </p:cNvPr>
          <p:cNvSpPr/>
          <p:nvPr/>
        </p:nvSpPr>
        <p:spPr>
          <a:xfrm>
            <a:off x="1692360" y="3860640"/>
            <a:ext cx="1008000" cy="486000"/>
          </a:xfrm>
          <a:prstGeom prst="rightArrow">
            <a:avLst>
              <a:gd name="adj1" fmla="val 50000"/>
              <a:gd name="adj2" fmla="val 518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2743200" y="2781360"/>
            <a:ext cx="100080" cy="3162240"/>
          </a:xfrm>
          <a:custGeom>
            <a:avLst/>
            <a:gdLst>
              <a:gd name="textAreaLeft" fmla="*/ 64080 w 100080"/>
              <a:gd name="textAreaRight" fmla="*/ 100440 w 100080"/>
              <a:gd name="textAreaTop" fmla="*/ 82440 h 3162240"/>
              <a:gd name="textAreaBottom" fmla="*/ 3079800 h 316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379680" y="3200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Tahoma"/>
              </a:rPr>
              <a:t>宁静的林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379680" y="2438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Tahoma"/>
              </a:rPr>
              <a:t>清澈的潭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819520" y="45720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Tahoma"/>
              </a:rPr>
              <a:t>无边的森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3379680" y="3809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Tahoma"/>
              </a:rPr>
              <a:t>厚密的青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455280" y="5410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Tahoma"/>
              </a:rPr>
              <a:t>古老的神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5715000" y="3809880"/>
            <a:ext cx="990720" cy="486000"/>
          </a:xfrm>
          <a:prstGeom prst="rightArrow">
            <a:avLst>
              <a:gd name="adj1" fmla="val 50000"/>
              <a:gd name="adj2" fmla="val 509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6629400" y="32767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7113600" y="274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爱我河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7113600" y="4267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爱我中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1800000" y="3048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ahoma"/>
              </a:rPr>
              <a:t>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828400" y="29718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2484360" y="76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写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44035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融情于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z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3341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43000" y="18288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本文的语言典雅、凝练、和谐，具有音乐美和情韵美，请从文中找出几例，谈谈你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295280" y="99072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谈一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云海中的阿里山1"/>
          <p:cNvPicPr/>
          <p:nvPr/>
        </p:nvPicPr>
        <p:blipFill>
          <a:blip r:embed="rId1"/>
          <a:stretch/>
        </p:blipFill>
        <p:spPr>
          <a:xfrm>
            <a:off x="-828720" y="0"/>
            <a:ext cx="10431360" cy="6784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52360" y="1054080"/>
            <a:ext cx="936468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本文的语言典雅、凝练、和谐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请同学们阅读课文所描绘的景点的段落，看看有哪些让你怦然心动的词句，划一划、读一读、赏一赏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温馨提示：</a:t>
            </a:r>
            <a:br>
              <a:rPr sz="28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词语美：（拟声词、叠词、动词、形容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修辞美：（比喻、排比、反复、对偶、引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节奏美：（整句和散句、长句和短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466640" y="333360"/>
            <a:ext cx="729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谈一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909720"/>
            <a:ext cx="882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森林恰似一片汪洋，无边无际。树木姿态各异，如幢顶，如伞盖，如古寺宝塔。它们排列整肃，如孙武之军阵、秦皇之兵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潭无鱼鳖，林无鸟兽，偶或有如蝉、如蝇、如蚊的声音，侧耳谛听、分辨、捕捉，却又没有了。那是静谧的世界、净洁的世界，甚至可以说是禅的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拔地参天，八面威风，雄踞山间，无可匹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200212516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179280" y="981000"/>
            <a:ext cx="894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作者给我们描绘美如画的风光。请你仿照老师的示例也来绘绘你喜欢的“一幅画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阿里山的风光美如画，你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这是一幅林海云雾画。那森林似汪洋，茂茂密密；山上云雾浓稠，树干都湿漉漉的，已不知多少年浸在山间雾气中，人走其中，真有“入云深处亦沾衣”的感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67560" y="-46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请你说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914400" y="4762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16000" y="2133720"/>
            <a:ext cx="720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77200" y="105264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课文开头陈述两岸人民各自喜欢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歌曲，表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58920" y="2997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明两岸人民的心是想通的，期盼祖国早日统一，台湾早日回到祖国的怀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02000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2014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260880" y="398304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77080" y="189000"/>
            <a:ext cx="1798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方正舒体"/>
                <a:ea typeface="方正舒体"/>
              </a:rPr>
              <a:t>阿里山纪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261760" y="4508640"/>
            <a:ext cx="1399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吴功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5373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4880" y="2924280"/>
            <a:ext cx="5461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武进区奔牛初级中学周洪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9230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阿里山如一首含蓄隽永的诗，如一杯甘甜的酒，如一幅优美的画，如一首动听的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什么时候，我们也能去看看那拔地参天的神木，去感受那一碧万顷的林海，去领略那清澈透明的潭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让我们共同期盼台湾早日回到祖国的怀抱！早日走进阿里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247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250177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914400" y="4762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116000" y="2133720"/>
            <a:ext cx="720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45280" y="105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2997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优美而生动的语言描绘家乡的一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阿里山"/>
          <p:cNvPicPr/>
          <p:nvPr/>
        </p:nvPicPr>
        <p:blipFill>
          <a:blip r:embed="rId1"/>
          <a:stretch/>
        </p:blipFill>
        <p:spPr>
          <a:xfrm>
            <a:off x="250920" y="0"/>
            <a:ext cx="4825800" cy="1916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410080" y="189000"/>
            <a:ext cx="37339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 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阿里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ff00"/>
                </a:solidFill>
                <a:uFillTx/>
                <a:latin typeface="Times New Roman"/>
                <a:ea typeface="幼圆"/>
              </a:rPr>
              <a:t> 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幼圆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47640" y="2073240"/>
            <a:ext cx="6782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  <a:ea typeface="幼圆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阿里山  位于台湾嘉义县东北，是大武峦山、尖山、祝山、塔山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座山峦的总称。 最高峰为大塔山，海拔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66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东距台湾最高峰玉山（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99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）甚近。阿 里山风景区面积约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7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公顷，是台湾著名的天然森林公园和旅游胜地。阿里山的森林、云海和日出，誉称三大奇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1928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云海中的阿里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0" y="90792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要求：读准字音、读得流畅。边读边划出表示作者地点转化的语句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后完成下面的一个小活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 flipV="1">
            <a:off x="762120" y="4038120"/>
            <a:ext cx="6762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666880" y="457200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朗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0415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9640" y="1413000"/>
            <a:ext cx="78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隶书"/>
              </a:rPr>
              <a:t>假如你是吴功正先生阿里山之行的导游，你将如何介绍今天的行程？请快速浏览课文，参照标明作者行踪的语句，填写完善下列解说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95280" y="3860640"/>
            <a:ext cx="815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0920" y="189000"/>
            <a:ext cx="297180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语文活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24000" y="4221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温馨提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注意安排好说话的顺序。还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啊，千万别忘了你是导游，要注意语态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礼貌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022165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228600" y="26028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大家好！非常高兴，今天由我带领大家一起游览阿里山，宴会结束后，我们将从</a:t>
            </a:r>
            <a:r>
              <a:rPr b="1" lang="zh-CN" sz="36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（              ）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乘飞机到达中部城市</a:t>
            </a:r>
            <a:r>
              <a:rPr b="1" lang="en-US" sz="36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(    )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然后改乘</a:t>
            </a:r>
            <a:r>
              <a:rPr b="1" lang="en-US" sz="36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(          )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进山，经过</a:t>
            </a:r>
            <a:r>
              <a:rPr b="1" lang="en-US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个小时的运行后我们会到达 </a:t>
            </a:r>
            <a:r>
              <a:rPr b="1" lang="en-US" sz="36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(         )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从这里开始我们需要步行上山，穿过一片</a:t>
            </a:r>
            <a:r>
              <a:rPr b="1" lang="zh-CN" sz="36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（    ）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我们会看到</a:t>
            </a:r>
            <a:r>
              <a:rPr b="1" lang="zh-CN" sz="36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（      ）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迈过</a:t>
            </a:r>
            <a:r>
              <a:rPr b="1" lang="zh-CN" sz="36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（       ）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间的</a:t>
            </a:r>
            <a:r>
              <a:rPr b="1" lang="zh-CN" sz="36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（       ）</a:t>
            </a:r>
            <a:r>
              <a:rPr b="1" lang="zh-CN" sz="3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最终将会欣赏到阿里山的标志和灵魂</a:t>
            </a:r>
            <a:r>
              <a:rPr b="1" lang="en-US" sz="3600" spc="-1" strike="noStrike">
                <a:solidFill>
                  <a:srgbClr val="663300"/>
                </a:solidFill>
                <a:latin typeface="宋体"/>
                <a:ea typeface="楷体_GB2312"/>
              </a:rPr>
              <a:t>——</a:t>
            </a:r>
            <a:r>
              <a:rPr b="1" lang="en-US" sz="36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(     )</a:t>
            </a:r>
            <a:r>
              <a:rPr b="1" lang="en-US" sz="3600" spc="-1" strike="noStrike">
                <a:solidFill>
                  <a:srgbClr val="663300"/>
                </a:solidFill>
                <a:latin typeface="宋体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4720" y="198900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森林小火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826920" y="141300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台北的松山机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39640" y="1916280"/>
            <a:ext cx="12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嘉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55640" y="3068640"/>
            <a:ext cx="19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阿里山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348000" y="357336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林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84360" y="4149720"/>
            <a:ext cx="16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姊妹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4284720" y="414972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原始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755640" y="4797360"/>
            <a:ext cx="18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曲径幽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3419640" y="52293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神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5400000">
            <a:off x="-190440" y="1309680"/>
            <a:ext cx="105264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隶书"/>
              </a:rPr>
              <a:t>松山机场</a:t>
            </a:r>
            <a:endParaRPr b="1" i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84600" y="3018600"/>
            <a:ext cx="727200" cy="3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b2b2b2">
                      <a:alpha val="77000"/>
                    </a:srgbClr>
                  </a:outerShdw>
                </a:effectLst>
                <a:latin typeface="隶书"/>
              </a:rPr>
              <a:t>嘉义</a:t>
            </a:r>
            <a:endParaRPr b="1" i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b2b2b2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69880" y="3860640"/>
            <a:ext cx="100836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阿里山站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8240" y="4437000"/>
            <a:ext cx="68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进山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9280" y="3284640"/>
            <a:ext cx="144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曲径幽路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02600" y="2708280"/>
            <a:ext cx="7984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神木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30600" y="4797360"/>
            <a:ext cx="17334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深山水潭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40360" y="4076640"/>
            <a:ext cx="122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森林无边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1" name=""/>
          <p:cNvSpPr/>
          <p:nvPr/>
        </p:nvSpPr>
        <p:spPr>
          <a:xfrm>
            <a:off x="388800" y="2060640"/>
            <a:ext cx="71640" cy="863640"/>
          </a:xfrm>
          <a:prstGeom prst="downArrow">
            <a:avLst>
              <a:gd name="adj1" fmla="val 50000"/>
              <a:gd name="adj2" fmla="val 301382"/>
            </a:avLst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800" y="3573360"/>
            <a:ext cx="79560" cy="790560"/>
          </a:xfrm>
          <a:prstGeom prst="downArrow">
            <a:avLst>
              <a:gd name="adj1" fmla="val 50000"/>
              <a:gd name="adj2" fmla="val 248416"/>
            </a:avLst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06000">
            <a:off x="873000" y="4441680"/>
            <a:ext cx="719280" cy="141480"/>
          </a:xfrm>
          <a:prstGeom prst="rightArrow">
            <a:avLst>
              <a:gd name="adj1" fmla="val 50000"/>
              <a:gd name="adj2" fmla="val 127099"/>
            </a:avLst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7494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506000">
            <a:off x="2406600" y="3789000"/>
            <a:ext cx="647640" cy="152280"/>
          </a:xfrm>
          <a:prstGeom prst="rightArrow">
            <a:avLst>
              <a:gd name="adj1" fmla="val 50000"/>
              <a:gd name="adj2" fmla="val 106324"/>
            </a:avLst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7494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805600">
            <a:off x="3364560" y="3939120"/>
            <a:ext cx="1006560" cy="166680"/>
          </a:xfrm>
          <a:prstGeom prst="rightArrow">
            <a:avLst>
              <a:gd name="adj1" fmla="val 50000"/>
              <a:gd name="adj2" fmla="val 150972"/>
            </a:avLst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2592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7448600">
            <a:off x="4957560" y="4254840"/>
            <a:ext cx="976320" cy="182520"/>
          </a:xfrm>
          <a:prstGeom prst="rightArrow">
            <a:avLst>
              <a:gd name="adj1" fmla="val 50000"/>
              <a:gd name="adj2" fmla="val 133728"/>
            </a:avLst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9552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248600">
            <a:off x="6725880" y="3644640"/>
            <a:ext cx="1049400" cy="228600"/>
          </a:xfrm>
          <a:prstGeom prst="rightArrow">
            <a:avLst>
              <a:gd name="adj1" fmla="val 50000"/>
              <a:gd name="adj2" fmla="val 114764"/>
            </a:avLst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7752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4960" y="3789360"/>
            <a:ext cx="576360" cy="720720"/>
          </a:xfrm>
          <a:custGeom>
            <a:avLst/>
            <a:gdLst>
              <a:gd name="textAreaLeft" fmla="*/ 238320 w 576360"/>
              <a:gd name="textAreaRight" fmla="*/ 338040 w 576360"/>
              <a:gd name="textAreaTop" fmla="*/ 298080 h 720720"/>
              <a:gd name="textAreaBottom" fmla="*/ 4226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37" y="8937"/>
                </a:lnTo>
                <a:lnTo>
                  <a:pt x="10800" y="0"/>
                </a:lnTo>
                <a:lnTo>
                  <a:pt x="12663" y="8937"/>
                </a:lnTo>
                <a:lnTo>
                  <a:pt x="21600" y="10800"/>
                </a:lnTo>
                <a:lnTo>
                  <a:pt x="12663" y="12663"/>
                </a:lnTo>
                <a:lnTo>
                  <a:pt x="10800" y="21600"/>
                </a:lnTo>
                <a:lnTo>
                  <a:pt x="8937" y="1266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b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73880" y="3141720"/>
            <a:ext cx="576360" cy="720720"/>
          </a:xfrm>
          <a:custGeom>
            <a:avLst/>
            <a:gdLst>
              <a:gd name="textAreaLeft" fmla="*/ 238320 w 576360"/>
              <a:gd name="textAreaRight" fmla="*/ 338040 w 576360"/>
              <a:gd name="textAreaTop" fmla="*/ 298080 h 720720"/>
              <a:gd name="textAreaBottom" fmla="*/ 4226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37" y="8937"/>
                </a:lnTo>
                <a:lnTo>
                  <a:pt x="10800" y="0"/>
                </a:lnTo>
                <a:lnTo>
                  <a:pt x="12663" y="8937"/>
                </a:lnTo>
                <a:lnTo>
                  <a:pt x="21600" y="10800"/>
                </a:lnTo>
                <a:lnTo>
                  <a:pt x="12663" y="12663"/>
                </a:lnTo>
                <a:lnTo>
                  <a:pt x="10800" y="21600"/>
                </a:lnTo>
                <a:lnTo>
                  <a:pt x="8937" y="1266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b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05160" y="4292640"/>
            <a:ext cx="576360" cy="720720"/>
          </a:xfrm>
          <a:custGeom>
            <a:avLst/>
            <a:gdLst>
              <a:gd name="textAreaLeft" fmla="*/ 238320 w 576360"/>
              <a:gd name="textAreaRight" fmla="*/ 338040 w 576360"/>
              <a:gd name="textAreaTop" fmla="*/ 298080 h 720720"/>
              <a:gd name="textAreaBottom" fmla="*/ 4226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37" y="8937"/>
                </a:lnTo>
                <a:lnTo>
                  <a:pt x="10800" y="0"/>
                </a:lnTo>
                <a:lnTo>
                  <a:pt x="12663" y="8937"/>
                </a:lnTo>
                <a:lnTo>
                  <a:pt x="21600" y="10800"/>
                </a:lnTo>
                <a:lnTo>
                  <a:pt x="12663" y="12663"/>
                </a:lnTo>
                <a:lnTo>
                  <a:pt x="10800" y="21600"/>
                </a:lnTo>
                <a:lnTo>
                  <a:pt x="8937" y="1266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b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78600" y="3500280"/>
            <a:ext cx="576360" cy="720720"/>
          </a:xfrm>
          <a:custGeom>
            <a:avLst/>
            <a:gdLst>
              <a:gd name="textAreaLeft" fmla="*/ 238320 w 576360"/>
              <a:gd name="textAreaRight" fmla="*/ 338040 w 576360"/>
              <a:gd name="textAreaTop" fmla="*/ 298080 h 720720"/>
              <a:gd name="textAreaBottom" fmla="*/ 4226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37" y="8937"/>
                </a:lnTo>
                <a:lnTo>
                  <a:pt x="10800" y="0"/>
                </a:lnTo>
                <a:lnTo>
                  <a:pt x="12663" y="8937"/>
                </a:lnTo>
                <a:lnTo>
                  <a:pt x="21600" y="10800"/>
                </a:lnTo>
                <a:lnTo>
                  <a:pt x="12663" y="12663"/>
                </a:lnTo>
                <a:lnTo>
                  <a:pt x="10800" y="21600"/>
                </a:lnTo>
                <a:lnTo>
                  <a:pt x="8937" y="1266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bf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38600" y="3068640"/>
            <a:ext cx="13683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峰回路转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3" name=""/>
          <p:cNvSpPr/>
          <p:nvPr/>
        </p:nvSpPr>
        <p:spPr>
          <a:xfrm rot="2805600">
            <a:off x="5701680" y="3877560"/>
            <a:ext cx="652320" cy="187200"/>
          </a:xfrm>
          <a:prstGeom prst="rightArrow">
            <a:avLst>
              <a:gd name="adj1" fmla="val 50000"/>
              <a:gd name="adj2" fmla="val 87115"/>
            </a:avLst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2592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60280"/>
            <a:ext cx="8964720" cy="131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作者边行边看边描写风光，这种不固定立足点和观察点，按时间顺序一边走一边看，把看到的不同景物依次描写下来。游记一般都采用这种方法，这种方法叫做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移步换景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云海中的阿里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1268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阿里山给作者的印象是什么？（可用文中的语句回答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666880" y="457200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957400" y="4484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901240" y="4038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ahoma"/>
                <a:ea typeface="华文行楷"/>
              </a:rPr>
              <a:t>风光美如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0" y="0"/>
            <a:ext cx="25909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Tahoma"/>
                <a:ea typeface="楷体_GB2312"/>
              </a:rPr>
              <a:t>请你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小组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060640"/>
            <a:ext cx="79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作者真正开始描写 阿里山的风景从哪一段开始 的？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文中描写了阿里山的哪些景色？各有什么特点？请你找出来说一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6:59:17Z</dcterms:created>
  <dc:creator>Administrator</dc:creator>
  <dc:description/>
  <cp:keywords/>
  <dc:language>en-US</dc:language>
  <cp:lastModifiedBy>微软用户</cp:lastModifiedBy>
  <dcterms:modified xsi:type="dcterms:W3CDTF">2012-12-20T23:58:52Z</dcterms:modified>
  <cp:revision>1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