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573-ED16-4E96-948F-A052B56D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CA4-075B-465E-8212-3A19AFFB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DC5-3C91-48D8-92F2-05F875C4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F6A-71AB-46F9-A6BA-CA1F7368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5C7-FEB9-4534-88F3-FA1EEDE6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F61-A21A-4819-88EC-082D0246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BC3-D451-4697-AFE3-E605F5B4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A0F-1161-4BBF-A11E-9DE14458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935-ED77-432A-9FD8-53E24DD1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763-7263-4A17-98C5-E206F950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CF9-1889-4563-B524-7AD6D461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405A-CD17-42A2-B2B1-C3AA8168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5F98-34A8-4AF3-A11D-C6C6BA3697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ijiang7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7400" y="12952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与朱元思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38680" y="31240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吴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5805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奔牛初中初三语文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76320"/>
            <a:ext cx="3657600" cy="60948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吟诵体会－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语言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838080"/>
            <a:ext cx="83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１、请谈谈你朗读本文时感觉文章的语言有何特点，并举例加以说明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9480" y="2057400"/>
            <a:ext cx="495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国维说；一代有一代之文学，楚之骚、汉之赋、六朝之骈语、唐之诗、宋之词……《与朱元思书》是南北朝时期流传下来的骈文精品，它拥有骈文的形式美，却没有一般骈文的弊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句式整齐，琅琅上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散相间，参差错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象生动，文字精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76320"/>
            <a:ext cx="3657600" cy="60948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体会感受－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情趣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676680" cy="6019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" y="1066680"/>
            <a:ext cx="458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作者面对这“天下独绝”的“奇山异水”时流露出一种怎样的情感和志趣？请从文中找出相关语句，并加以简要的分析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4520" y="3672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向往自然，厌弃尘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76320"/>
            <a:ext cx="2209680" cy="60948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课后作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i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21906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准确背诵并默写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背诵《答谢中书》（必背古诗文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6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篇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p9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感受同时期的骈文之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24816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371600" y="2514600"/>
            <a:ext cx="47520" cy="47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00040" y="2514600"/>
            <a:ext cx="47880" cy="47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362320" y="4243320"/>
            <a:ext cx="4952880" cy="328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806480" y="4508640"/>
            <a:ext cx="85680" cy="33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806480" y="4475160"/>
            <a:ext cx="85680" cy="33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-76320" y="2057400"/>
            <a:ext cx="9296640" cy="3962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1620720" y="2662200"/>
            <a:ext cx="6174000" cy="379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1824120" y="3132000"/>
            <a:ext cx="77760" cy="1409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2706840" y="4624560"/>
            <a:ext cx="4214520" cy="320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1"/>
          <a:stretch/>
        </p:blipFill>
        <p:spPr>
          <a:xfrm>
            <a:off x="1866960" y="3132000"/>
            <a:ext cx="25200" cy="33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2"/>
          <a:stretch/>
        </p:blipFill>
        <p:spPr>
          <a:xfrm>
            <a:off x="1824120" y="3132000"/>
            <a:ext cx="25200" cy="33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316600" y="25732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舒体"/>
              </a:rPr>
              <a:t>鸢飞戾天者，望峰息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28080" y="4525920"/>
            <a:ext cx="7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经纶世务者，窥谷忘反 。</a:t>
            </a:r>
            <a:r>
              <a:rPr b="1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1362240" y="3971880"/>
            <a:ext cx="85680" cy="66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>
            <a:off x="1905120" y="3124080"/>
            <a:ext cx="5562360" cy="1371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54720" y="56196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感谢各位领导、老师莅临指导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12536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吴均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南朝文学家、史学家。字叔庠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x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ng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）。他的文章善于写景，尤其擅长小品书信，文辞清拔有古气，人称“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  <a:ea typeface="黑体"/>
              </a:rPr>
              <a:t>吴均体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505320"/>
            <a:ext cx="78483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书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书信，一种文体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本文是一篇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(pi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n)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体文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，讲究对仗和声律，全篇以双句（俪句、偶句）为主，少用散句。其以四字六字相间定句，也称“四六文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260280"/>
            <a:ext cx="46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简介作者及标题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62120" y="990720"/>
              <a:ext cx="800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、朗读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本篇课文，要注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05120" y="1905120"/>
              <a:ext cx="1600200" cy="45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重音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节奏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c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语速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d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情感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－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80880" y="0"/>
            <a:ext cx="3429000" cy="83808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读课文，感受音韵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47440" y="1905120"/>
            <a:ext cx="32346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急湍甚箭，猛浪若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1200" spc="-1" strike="noStrike">
                <a:solidFill>
                  <a:srgbClr val="ff33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2819520"/>
            <a:ext cx="368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“二二”节拍为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风烟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俱净，天山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62320" y="41911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应慢一些，以便品味、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3880" y="5410080"/>
            <a:ext cx="5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流露出由衷赞叹、无比向往之情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76320"/>
            <a:ext cx="1828800" cy="60948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朗读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0160" y="1006560"/>
            <a:ext cx="234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请仔细听录音示范朗读，着重体会其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重音、节奏、语速、情感的处理 。边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用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划分节奏。</a:t>
            </a:r>
            <a:r>
              <a:rPr b="1" i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38320" y="2666880"/>
            <a:ext cx="6867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356000" y="838080"/>
            <a:ext cx="4788000" cy="33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风烟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俱净，天山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共色。从流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飘荡，任意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东西。自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富阳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至桐庐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百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许里，奇山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异水，天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皆缥碧，千丈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见底；游鱼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细石，直视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无碍。急湍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甚箭，猛浪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若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夹岸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高山，皆生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寒树。负势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竞上，互相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轩邈；争高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直指，千百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峰。泉水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激石，泠泠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作响。好鸟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相鸣，嘤嘤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韵。蝉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则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千转不穷，猿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则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百叫无绝。鸢飞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戾天者，望峰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息心；经纶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世务者，窥谷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忘反。横柯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蔽，在昼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犹昏；疏条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交映，有时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见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隶书"/>
              </a:rPr>
              <a:t>与朱元思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172360" y="631836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下一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800280"/>
            <a:ext cx="4035240" cy="57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0"/>
            <a:ext cx="6476760" cy="9144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读课文 用散文化的语言翻译 感受景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26844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生在预习的基础上，小组合作，解决疑难，准备五分钟，老师巡视帮助有困难的同学或小组。班内分成两大组，抽测自主翻译的水平（各三条）。同时检测同学对文言字词特殊句式的掌握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4038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30592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通假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词类活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一词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省略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214200" y="-12600"/>
            <a:ext cx="61545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少儿简体"/>
              </a:rPr>
              <a:t>文言翻译要求：信达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24000" y="609480"/>
            <a:ext cx="201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窥谷忘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千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不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609480"/>
            <a:ext cx="37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反”通“返”，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转”通“啭”，鸟叫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2349360"/>
            <a:ext cx="6732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风烟俱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消净、消散，形作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互相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轩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比高远，名作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40384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下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绝妙），百叫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停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势竞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向上），横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蔽（在上面）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1440" y="520704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7453440" y="62373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下一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33412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急湍甚（于）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76320"/>
            <a:ext cx="3657600" cy="60948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赏析品味－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意境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80880" y="950760"/>
            <a:ext cx="8534520" cy="4992840"/>
            <a:chOff x="380880" y="950760"/>
            <a:chExt cx="8534520" cy="499284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257800" y="1905120"/>
              <a:ext cx="304812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990720" y="1905120"/>
              <a:ext cx="304776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80880" y="950760"/>
              <a:ext cx="85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１、请结合文中描写 “水”的语句思考：文章抓住“异”字突出写了“水”的哪些特征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625400" y="2181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缥碧－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95240" y="4191120"/>
            <a:ext cx="101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湍 －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20920" y="6072120"/>
            <a:ext cx="21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60958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95240" y="51814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浪 －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60958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壮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27920" y="604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秀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25400" y="2638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千丈－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38000" y="3095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见底－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01720" y="35528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游鱼－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97000" y="2179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97000" y="2638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97000" y="3063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97000" y="3552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9080" y="4419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16360" y="5135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2590920" cy="3962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248520" y="2286000"/>
            <a:ext cx="2590560" cy="3657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76720" y="2286000"/>
            <a:ext cx="2590560" cy="365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9507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２、请结合文中描写 “山”的语句思考：文章从那几个角度突出描写山的特征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出山的哪些特征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97000" y="59878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山之形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66640" y="5638680"/>
            <a:ext cx="106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山之声</a:t>
            </a:r>
            <a:r>
              <a:rPr b="1" i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62120" y="5911920"/>
            <a:ext cx="10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山之色</a:t>
            </a:r>
            <a:r>
              <a:rPr b="1" i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76320"/>
            <a:ext cx="3657600" cy="60948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赏析品味－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意境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04T06:21:50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