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explode.wav" ContentType="audio/x-wav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AB4-81AF-4330-B39A-9FD68CD0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12D-8F1A-4260-AEB5-478AE02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C33-AF31-4D13-B644-043AA0DF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518-6A27-472C-B54C-5CDB9685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661-0FA5-4EA3-8F0D-9C960BAF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270-9ACC-4989-B22D-79444850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238-2BC0-416D-9C05-8DB37C24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480-35B8-4918-90DE-77430B01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475-E3D6-44A2-AB73-25208AFA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D42-2747-4A2F-950F-DCF3821D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7B5-D7BF-49B8-B654-243601A8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3F7-9BD2-4994-9101-6EAE53D3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2B4A-FE6F-495D-9045-2006A3EFEF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24320;&#27700;&#20013;&#30333;&#30967;&#29123;&#28903;AVI.avi" TargetMode="External"/><Relationship Id="rId3" Type="http://schemas.openxmlformats.org/officeDocument/2006/relationships/image" Target="../media/image10.jpeg"/><Relationship Id="rId4" Type="http://schemas.openxmlformats.org/officeDocument/2006/relationships/hyperlink" Target="file:///p4.flv" TargetMode="External"/><Relationship Id="rId5" Type="http://schemas.openxmlformats.org/officeDocument/2006/relationships/hyperlink" Target="file:///p4.flv" TargetMode="External"/><Relationship Id="rId6" Type="http://schemas.openxmlformats.org/officeDocument/2006/relationships/hyperlink" Target="file:///&#24320;&#27700;&#20013;&#30333;&#30967;&#29123;&#28903;AVI.avi" TargetMode="External"/><Relationship Id="rId7" Type="http://schemas.openxmlformats.org/officeDocument/2006/relationships/hyperlink" Target="file:///&#24320;&#27700;&#20013;&#30333;&#30967;&#29123;&#28903;AVI.avi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8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907920"/>
            <a:ext cx="6983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欢迎来到神奇的</a:t>
            </a:r>
            <a:endParaRPr b="0" i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化学课堂</a:t>
            </a:r>
            <a:endParaRPr b="0" i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5516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武进区奔牛初级中学   陈志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7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79280" y="333360"/>
            <a:ext cx="3961080" cy="5473440"/>
            <a:chOff x="179280" y="333360"/>
            <a:chExt cx="3961080" cy="547344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468360" y="333360"/>
              <a:ext cx="367200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79280" y="52862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奥运圣火　　和平之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789440" y="333360"/>
            <a:ext cx="3743280" cy="5473440"/>
            <a:chOff x="4789440" y="333360"/>
            <a:chExt cx="3743280" cy="547344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4789440" y="333360"/>
              <a:ext cx="37432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807080" y="52862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Times New Roman"/>
                </a:rPr>
                <a:t>神九喷火　科技之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8172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556000" y="1557360"/>
            <a:ext cx="38876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5796000" y="333360"/>
            <a:ext cx="3240000" cy="5865840"/>
            <a:chOff x="5796000" y="333360"/>
            <a:chExt cx="3240000" cy="586584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867280" y="333360"/>
              <a:ext cx="3168720" cy="30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867280" y="2637000"/>
              <a:ext cx="316872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796000" y="5373720"/>
              <a:ext cx="32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日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上海教师公寓大火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42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人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遇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987640" y="189000"/>
            <a:ext cx="2664000" cy="6282360"/>
            <a:chOff x="2987640" y="189000"/>
            <a:chExt cx="2664000" cy="628236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3039120" y="3277080"/>
              <a:ext cx="2560680" cy="23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987640" y="5645880"/>
              <a:ext cx="2613600" cy="825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c0b0a"/>
                  </a:solidFill>
                  <a:latin typeface="Times New Roman"/>
                </a:rPr>
                <a:t>2003</a:t>
              </a:r>
              <a:r>
                <a:rPr b="1" lang="zh-CN" sz="2400" spc="-1" strike="noStrike">
                  <a:solidFill>
                    <a:srgbClr val="0c0b0a"/>
                  </a:solidFill>
                  <a:latin typeface="Times New Roman"/>
                </a:rPr>
                <a:t>年衡阳大火牺牲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20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名</a:t>
              </a:r>
              <a:r>
                <a:rPr b="1" lang="zh-CN" sz="2400" spc="-1" strike="noStrike">
                  <a:solidFill>
                    <a:srgbClr val="0c0b0a"/>
                  </a:solidFill>
                  <a:latin typeface="Times New Roman"/>
                </a:rPr>
                <a:t>消防战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7640" y="189000"/>
              <a:ext cx="2664000" cy="1922760"/>
            </a:xfrm>
            <a:prstGeom prst="rect">
              <a:avLst/>
            </a:prstGeom>
            <a:solidFill>
              <a:srgbClr val="ffff00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c0b0a"/>
                  </a:solidFill>
                  <a:latin typeface="宋体"/>
                </a:rPr>
                <a:t>1994</a:t>
              </a:r>
              <a:r>
                <a:rPr b="1" lang="zh-CN" sz="2400" spc="-1" strike="noStrike">
                  <a:solidFill>
                    <a:srgbClr val="0c0b0a"/>
                  </a:solidFill>
                  <a:latin typeface="宋体"/>
                </a:rPr>
                <a:t>年</a:t>
              </a:r>
              <a:r>
                <a:rPr b="1" lang="zh-CN" sz="2400" spc="-1" strike="noStrike">
                  <a:solidFill>
                    <a:srgbClr val="0c0b0a"/>
                  </a:solidFill>
                  <a:latin typeface="宋体"/>
                </a:rPr>
                <a:t>12</a:t>
              </a:r>
              <a:r>
                <a:rPr b="1" lang="zh-CN" sz="2400" spc="-1" strike="noStrike">
                  <a:solidFill>
                    <a:srgbClr val="0c0b0a"/>
                  </a:solidFill>
                  <a:latin typeface="宋体"/>
                </a:rPr>
                <a:t>月</a:t>
              </a:r>
              <a:r>
                <a:rPr b="1" lang="zh-CN" sz="2400" spc="-1" strike="noStrike">
                  <a:solidFill>
                    <a:srgbClr val="0c0b0a"/>
                  </a:solidFill>
                  <a:latin typeface="宋体"/>
                </a:rPr>
                <a:t>8</a:t>
              </a:r>
              <a:r>
                <a:rPr b="1" lang="zh-CN" sz="2400" spc="-1" strike="noStrike">
                  <a:solidFill>
                    <a:srgbClr val="0c0b0a"/>
                  </a:solidFill>
                  <a:latin typeface="宋体"/>
                </a:rPr>
                <a:t>日克拉玛依大火夺去</a:t>
              </a:r>
              <a:r>
                <a:rPr b="1" lang="zh-CN" sz="2400" spc="-1" strike="noStrike">
                  <a:solidFill>
                    <a:srgbClr val="0c0b0a"/>
                  </a:solidFill>
                  <a:latin typeface="宋体"/>
                </a:rPr>
                <a:t>325</a:t>
              </a:r>
              <a:r>
                <a:rPr b="1" lang="zh-CN" sz="2400" spc="-1" strike="noStrike">
                  <a:solidFill>
                    <a:srgbClr val="0c0b0a"/>
                  </a:solidFill>
                  <a:latin typeface="宋体"/>
                </a:rPr>
                <a:t>人生命，其中有</a:t>
              </a:r>
              <a:r>
                <a:rPr b="1" lang="zh-CN" sz="2400" spc="-1" strike="noStrike">
                  <a:solidFill>
                    <a:srgbClr val="ff3300"/>
                  </a:solidFill>
                  <a:latin typeface="宋体"/>
                </a:rPr>
                <a:t>288</a:t>
              </a:r>
              <a:r>
                <a:rPr b="1" lang="zh-CN" sz="2400" spc="-1" strike="noStrike">
                  <a:solidFill>
                    <a:srgbClr val="ff3300"/>
                  </a:solidFill>
                  <a:latin typeface="宋体"/>
                </a:rPr>
                <a:t>人</a:t>
              </a:r>
              <a:r>
                <a:rPr b="1" lang="zh-CN" sz="2400" spc="-1" strike="noStrike">
                  <a:solidFill>
                    <a:srgbClr val="0c0b0a"/>
                  </a:solidFill>
                  <a:latin typeface="宋体"/>
                </a:rPr>
                <a:t>是天真美丽可爱的中小学生，伤</a:t>
              </a:r>
              <a:r>
                <a:rPr b="1" lang="zh-CN" sz="2400" spc="-1" strike="noStrike">
                  <a:solidFill>
                    <a:srgbClr val="ff3300"/>
                  </a:solidFill>
                  <a:latin typeface="宋体"/>
                </a:rPr>
                <a:t>136</a:t>
              </a:r>
              <a:r>
                <a:rPr b="1" lang="zh-CN" sz="2400" spc="-1" strike="noStrike">
                  <a:solidFill>
                    <a:srgbClr val="ff3300"/>
                  </a:solidFill>
                  <a:latin typeface="宋体"/>
                </a:rPr>
                <a:t>人</a:t>
              </a:r>
              <a:r>
                <a:rPr b="1" lang="zh-CN" sz="2400" spc="-1" strike="noStrike">
                  <a:solidFill>
                    <a:srgbClr val="0c0b0a"/>
                  </a:solidFill>
                  <a:latin typeface="宋体"/>
                </a:rPr>
                <a:t>悲惨事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08000" y="189000"/>
            <a:ext cx="2665440" cy="5852160"/>
            <a:chOff x="108000" y="189000"/>
            <a:chExt cx="2665440" cy="5852160"/>
          </a:xfrm>
        </p:grpSpPr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403920" y="2079720"/>
              <a:ext cx="2275920" cy="262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39760" y="4849920"/>
              <a:ext cx="246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年，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日，深圳龙岗舞王俱乐部发生特大火灾，造成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44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人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死亡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08000" y="189000"/>
              <a:ext cx="2665440" cy="2419920"/>
              <a:chOff x="108000" y="189000"/>
              <a:chExt cx="2665440" cy="2419920"/>
            </a:xfrm>
          </p:grpSpPr>
          <p:pic>
            <p:nvPicPr>
              <p:cNvPr id="1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8000" y="189000"/>
                <a:ext cx="2665440" cy="200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255240" y="1227240"/>
                <a:ext cx="21913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Arial"/>
                  </a:rPr>
                  <a:t>陕西延安特大交通事故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Arial"/>
                  </a:rPr>
                  <a:t>36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Arial"/>
                  </a:rPr>
                  <a:t>人遇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762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59280" y="549360"/>
            <a:ext cx="25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四   灭火大比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70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假如您是一位勇敢的、智慧的消防员，模拟扑灭一场大火，你有那些方法呢？我们就用一支小蜡烛模拟火灾现场来进行灭火，小组合作，讨论，利用实验台上的现有物品，尽可能地设计出灭火方法，每小组派一人进行交流，讲出灭会的方法与原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9079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   灭火的方法与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103640" cy="3465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2637000"/>
            <a:ext cx="763272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取走可燃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隔绝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降低温度到着火点一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点：降低的是温度，着火点是物质的性质，不能讲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降低“着火点”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能讲降低的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温度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5905440" cy="498636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324000" y="1989000"/>
            <a:ext cx="3168360" cy="1960920"/>
            <a:chOff x="324000" y="1989000"/>
            <a:chExt cx="3168360" cy="1960920"/>
          </a:xfrm>
        </p:grpSpPr>
        <p:sp>
          <p:nvSpPr>
            <p:cNvPr id="125" name=""/>
            <p:cNvSpPr/>
            <p:nvPr/>
          </p:nvSpPr>
          <p:spPr>
            <a:xfrm>
              <a:off x="1188720" y="2637000"/>
              <a:ext cx="1223640" cy="131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缺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cc00"/>
                  </a:solidFill>
                  <a:latin typeface="Arial"/>
                  <a:ea typeface="黑体"/>
                </a:rPr>
                <a:t>不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00" y="1989000"/>
              <a:ext cx="31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燃烧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燃烧的条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435640" y="2060640"/>
            <a:ext cx="3168720" cy="1960560"/>
            <a:chOff x="5435640" y="2060640"/>
            <a:chExt cx="3168720" cy="1960560"/>
          </a:xfrm>
        </p:grpSpPr>
        <p:sp>
          <p:nvSpPr>
            <p:cNvPr id="128" name=""/>
            <p:cNvSpPr/>
            <p:nvPr/>
          </p:nvSpPr>
          <p:spPr>
            <a:xfrm>
              <a:off x="6300720" y="2708280"/>
              <a:ext cx="1224000" cy="131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缺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cc00"/>
                  </a:solidFill>
                  <a:latin typeface="Arial"/>
                  <a:ea typeface="黑体"/>
                </a:rPr>
                <a:t>就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35640" y="206064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灭火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燃烧的条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9901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360" y="549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   消防常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1080" y="19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能讲出下列图片中消防标志的含义吗？那些场合会有这些标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50960" y="2997360"/>
            <a:ext cx="4649760" cy="1449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476360" y="4433760"/>
            <a:ext cx="4967280" cy="290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498680" y="4653000"/>
            <a:ext cx="4944960" cy="1511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558800" y="6159600"/>
            <a:ext cx="5029200" cy="293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5076720" y="115920"/>
            <a:ext cx="28800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六   消防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假如你身处下列情景你会咋办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炒菜时油锅着火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家用电器着火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图书馆图书着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宿舍大楼着火了，火势很旺，你身在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836640"/>
            <a:ext cx="770400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火场逃生注意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冷静，审时度势，切勿跳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着正确的方法灭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拨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湿毛巾捂住口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匍匐前进，沿墙壁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房门很烫时不能开门，用水冷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房内着火不要轻易开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窗户逃生，绳或棉单下滑，呼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71640" y="2421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获与反思，还有哪些可以一起来探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2133720"/>
            <a:ext cx="817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希望大家用好火，祝愿大家平平安安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692280"/>
            <a:ext cx="755964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节目一：《口中吞火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节目二：《烧不破的手帕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节目三：《水火相容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00"/>
                </a:solidFill>
                <a:latin typeface="Arial"/>
                <a:ea typeface="黑体"/>
              </a:rPr>
              <a:t>魔术危险，切勿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630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700360" y="54936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第四章  认识化学变化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1773360"/>
            <a:ext cx="806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第一节  常见的化学变化——燃烧与灭火（第一教时）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0481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b0a"/>
                </a:solidFill>
                <a:latin typeface="宋体"/>
              </a:rPr>
              <a:t>学习目标：</a:t>
            </a:r>
            <a:br>
              <a:rPr sz="3200"/>
            </a:br>
            <a:r>
              <a:rPr b="1" lang="zh-CN" sz="3200" spc="-1" strike="noStrike">
                <a:solidFill>
                  <a:srgbClr val="0c0b0a"/>
                </a:solidFill>
                <a:latin typeface="_x000b__x000c_"/>
              </a:rPr>
              <a:t>1</a:t>
            </a:r>
            <a:r>
              <a:rPr b="1" lang="zh-CN" sz="3200" spc="-1" strike="noStrike">
                <a:solidFill>
                  <a:srgbClr val="0c0b0a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c0b0a"/>
                </a:solidFill>
                <a:latin typeface="_x000b__x000c_"/>
              </a:rPr>
              <a:t> </a:t>
            </a:r>
            <a:r>
              <a:rPr b="1" lang="zh-CN" sz="3200" spc="-1" strike="noStrike">
                <a:solidFill>
                  <a:srgbClr val="0c0b0a"/>
                </a:solidFill>
                <a:latin typeface="宋体"/>
              </a:rPr>
              <a:t>探索燃烧及燃烧的条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b0a"/>
                </a:solidFill>
                <a:latin typeface="_x000b__x000c_"/>
              </a:rPr>
              <a:t>2</a:t>
            </a:r>
            <a:r>
              <a:rPr b="1" lang="zh-CN" sz="3200" spc="-1" strike="noStrike">
                <a:solidFill>
                  <a:srgbClr val="0c0b0a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c0b0a"/>
                </a:solidFill>
                <a:latin typeface="_x000b__x000c_"/>
              </a:rPr>
              <a:t> </a:t>
            </a:r>
            <a:r>
              <a:rPr b="1" lang="zh-CN" sz="3200" spc="-1" strike="noStrike">
                <a:solidFill>
                  <a:srgbClr val="0c0b0a"/>
                </a:solidFill>
                <a:latin typeface="宋体"/>
              </a:rPr>
              <a:t>掌握灭火的一般方法与原理；</a:t>
            </a:r>
            <a:br>
              <a:rPr sz="3200"/>
            </a:br>
            <a:r>
              <a:rPr b="1" lang="zh-CN" sz="3200" spc="-1" strike="noStrike">
                <a:solidFill>
                  <a:srgbClr val="0c0b0a"/>
                </a:solidFill>
                <a:latin typeface="_x000b__x000c_"/>
              </a:rPr>
              <a:t>3</a:t>
            </a:r>
            <a:r>
              <a:rPr b="1" lang="zh-CN" sz="3200" spc="-1" strike="noStrike">
                <a:solidFill>
                  <a:srgbClr val="0c0b0a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c0b0a"/>
                </a:solidFill>
                <a:latin typeface="_x000b__x000c_"/>
              </a:rPr>
              <a:t> </a:t>
            </a:r>
            <a:r>
              <a:rPr b="1" lang="zh-CN" sz="3200" spc="-1" strike="noStrike">
                <a:solidFill>
                  <a:srgbClr val="0c0b0a"/>
                </a:solidFill>
                <a:latin typeface="宋体"/>
              </a:rPr>
              <a:t>了解消防常识</a:t>
            </a:r>
            <a:r>
              <a:rPr b="1" lang="zh-CN" sz="3200" spc="-1" strike="noStrike">
                <a:solidFill>
                  <a:srgbClr val="0c0b0a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珍爱生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c0b0a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5867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？</a:t>
            </a:r>
            <a:r>
              <a:rPr b="1" lang="zh-CN" sz="2800" spc="-1" strike="noStrike">
                <a:solidFill>
                  <a:srgbClr val="0c0b0a"/>
                </a:solidFill>
                <a:latin typeface="Times New Roman"/>
              </a:rPr>
              <a:t>请同学们讨论归纳这些燃烧的共同特点，尝试给燃烧下个定义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81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b0a"/>
                </a:solidFill>
                <a:latin typeface="Times New Roman"/>
                <a:ea typeface="黑体"/>
              </a:rPr>
              <a:t>★</a:t>
            </a:r>
            <a:r>
              <a:rPr b="1" lang="zh-CN" sz="2800" spc="-1" strike="noStrike">
                <a:solidFill>
                  <a:srgbClr val="0c0b0a"/>
                </a:solidFill>
                <a:latin typeface="Times New Roman"/>
                <a:ea typeface="黑体"/>
              </a:rPr>
              <a:t>交流与讨论</a:t>
            </a:r>
            <a:r>
              <a:rPr b="1" lang="zh-CN" sz="2800" spc="-1" strike="noStrike">
                <a:solidFill>
                  <a:srgbClr val="0c0b0a"/>
                </a:solidFill>
                <a:latin typeface="Times New Roman"/>
              </a:rPr>
              <a:t>  同学们，在你的学习生活中一定知道很多燃烧的事例。请您把知道的事例填写在下表中，并与同学交流讨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41440" y="2349360"/>
          <a:ext cx="8137440" cy="3456000"/>
        </p:xfrm>
        <a:graphic>
          <a:graphicData uri="http://schemas.openxmlformats.org/drawingml/2006/table">
            <a:tbl>
              <a:tblPr/>
              <a:tblGrid>
                <a:gridCol w="2055600"/>
                <a:gridCol w="6081840"/>
              </a:tblGrid>
              <a:tr h="84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  <a:ea typeface="隶书"/>
                        </a:rPr>
                        <a:t>事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  <a:ea typeface="隶书"/>
                        </a:rPr>
                        <a:t>观察到的现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镁条燃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铁丝燃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红磷燃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煤气燃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蜡烛燃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39640" y="2349360"/>
          <a:ext cx="8137440" cy="3456000"/>
        </p:xfrm>
        <a:graphic>
          <a:graphicData uri="http://schemas.openxmlformats.org/drawingml/2006/table">
            <a:tbl>
              <a:tblPr/>
              <a:tblGrid>
                <a:gridCol w="2055600"/>
                <a:gridCol w="6081840"/>
              </a:tblGrid>
              <a:tr h="84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  <a:ea typeface="隶书"/>
                        </a:rPr>
                        <a:t>事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  <a:ea typeface="隶书"/>
                        </a:rPr>
                        <a:t>观察到的现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镁条燃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发出耀眼的白光、放热，生成白色固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铁丝燃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火星四射，放出大量的热，生成黑色固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红磷燃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发出白光、放热，生成白色固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煤气燃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蓝色火焰，放出热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蜡烛燃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0b0a"/>
                          </a:solidFill>
                          <a:latin typeface="Arial"/>
                        </a:rPr>
                        <a:t>发出白光，生成使石灰水变浑浊的气体和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22050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思考：  是否所有的有发光、放热的现象的变化都是燃烧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你能举出反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34290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b0a"/>
                </a:solidFill>
                <a:latin typeface="Times New Roman"/>
              </a:rPr>
              <a:t>原     因：这些属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理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4097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燃烧是一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发光、发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剧烈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化学反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76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燃烧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4363920"/>
            <a:ext cx="1452600" cy="212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924360" y="436392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635880" y="4292640"/>
            <a:ext cx="16081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b0a"/>
                </a:solidFill>
                <a:latin typeface="黑体"/>
                <a:ea typeface="黑体"/>
              </a:rPr>
              <a:t>二、实验探究：燃烧的条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989000"/>
            <a:ext cx="8640720" cy="392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c0b0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b0a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c0b0a"/>
                </a:solidFill>
                <a:latin typeface="黑体"/>
                <a:ea typeface="黑体"/>
              </a:rPr>
              <a:t>：请您试着点燃石头、木条说明了燃烧需要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c0b0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b0a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c0b0a"/>
                </a:solidFill>
                <a:latin typeface="黑体"/>
                <a:ea typeface="黑体"/>
              </a:rPr>
              <a:t>：用烧杯罩住一支燃着的蜡烛会怎样呢？说明了燃烧需要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c0b0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c0b0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b0a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c0b0a"/>
                </a:solidFill>
                <a:latin typeface="黑体"/>
                <a:ea typeface="黑体"/>
              </a:rPr>
              <a:t>：在相同条件下点燃小木条和煤块哪个比较容易被点燃，又说明了燃烧需要什么</a:t>
            </a:r>
            <a:r>
              <a:rPr b="0" lang="zh-CN" sz="2800" spc="-1" strike="noStrike">
                <a:solidFill>
                  <a:srgbClr val="0c0b0a"/>
                </a:solidFill>
                <a:latin typeface="黑体"/>
                <a:ea typeface="黑体"/>
              </a:rPr>
              <a:t>?</a:t>
            </a:r>
            <a:r>
              <a:rPr b="0" lang="zh-CN" sz="2800" spc="-1" strike="noStrike">
                <a:solidFill>
                  <a:srgbClr val="0c0b0a"/>
                </a:solidFill>
                <a:latin typeface="黑体"/>
                <a:ea typeface="黑体"/>
              </a:rPr>
              <a:t>不同物质有何差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c0b0a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5905440" cy="49863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250920" y="1989000"/>
            <a:ext cx="3168720" cy="1960920"/>
            <a:chOff x="250920" y="1989000"/>
            <a:chExt cx="3168720" cy="1960920"/>
          </a:xfrm>
        </p:grpSpPr>
        <p:sp>
          <p:nvSpPr>
            <p:cNvPr id="71" name=""/>
            <p:cNvSpPr/>
            <p:nvPr/>
          </p:nvSpPr>
          <p:spPr>
            <a:xfrm>
              <a:off x="1116000" y="2637000"/>
              <a:ext cx="1224000" cy="131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缺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cc00"/>
                  </a:solidFill>
                  <a:latin typeface="Arial"/>
                  <a:ea typeface="黑体"/>
                </a:rPr>
                <a:t>不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0920" y="198900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燃烧时，燃烧的条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9907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125360"/>
            <a:ext cx="5759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白磷的着火点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红磷的着火点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上，如图进行实验，你会看到铜片上的白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   红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 水中的白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谈一下你认为的原因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将一根试管罩在开水中的白磷上，又会看到什么现象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940360" y="1628640"/>
            <a:ext cx="2338560" cy="1882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40360" y="3716280"/>
            <a:ext cx="1440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录像：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3716280"/>
            <a:ext cx="136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录像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0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学以致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76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：比较法，控制实验中的条件，控制住相同条件，抓住不同条件，得出实验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4941720"/>
          <a:ext cx="7553160" cy="1511640"/>
        </p:xfrm>
        <a:graphic>
          <a:graphicData uri="http://schemas.openxmlformats.org/drawingml/2006/table">
            <a:tbl>
              <a:tblPr/>
              <a:tblGrid>
                <a:gridCol w="2028600"/>
                <a:gridCol w="1381320"/>
                <a:gridCol w="1380960"/>
                <a:gridCol w="1381320"/>
                <a:gridCol w="1380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条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否可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否有氧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温度达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着火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否燃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铜片上的红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铜片上的白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开水中的白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8360" y="4941720"/>
          <a:ext cx="7553160" cy="1501920"/>
        </p:xfrm>
        <a:graphic>
          <a:graphicData uri="http://schemas.openxmlformats.org/drawingml/2006/table">
            <a:tbl>
              <a:tblPr/>
              <a:tblGrid>
                <a:gridCol w="2028600"/>
                <a:gridCol w="1380960"/>
                <a:gridCol w="1381320"/>
                <a:gridCol w="1380960"/>
                <a:gridCol w="13813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条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否可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否有氧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温度达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着火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否燃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铜片上的红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没达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没有燃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铜片上的白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达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燃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开水中的白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达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没有燃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3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魔术揭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484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口中吞火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火进入口中时，闭上嘴就没有了氧气，火就不满足燃烧的条件而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94172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水火相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是开水中放有白磷，当我们将装有氧气的大试管扣在白磷上时，就满足了燃烧的三个条件，开始燃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708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烧不破的手帕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手帕是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50%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酒精溶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浸泡过的，酒精是燃烧了，水在此时挥发吸收热量，使得手帕达不到着火点，无法燃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1280" y="1004760"/>
            <a:ext cx="76327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5:08:48Z</dcterms:created>
  <dc:creator>微软用户</dc:creator>
  <dc:description/>
  <dc:language>en-US</dc:language>
  <cp:lastModifiedBy>微软用户</cp:lastModifiedBy>
  <dcterms:modified xsi:type="dcterms:W3CDTF">2012-11-22T02:12:42Z</dcterms:modified>
  <cp:revision>24</cp:revision>
  <dc:subject/>
  <dc:title>幻灯片 1</dc:title>
</cp:coreProperties>
</file>