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2E2-63AC-4AD6-955B-B7EC4A2D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2DA-58C2-4399-9232-072F9831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DEB-6890-4FDC-8DD4-0973EE63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47E-2122-4A04-A049-44A298E9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774-1959-463D-B8B4-3C147FB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F49-218A-4AB2-A89F-E59E9D5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DFF-0313-433D-813D-078F82B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3B4-8C58-4A7A-907A-B1CE6066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F9D-EE3F-4E89-A9B2-61261ACD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987-72FA-4995-AFFA-239FD3D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142-87CC-4C91-9D87-EBBC751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885-753E-44E1-8C7D-B4E296DC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556-7EAB-4DAE-B873-9D66C1E77D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476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蜡烛为什么能在水中燃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770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700360" y="836640"/>
            <a:ext cx="350532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、平面镜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861840" y="2675520"/>
            <a:ext cx="35812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、平面镜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659640" cy="508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189000"/>
            <a:ext cx="774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平时照镜子的情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镜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的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像与物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什么关系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89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5329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67280" y="4941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1080" y="45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07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与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实验中为什么用半透明玻璃代替平面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物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’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大小关系怎样？你如何得到这个关系的？选择器材时对物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什么要求？这样做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通过表格中的数据，可看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镜面的距离是什么关系？为什么要重复实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能直接从白纸上观察到像吗？平面镜所成的像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实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虚像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844640"/>
            <a:ext cx="799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平面镜所成的像与物大小相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像和物到到平面镜的距离相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像和物的连线与镜面垂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平面镜成的像是虚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692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归纳平面镜成像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73408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像与物关于镜面成轴对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206064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位同学（身高差不多）到讲台前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听老师的口令做动作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镜中的像做出相应的动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7628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游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260280"/>
            <a:ext cx="383832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平面镜成像的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70160" y="2743200"/>
            <a:ext cx="2247120" cy="4041000"/>
            <a:chOff x="2270160" y="2743200"/>
            <a:chExt cx="2247120" cy="4041000"/>
          </a:xfrm>
        </p:grpSpPr>
        <p:grpSp>
          <p:nvGrpSpPr>
            <p:cNvPr id="62" name=""/>
            <p:cNvGrpSpPr/>
            <p:nvPr/>
          </p:nvGrpSpPr>
          <p:grpSpPr>
            <a:xfrm>
              <a:off x="4040280" y="2743200"/>
              <a:ext cx="477000" cy="4041000"/>
              <a:chOff x="4040280" y="2743200"/>
              <a:chExt cx="477000" cy="4041000"/>
            </a:xfrm>
          </p:grpSpPr>
          <p:sp>
            <p:nvSpPr>
              <p:cNvPr id="63" name=""/>
              <p:cNvSpPr/>
              <p:nvPr/>
            </p:nvSpPr>
            <p:spPr>
              <a:xfrm>
                <a:off x="4040280" y="27432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16960" y="6324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2270160" y="3141720"/>
              <a:ext cx="2207880" cy="3276720"/>
              <a:chOff x="2270160" y="3141720"/>
              <a:chExt cx="2207880" cy="3276720"/>
            </a:xfrm>
          </p:grpSpPr>
          <p:sp>
            <p:nvSpPr>
              <p:cNvPr id="66" name=""/>
              <p:cNvSpPr/>
              <p:nvPr/>
            </p:nvSpPr>
            <p:spPr>
              <a:xfrm>
                <a:off x="3030480" y="314172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70160" y="5580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2344680" y="3141720"/>
                <a:ext cx="2133360" cy="3276720"/>
                <a:chOff x="2344680" y="3141720"/>
                <a:chExt cx="2133360" cy="3276720"/>
              </a:xfrm>
            </p:grpSpPr>
            <p:sp>
              <p:nvSpPr>
                <p:cNvPr id="69" name=""/>
                <p:cNvSpPr/>
                <p:nvPr/>
              </p:nvSpPr>
              <p:spPr>
                <a:xfrm flipV="1">
                  <a:off x="2344680" y="3598560"/>
                  <a:ext cx="838080" cy="20574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4249440" y="3141720"/>
                  <a:ext cx="228600" cy="3276720"/>
                  <a:chOff x="4249440" y="3141720"/>
                  <a:chExt cx="228600" cy="327672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4249440" y="3141720"/>
                    <a:ext cx="0" cy="312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4249440" y="32180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249440" y="33703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249440" y="35229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4249440" y="36752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249440" y="38275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249440" y="39801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49440" y="41324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249440" y="42847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249440" y="44373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4249440" y="45896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4249440" y="47419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249440" y="48945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4249440" y="50468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249440" y="51991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4249440" y="53517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249440" y="55040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249440" y="56563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4249440" y="58089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249440" y="596124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249440" y="6113520"/>
                    <a:ext cx="2286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4249440" y="62661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3" name=""/>
          <p:cNvSpPr/>
          <p:nvPr/>
        </p:nvSpPr>
        <p:spPr>
          <a:xfrm>
            <a:off x="3132000" y="35989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566100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3580920"/>
            <a:ext cx="838080" cy="2057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88040" y="3505320"/>
            <a:ext cx="7596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556272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4120" y="3043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0552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114800" y="3581280"/>
            <a:ext cx="152280" cy="152280"/>
            <a:chOff x="4114800" y="3581280"/>
            <a:chExt cx="152280" cy="152280"/>
          </a:xfrm>
        </p:grpSpPr>
        <p:sp>
          <p:nvSpPr>
            <p:cNvPr id="101" name=""/>
            <p:cNvSpPr/>
            <p:nvPr/>
          </p:nvSpPr>
          <p:spPr>
            <a:xfrm>
              <a:off x="4114800" y="358128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373356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114440" y="5486400"/>
            <a:ext cx="152280" cy="152280"/>
            <a:chOff x="4114440" y="5486400"/>
            <a:chExt cx="152280" cy="152280"/>
          </a:xfrm>
        </p:grpSpPr>
        <p:sp>
          <p:nvSpPr>
            <p:cNvPr id="104" name=""/>
            <p:cNvSpPr/>
            <p:nvPr/>
          </p:nvSpPr>
          <p:spPr>
            <a:xfrm flipH="1">
              <a:off x="4114440" y="548640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4440" y="5486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505320" y="3429000"/>
            <a:ext cx="1523880" cy="228600"/>
            <a:chOff x="3505320" y="3429000"/>
            <a:chExt cx="1523880" cy="228600"/>
          </a:xfrm>
        </p:grpSpPr>
        <p:grpSp>
          <p:nvGrpSpPr>
            <p:cNvPr id="107" name=""/>
            <p:cNvGrpSpPr/>
            <p:nvPr/>
          </p:nvGrpSpPr>
          <p:grpSpPr>
            <a:xfrm>
              <a:off x="4800600" y="3429000"/>
              <a:ext cx="228600" cy="228600"/>
              <a:chOff x="4800600" y="3429000"/>
              <a:chExt cx="22860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7692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505320" y="3429000"/>
              <a:ext cx="228600" cy="228600"/>
              <a:chOff x="3505320" y="3429000"/>
              <a:chExt cx="228600" cy="228600"/>
            </a:xfrm>
          </p:grpSpPr>
          <p:sp>
            <p:nvSpPr>
              <p:cNvPr id="111" name=""/>
              <p:cNvSpPr/>
              <p:nvPr/>
            </p:nvSpPr>
            <p:spPr>
              <a:xfrm>
                <a:off x="350532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8164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352680" y="5486400"/>
            <a:ext cx="1828800" cy="304920"/>
            <a:chOff x="3352680" y="5486400"/>
            <a:chExt cx="1828800" cy="304920"/>
          </a:xfrm>
        </p:grpSpPr>
        <p:grpSp>
          <p:nvGrpSpPr>
            <p:cNvPr id="114" name=""/>
            <p:cNvGrpSpPr/>
            <p:nvPr/>
          </p:nvGrpSpPr>
          <p:grpSpPr>
            <a:xfrm>
              <a:off x="4952880" y="5562720"/>
              <a:ext cx="228600" cy="228600"/>
              <a:chOff x="4952880" y="5562720"/>
              <a:chExt cx="228600" cy="228600"/>
            </a:xfrm>
          </p:grpSpPr>
          <p:sp>
            <p:nvSpPr>
              <p:cNvPr id="115" name=""/>
              <p:cNvSpPr/>
              <p:nvPr/>
            </p:nvSpPr>
            <p:spPr>
              <a:xfrm>
                <a:off x="4952880" y="556272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29200" y="556272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352680" y="5486400"/>
              <a:ext cx="228600" cy="228600"/>
              <a:chOff x="3352680" y="5486400"/>
              <a:chExt cx="228600" cy="228600"/>
            </a:xfrm>
          </p:grpSpPr>
          <p:sp>
            <p:nvSpPr>
              <p:cNvPr id="118" name=""/>
              <p:cNvSpPr/>
              <p:nvPr/>
            </p:nvSpPr>
            <p:spPr>
              <a:xfrm>
                <a:off x="3352680" y="54864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29000" y="54864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6300720" y="3789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因为是虚像所以用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虚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1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1440" y="5734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92640"/>
            <a:ext cx="248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１、作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120" y="336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251160"/>
            <a:ext cx="1944360" cy="609480"/>
          </a:xfrm>
          <a:prstGeom prst="cloudCallout">
            <a:avLst>
              <a:gd name="adj1" fmla="val -5916"/>
              <a:gd name="adj2" fmla="val 111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归纳方法</a:t>
            </a:r>
            <a:r>
              <a:rPr b="0" lang="zh-CN" sz="14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760" y="4824360"/>
            <a:ext cx="418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２、取等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44640" y="5300640"/>
            <a:ext cx="3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华文新魏"/>
              </a:rPr>
              <a:t>３、画虚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00:30:33Z</dcterms:created>
  <dc:creator>User</dc:creator>
  <dc:description/>
  <dc:language>en-US</dc:language>
  <cp:lastModifiedBy>User</cp:lastModifiedBy>
  <dcterms:modified xsi:type="dcterms:W3CDTF">2012-10-24T01:02:13Z</dcterms:modified>
  <cp:revision>8</cp:revision>
  <dc:subject/>
  <dc:title>幻灯片 1</dc:title>
</cp:coreProperties>
</file>