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jpeg" ContentType="image/jpeg"/>
  <Override PartName="/ppt/media/image24.png" ContentType="image/png"/>
  <Override PartName="/ppt/media/image25.png" ContentType="image/png"/>
  <Override PartName="/ppt/media/image19.jpeg" ContentType="image/jpeg"/>
  <Override PartName="/ppt/media/image5.jpeg" ContentType="image/jpeg"/>
  <Override PartName="/ppt/media/image26.jpeg" ContentType="image/jpeg"/>
  <Override PartName="/ppt/media/image20.wmf" ContentType="image/x-wmf"/>
  <Override PartName="/ppt/media/image8.jpeg" ContentType="image/jpeg"/>
  <Override PartName="/ppt/media/image30.png" ContentType="image/png"/>
  <Override PartName="/ppt/media/voltage.wav" ContentType="audio/x-wav"/>
  <Override PartName="/ppt/media/image31.jpeg" ContentType="image/jpeg"/>
  <Override PartName="/ppt/media/suction.wav" ContentType="audio/x-wav"/>
  <Override PartName="/ppt/media/image32.png" ContentType="image/png"/>
  <Override PartName="/ppt/media/image7.png" ContentType="image/png"/>
  <Override PartName="/ppt/media/image13.png" ContentType="image/png"/>
  <Override PartName="/ppt/media/hammer.wav" ContentType="audio/x-wav"/>
  <Override PartName="/ppt/media/image12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23.gif" ContentType="image/gif"/>
  <Override PartName="/ppt/media/image16.png" ContentType="image/png"/>
  <Override PartName="/ppt/media/type.wav" ContentType="audio/x-wav"/>
  <Override PartName="/ppt/media/image6.jpeg" ContentType="image/jpeg"/>
  <Override PartName="/ppt/media/image21.wmf" ContentType="image/x-wmf"/>
  <Override PartName="/ppt/media/image22.gif" ContentType="image/gif"/>
  <Override PartName="/ppt/media/image18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D77-63D9-4DFC-92DC-6ADC4D1AE7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除了这三个反应还有哪些反应可以产生二氧化碳呢？这些反应是不是适合在实验室制取二氧化碳呢？我们一起通过实验来探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66080" y="260280"/>
            <a:ext cx="874800" cy="857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V="1">
            <a:off x="1052640" y="1183320"/>
            <a:ext cx="7983360" cy="4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5520" y="1052640"/>
            <a:ext cx="78105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956720" y="268200"/>
            <a:ext cx="87444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042920" y="1191240"/>
            <a:ext cx="7983720" cy="4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160" y="1052640"/>
            <a:ext cx="78105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956720" y="268200"/>
            <a:ext cx="874440" cy="85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1042920" y="1191240"/>
            <a:ext cx="7983720" cy="4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1052640"/>
            <a:ext cx="78105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16.xm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8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" Target="slide16.xml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type.wav"/><Relationship Id="rId15" Type="http://schemas.openxmlformats.org/officeDocument/2006/relationships/audio" Target="../media/hammer.wav"/><Relationship Id="rId16" Type="http://schemas.openxmlformats.org/officeDocument/2006/relationships/audio" Target="../media/voltag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727600" y="6021360"/>
            <a:ext cx="341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2012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189000"/>
            <a:ext cx="7567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琥珀体简"/>
                <a:ea typeface="汉仪琥珀体简"/>
              </a:rPr>
              <a:t>二氧化碳的制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55280" y="518328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汉仪黛玉体简"/>
              </a:rPr>
              <a:t>奔牛初级中学　魏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646600"/>
            <a:ext cx="1655640" cy="1211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05920" y="602136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ShockwaveFlash1"/>
          <p:cNvGraphicFramePr/>
          <p:nvPr/>
        </p:nvGraphicFramePr>
        <p:xfrm>
          <a:off x="2124000" y="1197000"/>
          <a:ext cx="4969080" cy="37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1197000"/>
                    <a:ext cx="4969080" cy="3770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2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386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　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利用老师桌上的仪器，比一比哪个小组拼的发生装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3729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气体的收集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09600" y="1450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二氧化碳的物理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8000" y="242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由此得出二氧化碳的收集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4094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71640" y="842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气体的收集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ShockwaveFlash1"/>
          <p:cNvGraphicFramePr/>
          <p:nvPr/>
        </p:nvGraphicFramePr>
        <p:xfrm>
          <a:off x="684360" y="1125360"/>
          <a:ext cx="74167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16720" cy="5732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36600" y="2092320"/>
            <a:ext cx="35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检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氧化碳气体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119160" y="4292280"/>
            <a:ext cx="58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验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氧化碳气体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2746440"/>
            <a:ext cx="5349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将待检验的气体通入澄清的石灰水中，澄清石灰水变浑浊，证明气体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983120"/>
            <a:ext cx="4943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燃着的木条放在集气瓶口，木条熄灭，说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已经集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5480" y="4767120"/>
            <a:ext cx="1082520" cy="822600"/>
          </a:xfrm>
          <a:prstGeom prst="wedgeRoundRectCallout">
            <a:avLst>
              <a:gd name="adj1" fmla="val 79180"/>
              <a:gd name="adj2" fmla="val -20078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火焰熄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2357280"/>
            <a:ext cx="1798920" cy="974880"/>
          </a:xfrm>
          <a:prstGeom prst="wedgeRoundRectCallout">
            <a:avLst>
              <a:gd name="adj1" fmla="val -79481"/>
              <a:gd name="adj2" fmla="val -21333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澄清石灰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变浑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1125360"/>
            <a:ext cx="76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探究二氧化碳的验证方法和验满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7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四、检验与验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969240" y="4106880"/>
          <a:ext cx="163512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240" y="4106880"/>
                    <a:ext cx="163512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948360" y="4022640"/>
          <a:ext cx="1671840" cy="243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4022640"/>
                    <a:ext cx="167184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08720" y="2133720"/>
          <a:ext cx="780840" cy="21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2133720"/>
                    <a:ext cx="7808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519880" y="2149560"/>
          <a:ext cx="772920" cy="21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19880" y="2149560"/>
                    <a:ext cx="772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41440" y="1287360"/>
            <a:ext cx="503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、按要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新宋体"/>
              </a:rPr>
              <a:t>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接好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440" y="295200"/>
            <a:ext cx="712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五、实验室制取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步骤：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4462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、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新宋体"/>
              </a:rPr>
              <a:t>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装置的气密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3314880"/>
            <a:ext cx="561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、先向容器中放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新宋体"/>
              </a:rPr>
              <a:t>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石灰石，再注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1/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试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稀盐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440" y="479124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新宋体"/>
              </a:rPr>
              <a:t>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新宋体"/>
              </a:rPr>
              <a:t>集气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72360" y="4405320"/>
            <a:ext cx="2074680" cy="1928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372360" y="1557360"/>
            <a:ext cx="2141280" cy="2519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41440" y="6334200"/>
            <a:ext cx="9651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484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请每个组用简易装置制取收集一瓶二氧化碳气体，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验满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再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检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595008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3480" indent="-1203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石灰石取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粒较大的；盐酸加至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/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试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9500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注意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79320" y="155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75080" y="2781360"/>
            <a:ext cx="2141280" cy="2519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8840" y="6578640"/>
            <a:ext cx="9651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90560" y="23162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完本节课你有哪些收获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00" y="277920"/>
            <a:ext cx="31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总结归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24720" y="5491080"/>
            <a:ext cx="1631880" cy="1393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920" y="5516640"/>
            <a:ext cx="1204920" cy="126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90560" y="357336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你有哪些问题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30400" y="2060640"/>
            <a:ext cx="7618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复习本节课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利用家庭里的物品，设计并完成制取二氧化碳气体的实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提示：稀盐酸可以用醋酸来替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108000" y="341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5646600"/>
            <a:ext cx="1655640" cy="12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600" y="5229360"/>
            <a:ext cx="1724040" cy="1596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656000" cy="1225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301920" y="2421000"/>
            <a:ext cx="2925720" cy="19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620640"/>
            <a:ext cx="82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实验室用二氧化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固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浓盐酸共热的方法来制取氯气，请下列仪器中选择合适的装置，完成氯气制取、收集和尾气处理，将装置的接口按顺序连接：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89800" y="4757760"/>
            <a:ext cx="1305000" cy="2089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2049480"/>
            <a:ext cx="6516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863640" cy="1368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984240" cy="2063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419640" y="4724280"/>
            <a:ext cx="1377720" cy="1441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211640" y="2708280"/>
            <a:ext cx="79200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rcRect l="0" t="0" r="38798" b="0"/>
          <a:stretch/>
        </p:blipFill>
        <p:spPr>
          <a:xfrm>
            <a:off x="5219640" y="4797360"/>
            <a:ext cx="792360" cy="1325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5148360" y="2565360"/>
            <a:ext cx="1349280" cy="136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231840" y="4437000"/>
            <a:ext cx="1620720" cy="194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1620720" y="2205000"/>
            <a:ext cx="1451160" cy="2952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16720" y="1946160"/>
            <a:ext cx="277164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氯气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(Cl</a:t>
            </a:r>
            <a:r>
              <a:rPr b="1" lang="zh-CN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黄绿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有刺激性气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密度大于空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溶于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易被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NaO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溶液吸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有毒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42920" y="2133720"/>
            <a:ext cx="5400720" cy="3494520"/>
            <a:chOff x="1042920" y="2133720"/>
            <a:chExt cx="5400720" cy="3494520"/>
          </a:xfrm>
        </p:grpSpPr>
        <p:sp>
          <p:nvSpPr>
            <p:cNvPr id="246" name=""/>
            <p:cNvSpPr/>
            <p:nvPr/>
          </p:nvSpPr>
          <p:spPr>
            <a:xfrm>
              <a:off x="1042920" y="23493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0920" y="52293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56000" y="21337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0360" y="25653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1280" y="34290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59280" y="22050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050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2000" y="46530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2360" y="447192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8560" y="44719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411280" y="3860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8024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64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72240" y="142092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71200" y="14209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→i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36200" y="1413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→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8720" y="3068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08240" y="58024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386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56000" y="3860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700360" y="741240"/>
            <a:ext cx="3936960" cy="2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2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二氧化锰</a:t>
            </a:r>
            <a:r>
              <a:rPr b="1" lang="en-US" sz="2400" spc="1" strike="noStrike">
                <a:ln w="32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400" spc="1" strike="noStrike">
                <a:ln w="32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固体</a:t>
            </a:r>
            <a:r>
              <a:rPr b="1" lang="en-US" sz="2400" spc="1" strike="noStrike">
                <a:ln w="32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2400" spc="1" strike="noStrike">
                <a:ln w="324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和浓盐酸共热</a:t>
            </a:r>
            <a:endParaRPr b="1" lang="en-US" sz="2400" spc="1" strike="noStrike">
              <a:ln w="324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8604360" y="6453360"/>
            <a:ext cx="190440" cy="18072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2709720" y="692280"/>
            <a:ext cx="3814920" cy="360000"/>
            <a:chOff x="2709720" y="692280"/>
            <a:chExt cx="3814920" cy="360000"/>
          </a:xfrm>
        </p:grpSpPr>
        <p:sp>
          <p:nvSpPr>
            <p:cNvPr id="270" name=""/>
            <p:cNvSpPr/>
            <p:nvPr/>
          </p:nvSpPr>
          <p:spPr>
            <a:xfrm>
              <a:off x="2812320" y="695160"/>
              <a:ext cx="3518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76760" y="703080"/>
              <a:ext cx="33897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41200" y="711000"/>
              <a:ext cx="32605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06000" y="718920"/>
              <a:ext cx="31316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70440" y="727560"/>
              <a:ext cx="300240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36320" y="735480"/>
              <a:ext cx="28702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760" y="743760"/>
              <a:ext cx="2741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1320" y="749160"/>
              <a:ext cx="26006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5760" y="757080"/>
              <a:ext cx="24714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09720" y="692280"/>
              <a:ext cx="3814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65000" y="773640"/>
              <a:ext cx="221328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0880" y="781560"/>
              <a:ext cx="20811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95680" y="789480"/>
              <a:ext cx="1952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60120" y="797760"/>
              <a:ext cx="182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24560" y="806040"/>
              <a:ext cx="16941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9000" y="814320"/>
              <a:ext cx="15649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53800" y="822240"/>
              <a:ext cx="143568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18240" y="830160"/>
              <a:ext cx="130680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82680" y="838800"/>
              <a:ext cx="1177560" cy="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15080" y="846720"/>
              <a:ext cx="108072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079520" y="854640"/>
              <a:ext cx="91944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71880" y="2049480"/>
            <a:ext cx="0" cy="4584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1" action="ppaction://hlinksldjump"/>
          </p:cNvPr>
          <p:cNvSpPr/>
          <p:nvPr/>
        </p:nvSpPr>
        <p:spPr>
          <a:xfrm>
            <a:off x="-33480" y="54000"/>
            <a:ext cx="31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evt="onNext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9" dur="1" fill="hold"/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37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24200" y="-60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0811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分享</a:t>
            </a:r>
            <a:r>
              <a:rPr b="0" lang="zh-CN" sz="7200" spc="-1" strike="noStrike">
                <a:solidFill>
                  <a:srgbClr val="ffff00"/>
                </a:solidFill>
                <a:latin typeface="Arial"/>
                <a:ea typeface="黑体"/>
              </a:rPr>
              <a:t>无壳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蛋制作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58920"/>
            <a:ext cx="6942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实验室制取氧气的知识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6720" y="1411200"/>
          <a:ext cx="8207640" cy="4600440"/>
        </p:xfrm>
        <a:graphic>
          <a:graphicData uri="http://schemas.openxmlformats.org/drawingml/2006/table">
            <a:tbl>
              <a:tblPr/>
              <a:tblGrid>
                <a:gridCol w="1365480"/>
                <a:gridCol w="3746520"/>
                <a:gridCol w="30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348000" y="378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378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3000" y="436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93960" y="48434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带火星的木条伸进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木条复燃则为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51664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用带火星的木条放在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口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木条复燃则氧气已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8320" y="2678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固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080" y="32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加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9960" y="2641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固体、液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0000" y="32846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需要加热；催化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724360" y="1916280"/>
            <a:ext cx="3048120" cy="558000"/>
            <a:chOff x="5724360" y="1916280"/>
            <a:chExt cx="3048120" cy="558000"/>
          </a:xfrm>
        </p:grpSpPr>
        <p:sp>
          <p:nvSpPr>
            <p:cNvPr id="113" name=""/>
            <p:cNvSpPr/>
            <p:nvPr/>
          </p:nvSpPr>
          <p:spPr>
            <a:xfrm>
              <a:off x="5724360" y="2033640"/>
              <a:ext cx="304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+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16480" y="1916280"/>
              <a:ext cx="11430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nO</a:t>
              </a:r>
              <a:r>
                <a:rPr b="1" lang="en-US" sz="1600" spc="-1" strike="noStrike" baseline="-16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6240" y="2228760"/>
              <a:ext cx="696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9080" y="146520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M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07200" y="1459080"/>
            <a:ext cx="34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溶液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nO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120" y="1419120"/>
            <a:ext cx="12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药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040" y="19620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反应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246204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反应物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040" y="32846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反应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040" y="3787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发生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" y="42926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收集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040" y="4915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验证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040" y="549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验满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28720" y="1916280"/>
            <a:ext cx="4930560" cy="543960"/>
            <a:chOff x="1728720" y="1916280"/>
            <a:chExt cx="4930560" cy="543960"/>
          </a:xfrm>
        </p:grpSpPr>
        <p:sp>
          <p:nvSpPr>
            <p:cNvPr id="127" name=""/>
            <p:cNvSpPr/>
            <p:nvPr/>
          </p:nvSpPr>
          <p:spPr>
            <a:xfrm>
              <a:off x="1728720" y="2019600"/>
              <a:ext cx="493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Mn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4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n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Mn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608920" y="1916280"/>
              <a:ext cx="821160" cy="368280"/>
              <a:chOff x="2608920" y="1916280"/>
              <a:chExt cx="821160" cy="36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08920" y="1916280"/>
                <a:ext cx="82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6400" y="2276640"/>
                <a:ext cx="602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43280" y="1268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反应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0520" y="278136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生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3641760"/>
            <a:ext cx="19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收集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5241960"/>
            <a:ext cx="21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验证、验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1989000"/>
            <a:ext cx="407880" cy="849600"/>
          </a:xfrm>
          <a:prstGeom prst="downArrow">
            <a:avLst>
              <a:gd name="adj1" fmla="val 50000"/>
              <a:gd name="adj2" fmla="val 5207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1557360"/>
            <a:ext cx="3095640" cy="1460520"/>
          </a:xfrm>
          <a:prstGeom prst="wedgeRoundRectCallout">
            <a:avLst>
              <a:gd name="adj1" fmla="val -50000"/>
              <a:gd name="adj2" fmla="val 64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根据反应物的状态和反应的条件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29840" y="4076640"/>
            <a:ext cx="2917800" cy="1897200"/>
          </a:xfrm>
          <a:prstGeom prst="wedgeRoundRectCallout">
            <a:avLst>
              <a:gd name="adj1" fmla="val -64203"/>
              <a:gd name="adj2" fmla="val 5476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根据气体的密度、溶解性以及气体是否与水反应等因素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539280" y="1915560"/>
            <a:ext cx="2737080" cy="1523880"/>
          </a:xfrm>
          <a:prstGeom prst="wedgeRoundRectCallout">
            <a:avLst>
              <a:gd name="adj1" fmla="val -63342"/>
              <a:gd name="adj2" fmla="val 70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反应物及化学反应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4005360"/>
            <a:ext cx="3024360" cy="1409760"/>
          </a:xfrm>
          <a:prstGeom prst="wedgeRoundRectCallout">
            <a:avLst>
              <a:gd name="adj1" fmla="val -61180"/>
              <a:gd name="adj2" fmla="val 846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利用气体的化学性质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8880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实验室制取气体的的研究思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08480" y="4379760"/>
            <a:ext cx="407880" cy="849600"/>
          </a:xfrm>
          <a:prstGeom prst="downArrow">
            <a:avLst>
              <a:gd name="adj1" fmla="val 50000"/>
              <a:gd name="adj2" fmla="val 5207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19376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过的反应中，哪些能够得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800" y="219240"/>
            <a:ext cx="17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3456000"/>
            <a:ext cx="51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石蜡在空气中燃烧生成水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5056200"/>
            <a:ext cx="496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热碳酸氢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热铜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动植物的呼吸产生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2160720"/>
            <a:ext cx="504720" cy="576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529080"/>
            <a:ext cx="504720" cy="57636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400720"/>
            <a:ext cx="505080" cy="576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97800" y="1916280"/>
            <a:ext cx="718920" cy="4060800"/>
          </a:xfrm>
          <a:custGeom>
            <a:avLst/>
            <a:gdLst>
              <a:gd name="textAreaLeft" fmla="*/ 0 w 718920"/>
              <a:gd name="textAreaRight" fmla="*/ 259560 w 718920"/>
              <a:gd name="textAreaTop" fmla="*/ 105840 h 4060800"/>
              <a:gd name="textAreaBottom" fmla="*/ 3954960 h 406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12120" y="3079800"/>
            <a:ext cx="1150920" cy="155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得到的气体不纯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15640" y="2096640"/>
            <a:ext cx="75265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碳在氧气中燃烧生成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4160" y="3257640"/>
            <a:ext cx="1903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二、药品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25720" y="3424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细黑"/>
              </a:rPr>
              <a:t>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8280" y="3414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细黑"/>
              </a:rPr>
              <a:t>石灰石（大理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" y="0"/>
            <a:ext cx="2230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一、原理：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14520" y="1736640"/>
            <a:ext cx="7993080" cy="1125000"/>
            <a:chOff x="614520" y="1736640"/>
            <a:chExt cx="7993080" cy="1125000"/>
          </a:xfrm>
        </p:grpSpPr>
        <p:grpSp>
          <p:nvGrpSpPr>
            <p:cNvPr id="157" name=""/>
            <p:cNvGrpSpPr/>
            <p:nvPr/>
          </p:nvGrpSpPr>
          <p:grpSpPr>
            <a:xfrm>
              <a:off x="614520" y="1736640"/>
              <a:ext cx="7993080" cy="718920"/>
              <a:chOff x="614520" y="1736640"/>
              <a:chExt cx="7993080" cy="718920"/>
            </a:xfrm>
          </p:grpSpPr>
          <p:sp>
            <p:nvSpPr>
              <p:cNvPr id="158" name=""/>
              <p:cNvSpPr/>
              <p:nvPr/>
            </p:nvSpPr>
            <p:spPr>
              <a:xfrm>
                <a:off x="614520" y="1736640"/>
                <a:ext cx="799308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碳酸钙＋盐酸         氯化钙＋水＋二氧化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ffffff"/>
                  </a:buClr>
                  <a:buFont typeface="黑体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43600" y="20239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860480" y="2455920"/>
              <a:ext cx="5832360" cy="405720"/>
              <a:chOff x="1860480" y="2455920"/>
              <a:chExt cx="5832360" cy="405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860480" y="2455920"/>
                <a:ext cx="5832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CO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+HCl        CaCl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+H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+CO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60520" y="2655720"/>
                <a:ext cx="360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1836000" y="42670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反应物的状态？反应条件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324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三、装置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4960" y="189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固体与液体反应制气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4920" y="14461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能根据书及手边的仪器，找到几种装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932360" y="2238480"/>
            <a:ext cx="3038400" cy="2824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53960" y="2238480"/>
            <a:ext cx="3600360" cy="2824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66040" y="5796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1800" y="5796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1897920" y="5796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10680" y="536724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1656000" cy="2905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30680" y="5076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右图装置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3480" y="59450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用此装置时应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38120" y="1484280"/>
            <a:ext cx="1476360" cy="309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30600" y="1484280"/>
            <a:ext cx="14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09960" y="1700280"/>
            <a:ext cx="61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该装置的气密性应如何检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09960" y="2550960"/>
            <a:ext cx="5724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用弹簧夹夹紧胶皮管，向长颈漏斗中加水，一段时间后，如果其中的液面保持不变，则说明装置的气密性良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7080" y="54000"/>
            <a:ext cx="22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2006640" cy="2438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9880" y="5700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哪二位同学愿意来做一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38:36Z</dcterms:created>
  <dc:creator>wang</dc:creator>
  <dc:description/>
  <dc:language>en-US</dc:language>
  <cp:lastModifiedBy>DELL</cp:lastModifiedBy>
  <dcterms:modified xsi:type="dcterms:W3CDTF">2012-09-27T03:37:40Z</dcterms:modified>
  <cp:revision>559</cp:revision>
  <dc:subject/>
  <dc:title>幻灯片 1</dc:title>
</cp:coreProperties>
</file>