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41.png" ContentType="image/png"/>
  <Override PartName="/ppt/media/image39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7.png" ContentType="image/png"/>
  <Override PartName="/ppt/media/image12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784E-F152-4F5E-8685-E36DD1A0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640080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03280" y="5165280"/>
            <a:ext cx="640080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9AF4-3C1E-4A07-B459-3D745479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A918C6-5D76-4548-9FF1-6AFB2462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0B2BB-19F3-473A-80DF-87C4F8AE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755640" y="2852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F525C-6846-446E-B246-0D51D581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0328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338DB-B5BD-4374-A997-23ED76D3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8324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434CD-4628-4AB3-B7CD-1F9E56BC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03280" y="5165280"/>
            <a:ext cx="640080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26A62-0993-4C0D-91C0-5A4250A4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640080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1403280" y="5165280"/>
            <a:ext cx="640080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05E5B-D7B2-4014-9DFB-0C9392EB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40328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8324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87B74-6C33-4153-B26E-866B0B54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567240" y="472572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731560" y="472572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1403280" y="516528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567240" y="516528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731560" y="516528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17F83-6A1E-488C-82F4-3AC6F225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A156D-AA03-4258-81E1-224FB454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0328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7B70-519A-4015-86AC-E565FBEF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403280" y="472572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183C4-B305-4CD6-B313-76E52D57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5ABBA-416E-4311-9D45-1E51353B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C83287-A542-4335-98C5-CEECD5E0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CFD54-528F-41A1-9BB3-C7D1F446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755640" y="2852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2ED1B-B59C-48E4-A8B9-9FD7FCEA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40328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FEE2B-6781-4D96-9134-DC7F0282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8324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D74EE-7223-4D53-841A-D4F22FCC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403280" y="5165280"/>
            <a:ext cx="640080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9AFBE-8C5D-45BB-B51B-364D2114A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640080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1403280" y="5165280"/>
            <a:ext cx="640080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F333A-808E-4642-BFFA-02874D51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0328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8324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41216-5105-4E11-B19B-0CC96BAA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472572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31560" y="472572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03280" y="516528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516528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31560" y="516528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077A-AD49-45F7-8546-1C3373AD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567240" y="472572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731560" y="472572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1403280" y="516528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567240" y="516528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5731560" y="516528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C3BDA-3FD9-4C41-9868-C053BED2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ADE1-491C-4213-A00F-1493DE27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472572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E1C7-8547-4C0B-96E2-2E9EC287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B826-7741-4680-9043-C41208E4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2E96-8A87-47CF-98AC-3A65A72A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41E6-A0F2-4082-B5C3-51D2259D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55640" y="2852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2936-9BEF-4D48-B3D1-E20F89C1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0328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2350-7F87-4623-AD61-F82C9D3D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03280" y="472572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3209-A48C-40C6-AF91-F202F7D9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E269-E0D5-404C-AFFB-CECE1FCE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03280" y="5165280"/>
            <a:ext cx="640080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2622-441D-4981-98EE-963F5C6C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640080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03280" y="5165280"/>
            <a:ext cx="640080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AE4B-1DA2-46CB-9FED-7CB65668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0328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3640-C392-460B-BD75-EFA2951F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7240" y="472572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31560" y="472572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03280" y="516528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7240" y="516528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31560" y="516528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D622-572E-4A0A-BBDB-D7A12E4F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CDA5C-AE50-4B32-90A2-FFFBC8C8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03280" y="472572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EE080-0425-4013-B164-2216DEC1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8AFB9-63DC-4CA4-90BE-7E3130AB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586DD-10F1-4A97-941B-AFBEBD56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6618B-B010-4828-A500-728E4F2F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7F9D-5A50-43B7-A759-C46080A0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55640" y="2852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42D03-AE2A-4FC3-A078-895B597A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40328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4EEED-5A43-4A9C-928F-7BFF35D7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324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15014-8AE4-444B-A56F-0F5E172F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403280" y="5165280"/>
            <a:ext cx="640080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B543F-2784-4D84-B516-0928CD14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640080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403280" y="5165280"/>
            <a:ext cx="640080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BCE1B-2CE4-4C6C-B0F5-58ABF849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40328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324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9599F-CD65-468A-9022-CAB40CAE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7240" y="472572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31560" y="472572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403280" y="516528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7240" y="516528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31560" y="516528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270FA-0F99-453A-A62B-5F278775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B3DFB-FCAC-41AD-B7EF-164AAA51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03280" y="472572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3F08B-82D2-4708-8D0A-1F010785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D0C30-B202-40D7-B2DF-4CCA5234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1946-065D-462E-8283-638086F9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22198-2FD4-4DCB-B715-D38A8715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34F34-090B-44F7-89C3-580480D7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55640" y="2852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B2B6D-B14C-440F-97E6-3CD2EBD7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0328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85BD6-D017-4714-BC3E-51FAE56D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80D48-9C48-461F-AF35-813A425F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403280" y="5165280"/>
            <a:ext cx="640080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45579-9ABE-4882-BEE0-A91E08E0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640080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403280" y="5165280"/>
            <a:ext cx="640080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7212E-E370-4D81-979C-66162E95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40328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C839F-FFE8-4EA3-9E43-7C74EFFB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67240" y="472572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731560" y="472572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403280" y="516528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67240" y="516528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731560" y="516528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9F770-F079-4160-BD10-2D64CF4A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D8B0A-977C-4F16-AEA8-9687B3D7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71B3-4661-4FC2-835E-28A04E5D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03280" y="472572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85792-3CDE-4779-91D6-53CDA17D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29A5F-6CDD-4C03-BCE3-03C0F9B4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BCE15-9ED8-4AAE-8223-BF2C241B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9355B-1C0C-4CF5-87F7-689AD01F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755640" y="2852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1069F-BB1F-4137-B682-CAE42A25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0328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99F4D-AEA3-471F-A8B6-C7D1841B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8324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0D6DA-2E37-4895-9AD4-3F3A1396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03280" y="5165280"/>
            <a:ext cx="640080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DF053-5AA9-4785-ADEE-FA4389BE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640080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03280" y="5165280"/>
            <a:ext cx="640080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48123-DD50-4EB1-AC1E-15806FA2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0328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8324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076C4-5D03-431B-9981-8C1BA6808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640" y="2852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D4C0-4D03-442B-B10A-57B2ED75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67240" y="472572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731560" y="472572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03280" y="516528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67240" y="516528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731560" y="516528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3EFD3-7EB1-4218-8B80-9D312A71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8C4AE-7773-4BA0-BDC2-124E2EB3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03280" y="472572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10DDC-C900-41BE-8CD7-23E96DED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94A12-CD13-4E72-9139-863CFFAE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4905E-91FA-4B74-A031-48FAE495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FA111-A2B5-4CA0-B504-DE7F4CC3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55640" y="2852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5935A-3DDA-46F8-A852-A39471E0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0328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FEF9E-BC63-46B1-B5CD-FA0FDB04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324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85A4D-F830-4695-8F18-888883D6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03280" y="5165280"/>
            <a:ext cx="640080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BEC03-7C77-4E8E-AD55-FD70ABB9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0328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E8E0-645D-4A24-95C1-30696D35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640080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403280" y="5165280"/>
            <a:ext cx="640080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7E83A-5245-4C5B-9AE4-4B1BFF3D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0328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324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E4FFB-547B-472E-A8AE-442004D9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67240" y="472572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731560" y="472572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403280" y="516528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567240" y="516528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731560" y="516528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7C1B7-CD35-422C-BC62-18F498E8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22F88-9698-4EFC-AD94-5D69A620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403280" y="472572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11138-1E5A-406E-B501-1C258426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A0F5C-7320-42C4-8B6E-109C61EC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04B45-32F2-4E14-A1BB-B3A5118F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69207-E97E-4B55-B57A-74DF311D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55640" y="2852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582E8-CE0E-4B28-8D4E-C9845503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40328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1E021-A08C-4295-8D16-15FB0FE4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9A3B-2F3F-425A-BF1D-A7177A68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8324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AA8BB-4ADA-46B9-B878-2C279133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403280" y="5165280"/>
            <a:ext cx="640080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C0A77-52C0-46C4-8212-295CE86B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640080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403280" y="5165280"/>
            <a:ext cx="640080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11DF1-6034-4BC9-9216-F8EEE93D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0328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8324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BF360-8F06-4213-A5C4-AF6042C6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67240" y="472572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731560" y="472572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403280" y="516528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567240" y="516528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731560" y="516528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23C76-6A35-48DF-9101-6A511EC2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0F062-C674-4F1E-A86F-936BDA16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403280" y="472572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CCB1B-552A-4DED-8845-2DBF0985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F892C-4226-464C-8F97-39F8089A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32889-2AD5-4DCA-ACA3-1C0EA980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5F38E-A8B1-4650-A2F6-0D32ECCB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03280" y="5165280"/>
            <a:ext cx="640080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99DE-9D3B-4F33-98F0-61295E36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755640" y="285264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BC260-3E96-43B3-BD56-CAD36D63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0328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0C4509-45CB-4962-B205-7D340D70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8324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13317-E932-4585-8736-F61E4256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403280" y="5165280"/>
            <a:ext cx="640080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5C655-A64A-43BC-A6A0-417F18F5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640080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1403280" y="5165280"/>
            <a:ext cx="640080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E1EC7-2E92-414A-8762-F5171C09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3240" y="472572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40328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83240" y="5165280"/>
            <a:ext cx="312336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A30D6-211D-40E8-97F0-9307377C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67240" y="472572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731560" y="472572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1403280" y="516528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67240" y="516528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731560" y="5165280"/>
            <a:ext cx="2060640" cy="40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8335D-00C0-41BA-AE93-885A72EDF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2E1E6-72F9-42E7-B420-91E2A24D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403280" y="472572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0E1EA-4B7E-4196-AA1B-26103597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03280" y="472572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D720D-08D5-448C-8CB5-1C844389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44B8-314D-4442-B05C-FDDC428531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3646-39EC-4C9A-9C72-6318A00688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6D85-94B5-445B-846B-DFC866640E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C15D-AB47-4A5D-8AFB-A7B76AA41A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AFD6-61F9-48E3-AE9A-6331421085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D01D-4F1D-4C0C-8081-89885D975B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74CB-5E27-4EC6-AA65-E39DC7E52B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2AC8-A84E-49F2-835C-13DD13A597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1773-1F15-46D4-A5FB-3F8E15F6B7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CD8A-3679-416F-AEC9-47B0D022071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9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6.xml"/><Relationship Id="rId13" Type="http://schemas.openxmlformats.org/officeDocument/2006/relationships/slide" Target="slide17.xml"/><Relationship Id="rId14" Type="http://schemas.openxmlformats.org/officeDocument/2006/relationships/slide" Target="slide20.xml"/><Relationship Id="rId15" Type="http://schemas.openxmlformats.org/officeDocument/2006/relationships/slide" Target="slide21.xml"/><Relationship Id="rId16" Type="http://schemas.openxmlformats.org/officeDocument/2006/relationships/slide" Target="slide22.xml"/><Relationship Id="rId17" Type="http://schemas.openxmlformats.org/officeDocument/2006/relationships/slide" Target="slide22.xml"/><Relationship Id="rId18" Type="http://schemas.openxmlformats.org/officeDocument/2006/relationships/slide" Target="slide22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2.xml"/><Relationship Id="rId22" Type="http://schemas.openxmlformats.org/officeDocument/2006/relationships/slide" Target="slide22.xml"/><Relationship Id="rId23" Type="http://schemas.openxmlformats.org/officeDocument/2006/relationships/slide" Target="slide22.xml"/><Relationship Id="rId24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5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4000" y="2709720"/>
            <a:ext cx="84596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职称评审系统使用说明（申报者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482840" y="479736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201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微软雅黑"/>
              </a:rPr>
              <a:t>ver</a:t>
            </a:r>
            <a:r>
              <a:rPr b="0" lang="en-US" sz="2800" spc="-1" strike="noStrike">
                <a:solidFill>
                  <a:srgbClr val="ff3300"/>
                </a:solidFill>
                <a:latin typeface="微软雅黑"/>
              </a:rPr>
              <a:t>5</a:t>
            </a:r>
            <a:r>
              <a:rPr b="0" lang="zh-CN" sz="2800" spc="-1" strike="noStrike">
                <a:solidFill>
                  <a:srgbClr val="ff3300"/>
                </a:solidFill>
                <a:latin typeface="微软雅黑"/>
              </a:rPr>
              <a:t>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5048280" y="4006800"/>
            <a:ext cx="3552840" cy="2397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制作扫描件的注意事项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3"/>
          <a:stretch/>
        </p:blipFill>
        <p:spPr>
          <a:xfrm>
            <a:off x="460440" y="3876840"/>
            <a:ext cx="3801960" cy="2689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72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推荐使用扫描仪将纸质材料扫描成图片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P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格式），若使用照相机拍摄材料，请保证图片质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推荐扫描仪分辨率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D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扫描时留白要少，对有效内容进行扫描，增加可视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内容较多的图片中，申报者需用红笔将自己的信息标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图片中文字要清晰易认，因图片质量差而影响评审，申报人自行承担责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044880" y="5943600"/>
            <a:ext cx="914400" cy="9144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推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02440" y="5764320"/>
            <a:ext cx="914400" cy="9144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推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制作附件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要从评审知识库下载、使用最新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制作附件必须使用指定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模板，并按要求插入图片，网址等内容后，压缩后另命名保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评审系统对附件的大小有限制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文档中的图片进行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压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在不影响可视效果的情况下能减小文档大小，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显著节约上传时间，加快上传材料的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版本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压缩图片的操作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5234040" y="1506600"/>
            <a:ext cx="2685960" cy="3943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67" name="" descr=""/>
          <p:cNvPicPr/>
          <p:nvPr/>
        </p:nvPicPr>
        <p:blipFill>
          <a:blip r:embed="rId3"/>
          <a:stretch/>
        </p:blipFill>
        <p:spPr>
          <a:xfrm>
            <a:off x="1279440" y="1779480"/>
            <a:ext cx="2224080" cy="3411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68" name=""/>
          <p:cNvSpPr/>
          <p:nvPr/>
        </p:nvSpPr>
        <p:spPr>
          <a:xfrm rot="18328200">
            <a:off x="4026960" y="1692360"/>
            <a:ext cx="772920" cy="3283200"/>
          </a:xfrm>
          <a:custGeom>
            <a:avLst/>
            <a:gdLst>
              <a:gd name="textAreaLeft" fmla="*/ 103320 w 772920"/>
              <a:gd name="textAreaRight" fmla="*/ 669600 w 772920"/>
              <a:gd name="textAreaTop" fmla="*/ 574560 h 3283200"/>
              <a:gd name="textAreaBottom" fmla="*/ 2380320 h 328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1751368"/>
                <a:lnTo>
                  <a:pt x="10132" y="20446"/>
                </a:lnTo>
                <a:lnTo>
                  <a:pt x="21600" y="17280"/>
                </a:lnTo>
                <a:lnTo>
                  <a:pt x="10132" y="11806"/>
                </a:lnTo>
                <a:lnTo>
                  <a:pt x="10132" y="13966"/>
                </a:lnTo>
                <a:arcTo wR="21600" hR="7560" stAng="9048632" swAng="139393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15960" y="5673600"/>
            <a:ext cx="1476360" cy="730440"/>
          </a:xfrm>
          <a:custGeom>
            <a:avLst/>
            <a:gdLst>
              <a:gd name="textAreaLeft" fmla="*/ 47160 w 1476360"/>
              <a:gd name="textAreaRight" fmla="*/ 1429200 w 1476360"/>
              <a:gd name="textAreaTop" fmla="*/ 47160 h 730440"/>
              <a:gd name="textAreaBottom" fmla="*/ 683280 h 730440"/>
            </a:gdLst>
            <a:ahLst/>
            <a:rect l="textAreaLeft" t="textAreaTop" r="textAreaRight" b="textAreaBottom"/>
            <a:pathLst>
              <a:path w="43647" h="21600">
                <a:moveTo>
                  <a:pt x="0" y="0"/>
                </a:moveTo>
                <a:lnTo>
                  <a:pt x="43647" y="0"/>
                </a:lnTo>
                <a:lnTo>
                  <a:pt x="43647" y="21600"/>
                </a:lnTo>
                <a:lnTo>
                  <a:pt x="0" y="21600"/>
                </a:lnTo>
                <a:close/>
              </a:path>
              <a:path fill="lightenLess" w="43647" h="21600">
                <a:moveTo>
                  <a:pt x="0" y="0"/>
                </a:moveTo>
                <a:lnTo>
                  <a:pt x="43647" y="0"/>
                </a:lnTo>
                <a:lnTo>
                  <a:pt x="42247" y="1400"/>
                </a:lnTo>
                <a:lnTo>
                  <a:pt x="1400" y="1400"/>
                </a:lnTo>
                <a:close/>
              </a:path>
              <a:path fill="darken" w="43647" h="21600">
                <a:moveTo>
                  <a:pt x="43647" y="0"/>
                </a:moveTo>
                <a:lnTo>
                  <a:pt x="43647" y="21600"/>
                </a:lnTo>
                <a:lnTo>
                  <a:pt x="42247" y="20200"/>
                </a:lnTo>
                <a:lnTo>
                  <a:pt x="42247" y="1400"/>
                </a:lnTo>
                <a:close/>
              </a:path>
              <a:path fill="darkenLess" w="43647" h="21600">
                <a:moveTo>
                  <a:pt x="43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247" y="20200"/>
                </a:lnTo>
                <a:close/>
              </a:path>
              <a:path fill="lighten" w="43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647" h="21600">
                <a:moveTo>
                  <a:pt x="14817" y="7301"/>
                </a:moveTo>
                <a:lnTo>
                  <a:pt x="15731" y="7301"/>
                </a:lnTo>
                <a:lnTo>
                  <a:pt x="16114" y="7667"/>
                </a:lnTo>
                <a:lnTo>
                  <a:pt x="25322" y="7667"/>
                </a:lnTo>
                <a:lnTo>
                  <a:pt x="25879" y="8224"/>
                </a:lnTo>
                <a:lnTo>
                  <a:pt x="25879" y="8772"/>
                </a:lnTo>
                <a:lnTo>
                  <a:pt x="27725" y="8772"/>
                </a:lnTo>
                <a:lnTo>
                  <a:pt x="28090" y="8224"/>
                </a:lnTo>
                <a:lnTo>
                  <a:pt x="28830" y="8224"/>
                </a:lnTo>
                <a:lnTo>
                  <a:pt x="28830" y="13376"/>
                </a:lnTo>
                <a:lnTo>
                  <a:pt x="28090" y="13376"/>
                </a:lnTo>
                <a:lnTo>
                  <a:pt x="27725" y="12828"/>
                </a:lnTo>
                <a:lnTo>
                  <a:pt x="25879" y="12828"/>
                </a:lnTo>
                <a:lnTo>
                  <a:pt x="25879" y="14107"/>
                </a:lnTo>
                <a:lnTo>
                  <a:pt x="16297" y="14107"/>
                </a:lnTo>
                <a:lnTo>
                  <a:pt x="16297" y="9877"/>
                </a:lnTo>
                <a:lnTo>
                  <a:pt x="16114" y="9877"/>
                </a:lnTo>
                <a:lnTo>
                  <a:pt x="15731" y="10243"/>
                </a:lnTo>
                <a:lnTo>
                  <a:pt x="14817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3300"/>
                </a:solidFill>
                <a:latin typeface="Arial"/>
              </a:rPr>
              <a:t>视频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448000" y="5540400"/>
            <a:ext cx="56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中任意一张已插入的图片，单击右键，选择设置图象格式，选择图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对话框左下角“压缩”，在“压缩图片”对话框中选择“文档中的所有图片”，“打印”后，确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326880" y="1123920"/>
            <a:ext cx="8575920" cy="5067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录入基础档案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389480" y="4981680"/>
            <a:ext cx="4621320" cy="179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所有信息要保证真实性，填写要完整规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年月日期格式为：年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位，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位，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填写</a:t>
            </a:r>
            <a:r>
              <a:rPr b="1" lang="zh-CN" sz="1400" spc="-1" strike="noStrike">
                <a:solidFill>
                  <a:srgbClr val="ff3300"/>
                </a:solidFill>
                <a:latin typeface="Arial"/>
              </a:rPr>
              <a:t>从教以来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班主任工作年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填写现职务取得时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如在多个年级任教，填写反映主要工作量的任教年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填写申报学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本栏目不需要上传附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录入完毕后，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保存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录入基本情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360360" y="1257480"/>
            <a:ext cx="8461440" cy="4343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76" name=""/>
          <p:cNvSpPr/>
          <p:nvPr/>
        </p:nvSpPr>
        <p:spPr>
          <a:xfrm>
            <a:off x="4700520" y="4981680"/>
            <a:ext cx="4308480" cy="1159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所有信息要保证真实性，填写要完整规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一定要选择正确的“拟评审类型”，否则后果严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学生满意度不必填百分号。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无需填写教育理论和教育科研成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录入完毕后，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保存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975040" y="1879560"/>
            <a:ext cx="904680" cy="298440"/>
          </a:xfrm>
          <a:prstGeom prst="rect">
            <a:avLst/>
          </a:prstGeom>
          <a:noFill/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44520" y="564192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一旦点此“保存”按钮，单据号就会固定不变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1771560" y="5443200"/>
            <a:ext cx="382680" cy="2127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004840" y="1069920"/>
            <a:ext cx="36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学校审核完网上材料后，申报者将该单据号填写到纸质申报表的封面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3943440" y="1684440"/>
            <a:ext cx="257040" cy="244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067200" y="3268800"/>
            <a:ext cx="904680" cy="298440"/>
          </a:xfrm>
          <a:prstGeom prst="rect">
            <a:avLst/>
          </a:prstGeom>
          <a:noFill/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016520" y="299088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年度考核要填写近五年结果，用阿拉伯数字写几优几合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3836520" y="3162240"/>
            <a:ext cx="257400" cy="244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修改基础档案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6200" y="1413000"/>
            <a:ext cx="40388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基础档案部分的信息修改保存后，还要打开基本情况页面按一次保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4657680" y="1498680"/>
            <a:ext cx="4038480" cy="2012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990720" y="4098960"/>
            <a:ext cx="4017960" cy="218592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 flipH="1" rot="19380000">
            <a:off x="683640" y="4567320"/>
            <a:ext cx="4476600" cy="363600"/>
          </a:xfrm>
          <a:prstGeom prst="leftRightArrow">
            <a:avLst>
              <a:gd name="adj1" fmla="val 50000"/>
              <a:gd name="adj2" fmla="val 2450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录入近五年考核表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80960" y="1225440"/>
            <a:ext cx="8345520" cy="513396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4700520" y="6084720"/>
            <a:ext cx="4308480" cy="52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所有信息要保证真实性，填写要完整规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录入完毕后，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保存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93760" y="5987880"/>
            <a:ext cx="1523880" cy="679680"/>
          </a:xfrm>
          <a:custGeom>
            <a:avLst/>
            <a:gdLst>
              <a:gd name="textAreaLeft" fmla="*/ 43920 w 1523880"/>
              <a:gd name="textAreaRight" fmla="*/ 1479960 w 1523880"/>
              <a:gd name="textAreaTop" fmla="*/ 43920 h 679680"/>
              <a:gd name="textAreaBottom" fmla="*/ 635760 h 679680"/>
            </a:gdLst>
            <a:ahLst/>
            <a:rect l="textAreaLeft" t="textAreaTop" r="textAreaRight" b="textAreaBottom"/>
            <a:pathLst>
              <a:path w="48414" h="21600">
                <a:moveTo>
                  <a:pt x="0" y="0"/>
                </a:moveTo>
                <a:lnTo>
                  <a:pt x="48414" y="0"/>
                </a:lnTo>
                <a:lnTo>
                  <a:pt x="48414" y="21600"/>
                </a:lnTo>
                <a:lnTo>
                  <a:pt x="0" y="21600"/>
                </a:lnTo>
                <a:close/>
              </a:path>
              <a:path fill="lightenLess" w="48414" h="21600">
                <a:moveTo>
                  <a:pt x="0" y="0"/>
                </a:moveTo>
                <a:lnTo>
                  <a:pt x="48414" y="0"/>
                </a:lnTo>
                <a:lnTo>
                  <a:pt x="47014" y="1400"/>
                </a:lnTo>
                <a:lnTo>
                  <a:pt x="1400" y="1400"/>
                </a:lnTo>
                <a:close/>
              </a:path>
              <a:path fill="darken" w="48414" h="21600">
                <a:moveTo>
                  <a:pt x="48414" y="0"/>
                </a:moveTo>
                <a:lnTo>
                  <a:pt x="48414" y="21600"/>
                </a:lnTo>
                <a:lnTo>
                  <a:pt x="47014" y="20200"/>
                </a:lnTo>
                <a:lnTo>
                  <a:pt x="47014" y="1400"/>
                </a:lnTo>
                <a:close/>
              </a:path>
              <a:path fill="darkenLess" w="48414" h="21600">
                <a:moveTo>
                  <a:pt x="484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014" y="20200"/>
                </a:lnTo>
                <a:close/>
              </a:path>
              <a:path fill="lighten" w="484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414" h="21600">
                <a:moveTo>
                  <a:pt x="17201" y="7301"/>
                </a:moveTo>
                <a:lnTo>
                  <a:pt x="18115" y="7301"/>
                </a:lnTo>
                <a:lnTo>
                  <a:pt x="18497" y="7667"/>
                </a:lnTo>
                <a:lnTo>
                  <a:pt x="27706" y="7667"/>
                </a:lnTo>
                <a:lnTo>
                  <a:pt x="28263" y="8224"/>
                </a:lnTo>
                <a:lnTo>
                  <a:pt x="28263" y="8772"/>
                </a:lnTo>
                <a:lnTo>
                  <a:pt x="30108" y="8772"/>
                </a:lnTo>
                <a:lnTo>
                  <a:pt x="30474" y="8224"/>
                </a:lnTo>
                <a:lnTo>
                  <a:pt x="31214" y="8224"/>
                </a:lnTo>
                <a:lnTo>
                  <a:pt x="31214" y="13376"/>
                </a:lnTo>
                <a:lnTo>
                  <a:pt x="30474" y="13376"/>
                </a:lnTo>
                <a:lnTo>
                  <a:pt x="30108" y="12828"/>
                </a:lnTo>
                <a:lnTo>
                  <a:pt x="28263" y="12828"/>
                </a:lnTo>
                <a:lnTo>
                  <a:pt x="28263" y="14107"/>
                </a:lnTo>
                <a:lnTo>
                  <a:pt x="18680" y="14107"/>
                </a:lnTo>
                <a:lnTo>
                  <a:pt x="18680" y="9877"/>
                </a:lnTo>
                <a:lnTo>
                  <a:pt x="18497" y="9877"/>
                </a:lnTo>
                <a:lnTo>
                  <a:pt x="18115" y="10243"/>
                </a:lnTo>
                <a:lnTo>
                  <a:pt x="17201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3300"/>
                </a:solidFill>
                <a:latin typeface="Arial"/>
              </a:rPr>
              <a:t>视频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438360" y="4257720"/>
            <a:ext cx="814680" cy="231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中学一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459240" y="4541760"/>
            <a:ext cx="8128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中学一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462480" y="4751280"/>
            <a:ext cx="8125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中学一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454560" y="4983120"/>
            <a:ext cx="8125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中学一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录入信息和上传附件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0870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所有信息的填写方法同“年度考核表”填写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所有附件（证书等）上传方法与上传年度考核表的操作方法一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957240" y="3281400"/>
            <a:ext cx="7151760" cy="3029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录入计算机职称合格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3743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江苏省职称计算机证书只有一张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全国职称计算机要通过三门才算合格，如果一次通过三门就只有一张合格证，如果没有一次性通过，会有２－３张合格证，需将所有合格证上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不用去考试中心打通过证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1781280" y="3708360"/>
            <a:ext cx="5823000" cy="3133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录入聘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360360" y="1352520"/>
            <a:ext cx="8423280" cy="5162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66200" y="1413000"/>
            <a:ext cx="40388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声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评审系统的登录与退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修改密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使用评审知识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网上提交材料的流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制作扫描件的注意事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上传评审材料简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使用WORD模板制作附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在WORD中压缩图片的操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录入基础档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录入基本情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录入近五年考核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录入信息和上传附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录入继续教育、其他进修证明材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录入任现职以来工作总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录入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从教以来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其他教育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管理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工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录入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从教以来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班主任工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57680" y="1413000"/>
            <a:ext cx="403848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录入从教以来辅导员指导教师工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录入任现职以来教育工作获奖荣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录入任现职以来教学工作统计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录入任现职以来公开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录入课堂教学能力考核成绩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录入教学质量综合考核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录入任现职以来教学工作获奖荣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录入任现职以前部分教学工作统计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录入教育教学科研工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查询刊物的合法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录入培养指导青年教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提交材料进入审核阶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查看已经送审的材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查看退回的材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关注自已的评审过程和结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关注他人的评审过程和结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评审系统其他功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录入继续教育、其他进修证明材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6560" y="1412640"/>
            <a:ext cx="8120160" cy="28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将已经认定的课时按校、区、市等级分行填写，并上传对应附件，每级别一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266760" y="2325600"/>
            <a:ext cx="8696160" cy="3546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录入任现职以来工作总结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66560" y="1412640"/>
            <a:ext cx="832032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此处内容与纸质评审表中最后个人小结内容相同，是重要的评审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942840" y="2521080"/>
            <a:ext cx="7137360" cy="4074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466560" y="1330200"/>
            <a:ext cx="8229600" cy="5088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录入从教以来班主任工作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700520" y="5318280"/>
            <a:ext cx="4308480" cy="946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所有信息要保证真实性，填写要完整规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Arial"/>
              </a:rPr>
              <a:t>按学年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填写</a:t>
            </a:r>
            <a:r>
              <a:rPr b="1" lang="zh-CN" sz="1400" spc="-1" strike="noStrike">
                <a:solidFill>
                  <a:srgbClr val="ff3300"/>
                </a:solidFill>
                <a:latin typeface="Arial"/>
              </a:rPr>
              <a:t>从教以来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班主任工作，每学年一行，按行上传对应附件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Arial"/>
              </a:rPr>
              <a:t>需对照评审细则的要求填写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录入完毕后，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保存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127080" y="1625760"/>
            <a:ext cx="199080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录入从教以来辅导员指导教师工作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此处填写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从教以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担任辅导员和兴趣小组指导教师有关工作情况，需对照评审细则要求填写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按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学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填写，每学期一行并上传对应的附件（使用“辅导员指导教师”模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1811160" y="3449520"/>
            <a:ext cx="5540400" cy="2897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9" name="" descr=""/>
          <p:cNvPicPr/>
          <p:nvPr/>
        </p:nvPicPr>
        <p:blipFill>
          <a:blip r:embed="rId3"/>
          <a:stretch/>
        </p:blipFill>
        <p:spPr>
          <a:xfrm>
            <a:off x="1857240" y="3589200"/>
            <a:ext cx="110520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录入从教以来其他教育管理工作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235080" y="1203480"/>
            <a:ext cx="8651880" cy="507672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4700520" y="4981680"/>
            <a:ext cx="4308480" cy="1159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所有信息要保证真实性，填写要完整规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填写</a:t>
            </a:r>
            <a:r>
              <a:rPr b="1" lang="zh-CN" sz="1400" spc="-1" strike="noStrike">
                <a:solidFill>
                  <a:srgbClr val="ff3300"/>
                </a:solidFill>
                <a:latin typeface="Arial"/>
              </a:rPr>
              <a:t>从教以来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其他教育管理工作：校领导、校中层、年级组长、教研组长、团（少先队）工作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中层干部、教研组长等教育管理工作</a:t>
            </a:r>
            <a:r>
              <a:rPr b="1" lang="zh-CN" sz="1400" spc="-1" strike="noStrike">
                <a:solidFill>
                  <a:srgbClr val="ff3300"/>
                </a:solidFill>
                <a:latin typeface="Arial"/>
              </a:rPr>
              <a:t>按聘期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填写，每聘期一行，并按行上传对应的附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Arial"/>
              </a:rPr>
              <a:t>需对照评审细则要求填写信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录入完毕后，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保存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3"/>
          <a:stretch/>
        </p:blipFill>
        <p:spPr>
          <a:xfrm>
            <a:off x="201600" y="1541520"/>
            <a:ext cx="18367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录入任现职以来教育工作获奖、荣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6200" y="1413000"/>
            <a:ext cx="7923240" cy="13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填写任现职以来（任现职期间）关于教育管理工作的取得的荣誉和获奖情况，每荣誉一行，并按行上传附件（支撑材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803160" y="3043080"/>
            <a:ext cx="7707600" cy="2854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录入任现职以来教学工作统计表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390600" y="1177920"/>
            <a:ext cx="8199360" cy="501012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4700520" y="4981680"/>
            <a:ext cx="4308480" cy="946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所有信息要保证真实性，填写要完整规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按学年填写</a:t>
            </a:r>
            <a:r>
              <a:rPr b="1" lang="zh-CN" sz="1400" spc="-1" strike="noStrike">
                <a:solidFill>
                  <a:srgbClr val="ff3300"/>
                </a:solidFill>
                <a:latin typeface="Arial"/>
              </a:rPr>
              <a:t>任现职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以来教学工作信息，每学年一行，并按行上传对应的附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3300"/>
                </a:solidFill>
                <a:latin typeface="Arial"/>
              </a:rPr>
              <a:t>若同一学年任教多门学科，每门任教学科独立占一行，并按行上传对应的附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录入完毕后，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保存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396720" y="1428840"/>
            <a:ext cx="1690920" cy="47448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4"/>
          <a:stretch/>
        </p:blipFill>
        <p:spPr>
          <a:xfrm>
            <a:off x="404640" y="1441440"/>
            <a:ext cx="16639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录入任现职以来公开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2"/>
          <a:stretch/>
        </p:blipFill>
        <p:spPr>
          <a:xfrm>
            <a:off x="304920" y="1211400"/>
            <a:ext cx="8570880" cy="4410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34" name=""/>
          <p:cNvSpPr/>
          <p:nvPr/>
        </p:nvSpPr>
        <p:spPr>
          <a:xfrm>
            <a:off x="4700520" y="4981680"/>
            <a:ext cx="4308480" cy="946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所有信息要保证真实性，填写要完整规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填写</a:t>
            </a:r>
            <a:r>
              <a:rPr b="1" lang="zh-CN" sz="1400" spc="-1" strike="noStrike">
                <a:solidFill>
                  <a:srgbClr val="ff3300"/>
                </a:solidFill>
                <a:latin typeface="Arial"/>
              </a:rPr>
              <a:t>任现职以来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公开课信息，每课一行，并按行上传对应的附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精品课、评优课、与基本功竞赛有关的课、与教学设计比赛有关的课等内容不放在公开课栏目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录入完毕后，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保存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3"/>
          <a:srcRect l="0" t="0" r="0" b="33796"/>
          <a:stretch/>
        </p:blipFill>
        <p:spPr>
          <a:xfrm>
            <a:off x="353880" y="1519200"/>
            <a:ext cx="17352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录入课堂教学能力考核成绩单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上传课堂教学能力考核成绩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因精品课而免于参加课堂教学能力考核，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将精品课证书作为成绩单上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录入教学质量综合考核表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6560" y="141264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张，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共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1176480" y="2108160"/>
            <a:ext cx="6673680" cy="3987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声 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39480" y="1413000"/>
            <a:ext cx="844236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申报者使用评审系统参加职称评审，若出现没有按要求填写信息（包括校内审核信息），或没按要求准备职评材料，或漏传材料，或上传的材料无法打开等情况，而造成没有通过当年评审，责任由申报者本人承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上传的职评材料经校内三级审核，理应齐全且可打开。 评审委员会无权通知申报者补传或重传材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录入任现职以来教学工作获奖、荣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6560" y="11844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填写任现职以来（任现职期间）关于教学工作的取得的荣誉和获奖情况，每荣誉一行，并按行上传附件（支撑材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rcRect l="20381" t="21637" r="0" b="-7858"/>
          <a:stretch/>
        </p:blipFill>
        <p:spPr>
          <a:xfrm>
            <a:off x="1027080" y="2660760"/>
            <a:ext cx="7321680" cy="3962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录入任现职以前部分教学工作统计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0920" y="1425600"/>
            <a:ext cx="27432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申报者为了体现多年毕业班教学经历，以显示其具备相应加权条件，才需填写此表，每学年一行，并按行上传附件（支撑材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3448080" y="1735200"/>
            <a:ext cx="5133960" cy="3225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录入教育教学科研工作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上传任现职以来发表、获奖论文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不超过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若论文能在数字期刊网（如中国知网、龙源期刊网等）查到，优先使用“发表论文（数字期刊网收录）”模板，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如没被数字期刊网收录，可以使用其他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课题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限报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2"/>
          <a:srcRect l="21024" t="0" r="0" b="29762"/>
          <a:stretch/>
        </p:blipFill>
        <p:spPr>
          <a:xfrm>
            <a:off x="3187800" y="3594240"/>
            <a:ext cx="5368680" cy="2725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查询刊物的合法性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05920" y="1413000"/>
            <a:ext cx="883620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新闻出版机构查询”网站是查询刊物合法性的权威网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上传发表的论文时，需将刊物在新闻出版机构查询网站的查询结果截图后贴入模板，需附网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具体操作方法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打开新闻出版总署“新闻出版机构查询”网站（网址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app.gov.cn/govservice/134.sht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选择正确的媒体类别进行查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将“媒体名录查询详细”页的网址和截图贴入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查询刊物的合法性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rcRect l="0" t="0" r="32664" b="17669"/>
          <a:stretch/>
        </p:blipFill>
        <p:spPr>
          <a:xfrm>
            <a:off x="179280" y="1041480"/>
            <a:ext cx="3216240" cy="3585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54" name="" descr=""/>
          <p:cNvPicPr/>
          <p:nvPr/>
        </p:nvPicPr>
        <p:blipFill>
          <a:blip r:embed="rId3"/>
          <a:srcRect l="6069" t="0" r="32220" b="5869"/>
          <a:stretch/>
        </p:blipFill>
        <p:spPr>
          <a:xfrm>
            <a:off x="4341960" y="1563840"/>
            <a:ext cx="4514760" cy="2255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55" name="" descr=""/>
          <p:cNvPicPr/>
          <p:nvPr/>
        </p:nvPicPr>
        <p:blipFill>
          <a:blip r:embed="rId4"/>
          <a:stretch/>
        </p:blipFill>
        <p:spPr>
          <a:xfrm>
            <a:off x="731880" y="4851360"/>
            <a:ext cx="7507080" cy="1793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56" name=""/>
          <p:cNvSpPr/>
          <p:nvPr/>
        </p:nvSpPr>
        <p:spPr>
          <a:xfrm>
            <a:off x="1866960" y="4017960"/>
            <a:ext cx="923760" cy="2192400"/>
          </a:xfrm>
          <a:custGeom>
            <a:avLst/>
            <a:gdLst>
              <a:gd name="textAreaLeft" fmla="*/ 123480 w 923760"/>
              <a:gd name="textAreaRight" fmla="*/ 800280 w 923760"/>
              <a:gd name="textAreaTop" fmla="*/ 383400 h 2192400"/>
              <a:gd name="textAreaBottom" fmla="*/ 1589400 h 219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rot="17280000">
            <a:off x="5864760" y="4201200"/>
            <a:ext cx="2160720" cy="774720"/>
          </a:xfrm>
          <a:custGeom>
            <a:avLst/>
            <a:gdLst>
              <a:gd name="textAreaLeft" fmla="*/ 378000 w 2160720"/>
              <a:gd name="textAreaRight" fmla="*/ 1566720 w 2160720"/>
              <a:gd name="textAreaTop" fmla="*/ 103680 h 774720"/>
              <a:gd name="textAreaBottom" fmla="*/ 671040 h 7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录入培养指导青年教师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按照常州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年评审中学高级教师专业技术资格细化标准数量要求上报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亮点要精选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与其他目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的内容不要重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2"/>
          <a:srcRect l="0" t="0" r="0" b="9698"/>
          <a:stretch/>
        </p:blipFill>
        <p:spPr>
          <a:xfrm>
            <a:off x="1023840" y="3075120"/>
            <a:ext cx="7137360" cy="3282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提交材料进入审核阶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评审材料上传完毕，仔细检查核对无误后，送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2"/>
          <a:stretch/>
        </p:blipFill>
        <p:spPr>
          <a:xfrm>
            <a:off x="243000" y="2057400"/>
            <a:ext cx="8737560" cy="4638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查看已经送审的材料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提交的材料哪里去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773928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注意：送审后，申报者不要再点击“评审申报表维护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送审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申报者点击“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评审申报表查询（个人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可查看自己送审的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rcRect l="35979" t="0" r="0" b="0"/>
          <a:stretch/>
        </p:blipFill>
        <p:spPr>
          <a:xfrm>
            <a:off x="2131920" y="3462480"/>
            <a:ext cx="4541760" cy="2311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查看退回的材料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何修改、重新送审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773928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送审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申报者提交的材料若没有通过审核，被退回后，点击“评审申报表维护”，可进行修改并重新提交送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关注自已的评审过程和结果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66200" y="1413000"/>
            <a:ext cx="40388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当申报者上传了第一个评审材料开始，在登录后的个人界面会出现如右图所示的流程图，闪烁的绿色块会指示评审工作进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可以点击“评审申报表查询（个人）”查看评审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657680" y="1413000"/>
            <a:ext cx="403848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307120" y="1330200"/>
            <a:ext cx="2838240" cy="51087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几点说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96360" y="1413000"/>
            <a:ext cx="848844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校不需要建立公示账户，全市统一使用公示账户，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用户名为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gs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，不用输入密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申报职称人员一律不担任学校三级审核工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评委无法直接查看图片，图片要放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后压缩上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证书无证明文件的，由学校审核其真实性，并出具相关证明。如学校也无法判断真实性，模板中贴文件处空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引用网上内容的，需提供网址，如要密码，需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附件中写下账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论文没有被数字期刊网收录，仍然可作为申报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课题材料中重要内容页（签名、盖章、人员名单、成果列表）要扫描成图片贴到模板中，其他内容可直接粘贴电子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关注他人的评审过程和结果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65040" y="1450440"/>
            <a:ext cx="30751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当申报者的评审材料在校内的审核结束后，所有信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含身份证号和电话号码）将会在网上公示一年，请关注他们的评审过程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以用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g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账户查看公示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2"/>
          <a:stretch/>
        </p:blipFill>
        <p:spPr>
          <a:xfrm>
            <a:off x="4657680" y="1413000"/>
            <a:ext cx="4038480" cy="452736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3581280" y="1638360"/>
            <a:ext cx="5288040" cy="4282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评审系统其他功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933720" y="3602160"/>
            <a:ext cx="4670640" cy="788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评审材料上传完毕提交上级送审后，通过本查询可以实时看到材料的审核情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933720" y="4576680"/>
            <a:ext cx="4670640" cy="789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评审材料送审后，在教研组长审核之前，可以通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收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把评审材料收回修改，修改好了再送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3006720" y="40384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006720" y="497664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361800" y="1181160"/>
            <a:ext cx="2708280" cy="5164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4360" y="2709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结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1482840" y="479736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201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微软雅黑"/>
              </a:rPr>
              <a:t>ver</a:t>
            </a:r>
            <a:r>
              <a:rPr b="0" lang="en-US" sz="2800" spc="-1" strike="noStrike">
                <a:solidFill>
                  <a:srgbClr val="ff3300"/>
                </a:solidFill>
                <a:latin typeface="微软雅黑"/>
              </a:rPr>
              <a:t>5</a:t>
            </a:r>
            <a:r>
              <a:rPr b="0" lang="zh-CN" sz="2800" spc="-1" strike="noStrike">
                <a:solidFill>
                  <a:srgbClr val="ff3300"/>
                </a:solidFill>
                <a:latin typeface="微软雅黑"/>
              </a:rPr>
              <a:t>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评审系统的登录与退出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6200" y="1413000"/>
            <a:ext cx="826956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登录：评审系统网址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rsps.czedu.com.c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退出：点击工具栏中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退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或者浏览器右上方关闭按钮，退出评审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831960" y="3002040"/>
            <a:ext cx="7512120" cy="2508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修改密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66560" y="141264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妥善保管好自己的账户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建议第一次使用时修改密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遗忘了密码，可请学校管理员重新设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2"/>
          <a:srcRect l="64426" t="0" r="0" b="57827"/>
          <a:stretch/>
        </p:blipFill>
        <p:spPr>
          <a:xfrm>
            <a:off x="317520" y="3506760"/>
            <a:ext cx="3348000" cy="163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4168800" y="2982960"/>
            <a:ext cx="4514760" cy="2971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23" name=""/>
          <p:cNvSpPr/>
          <p:nvPr/>
        </p:nvSpPr>
        <p:spPr>
          <a:xfrm rot="17812800">
            <a:off x="3243960" y="4133160"/>
            <a:ext cx="876240" cy="2017800"/>
          </a:xfrm>
          <a:custGeom>
            <a:avLst/>
            <a:gdLst>
              <a:gd name="textAreaLeft" fmla="*/ 117360 w 876240"/>
              <a:gd name="textAreaRight" fmla="*/ 758880 w 876240"/>
              <a:gd name="textAreaTop" fmla="*/ 353160 h 2017800"/>
              <a:gd name="textAreaBottom" fmla="*/ 1463040 h 201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用评审知识库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1988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评审知识库中有使用帮助，评审细则等文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评审知识库会根据实际需求更改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务必根据职称文件要求提供材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-720" y="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-720" y="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-720" y="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833400" y="3303720"/>
            <a:ext cx="7947000" cy="25794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网上提交材料的流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网上提交材料的主要流程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36440" y="2459160"/>
            <a:ext cx="2505240" cy="3576600"/>
            <a:chOff x="136440" y="2459160"/>
            <a:chExt cx="2505240" cy="3576600"/>
          </a:xfrm>
        </p:grpSpPr>
        <p:sp>
          <p:nvSpPr>
            <p:cNvPr id="433" name=""/>
            <p:cNvSpPr/>
            <p:nvPr/>
          </p:nvSpPr>
          <p:spPr>
            <a:xfrm>
              <a:off x="136440" y="2459160"/>
              <a:ext cx="2505240" cy="33703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ff33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ff3300"/>
                  </a:solidFill>
                  <a:latin typeface="Arial"/>
                </a:rPr>
                <a:t>根据职称文件准备纸质材料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</a:rPr>
                <a:t>将纸质材料扫描成图片，命名，分类保存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</a:rPr>
                <a:t>选择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ord</a:t>
              </a:r>
              <a:r>
                <a:rPr b="0" lang="zh-CN" sz="1700" spc="-1" strike="noStrike">
                  <a:solidFill>
                    <a:srgbClr val="000000"/>
                  </a:solidFill>
                  <a:latin typeface="Arial"/>
                </a:rPr>
                <a:t>模版，将扫描件插入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ord</a:t>
              </a:r>
              <a:r>
                <a:rPr b="0" lang="zh-CN" sz="1700" spc="-1" strike="noStrike">
                  <a:solidFill>
                    <a:srgbClr val="000000"/>
                  </a:solidFill>
                  <a:latin typeface="Arial"/>
                </a:rPr>
                <a:t>模版，压缩后命名保存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700" spc="-1" strike="noStrike">
                  <a:solidFill>
                    <a:srgbClr val="000000"/>
                  </a:solidFill>
                  <a:latin typeface="Arial"/>
                </a:rPr>
                <a:t>登录评审系统，选择目录，填写数据，上传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ord</a:t>
              </a:r>
              <a:r>
                <a:rPr b="0" lang="zh-CN" sz="1700" spc="-1" strike="noStrike">
                  <a:solidFill>
                    <a:srgbClr val="000000"/>
                  </a:solidFill>
                  <a:latin typeface="Arial"/>
                </a:rPr>
                <a:t>附件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6440" y="5813640"/>
              <a:ext cx="2505240" cy="222120"/>
            </a:xfrm>
            <a:custGeom>
              <a:avLst/>
              <a:gdLst>
                <a:gd name="textAreaLeft" fmla="*/ 271800 w 2505240"/>
                <a:gd name="textAreaRight" fmla="*/ 2233440 w 2505240"/>
                <a:gd name="textAreaTop" fmla="*/ 24120 h 222120"/>
                <a:gd name="textAreaBottom" fmla="*/ 198000 h 2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5120" y="2522520"/>
              <a:ext cx="2376720" cy="5619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 txBox="1"/>
            <p:nvPr/>
          </p:nvSpPr>
          <p:spPr>
            <a:xfrm>
              <a:off x="318960" y="2667240"/>
              <a:ext cx="216072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申报者整理上传材料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5120" y="3097440"/>
              <a:ext cx="2376720" cy="287280"/>
            </a:xfrm>
            <a:custGeom>
              <a:avLst/>
              <a:gdLst>
                <a:gd name="textAreaLeft" fmla="*/ 258120 w 2376720"/>
                <a:gd name="textAreaRight" fmla="*/ 2118600 w 2376720"/>
                <a:gd name="textAreaTop" fmla="*/ 30960 h 287280"/>
                <a:gd name="textAreaBottom" fmla="*/ 25632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3362400" y="2459160"/>
            <a:ext cx="2504880" cy="3576600"/>
            <a:chOff x="3362400" y="2459160"/>
            <a:chExt cx="2504880" cy="3576600"/>
          </a:xfrm>
        </p:grpSpPr>
        <p:sp>
          <p:nvSpPr>
            <p:cNvPr id="439" name=""/>
            <p:cNvSpPr/>
            <p:nvPr/>
          </p:nvSpPr>
          <p:spPr>
            <a:xfrm>
              <a:off x="3362400" y="2459160"/>
              <a:ext cx="2504880" cy="33703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教研组长审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办公室主任审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分管校长审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校内述职、公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362400" y="5813640"/>
              <a:ext cx="2504880" cy="222120"/>
            </a:xfrm>
            <a:custGeom>
              <a:avLst/>
              <a:gdLst>
                <a:gd name="textAreaLeft" fmla="*/ 271800 w 2504880"/>
                <a:gd name="textAreaRight" fmla="*/ 2233080 w 2504880"/>
                <a:gd name="textAreaTop" fmla="*/ 24120 h 222120"/>
                <a:gd name="textAreaBottom" fmla="*/ 198000 h 2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420720" y="2522520"/>
              <a:ext cx="2376360" cy="5619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 txBox="1"/>
            <p:nvPr/>
          </p:nvSpPr>
          <p:spPr>
            <a:xfrm>
              <a:off x="3544560" y="2667240"/>
              <a:ext cx="216036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校内审核申报材料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20720" y="3097440"/>
              <a:ext cx="2376360" cy="287280"/>
            </a:xfrm>
            <a:custGeom>
              <a:avLst/>
              <a:gdLst>
                <a:gd name="textAreaLeft" fmla="*/ 257760 w 2376360"/>
                <a:gd name="textAreaRight" fmla="*/ 2118600 w 2376360"/>
                <a:gd name="textAreaTop" fmla="*/ 30960 h 287280"/>
                <a:gd name="textAreaBottom" fmla="*/ 25632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575400" y="2459160"/>
            <a:ext cx="2505240" cy="3576600"/>
            <a:chOff x="6575400" y="2459160"/>
            <a:chExt cx="2505240" cy="3576600"/>
          </a:xfrm>
        </p:grpSpPr>
        <p:sp>
          <p:nvSpPr>
            <p:cNvPr id="445" name=""/>
            <p:cNvSpPr/>
            <p:nvPr/>
          </p:nvSpPr>
          <p:spPr>
            <a:xfrm>
              <a:off x="6575400" y="2459160"/>
              <a:ext cx="2505240" cy="33703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辖市区教育行政部门审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市教育局审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市人社局审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省人社厅审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网上公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575400" y="5813640"/>
              <a:ext cx="2505240" cy="222120"/>
            </a:xfrm>
            <a:custGeom>
              <a:avLst/>
              <a:gdLst>
                <a:gd name="textAreaLeft" fmla="*/ 271800 w 2505240"/>
                <a:gd name="textAreaRight" fmla="*/ 2233440 w 2505240"/>
                <a:gd name="textAreaTop" fmla="*/ 24120 h 222120"/>
                <a:gd name="textAreaBottom" fmla="*/ 198000 h 2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34080" y="2522520"/>
              <a:ext cx="2376720" cy="5619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 txBox="1"/>
            <p:nvPr/>
          </p:nvSpPr>
          <p:spPr>
            <a:xfrm>
              <a:off x="6757920" y="2667240"/>
              <a:ext cx="216072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各级行政部门审核材料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34080" y="3097440"/>
              <a:ext cx="2376720" cy="287280"/>
            </a:xfrm>
            <a:custGeom>
              <a:avLst/>
              <a:gdLst>
                <a:gd name="textAreaLeft" fmla="*/ 258120 w 2376720"/>
                <a:gd name="textAreaRight" fmla="*/ 2118600 w 2376720"/>
                <a:gd name="textAreaTop" fmla="*/ 30960 h 287280"/>
                <a:gd name="textAreaBottom" fmla="*/ 25632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28" y="21600"/>
                  </a:lnTo>
                  <a:lnTo>
                    <a:pt x="107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be0e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2716200" y="3460680"/>
            <a:ext cx="587520" cy="480960"/>
          </a:xfrm>
          <a:prstGeom prst="rightArrow">
            <a:avLst>
              <a:gd name="adj1" fmla="val 59759"/>
              <a:gd name="adj2" fmla="val 66631"/>
            </a:avLst>
          </a:prstGeom>
          <a:gradFill rotWithShape="0">
            <a:gsLst>
              <a:gs pos="0">
                <a:srgbClr val="bbe0e3"/>
              </a:gs>
              <a:gs pos="100000">
                <a:srgbClr val="3333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940360" y="3475080"/>
            <a:ext cx="587520" cy="480960"/>
          </a:xfrm>
          <a:prstGeom prst="rightArrow">
            <a:avLst>
              <a:gd name="adj1" fmla="val 59759"/>
              <a:gd name="adj2" fmla="val 66631"/>
            </a:avLst>
          </a:prstGeom>
          <a:gradFill rotWithShape="0">
            <a:gsLst>
              <a:gs pos="0">
                <a:srgbClr val="bbe0e3"/>
              </a:gs>
              <a:gs pos="100000">
                <a:srgbClr val="3333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上传评审材料简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申报者根据评审条件要求填写信息，并根据需要上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附件，作为所填信息的支撑材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操作路径：我的菜单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评审申报表维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644400" y="3159000"/>
            <a:ext cx="3648240" cy="2743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55" name="" descr=""/>
          <p:cNvPicPr/>
          <p:nvPr/>
        </p:nvPicPr>
        <p:blipFill>
          <a:blip r:embed="rId3"/>
          <a:srcRect l="0" t="0" r="62532" b="21389"/>
          <a:stretch/>
        </p:blipFill>
        <p:spPr>
          <a:xfrm>
            <a:off x="4986360" y="3062160"/>
            <a:ext cx="3565440" cy="3175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56" name=""/>
          <p:cNvSpPr/>
          <p:nvPr/>
        </p:nvSpPr>
        <p:spPr>
          <a:xfrm rot="17812800">
            <a:off x="4183920" y="3882240"/>
            <a:ext cx="876240" cy="2017440"/>
          </a:xfrm>
          <a:custGeom>
            <a:avLst/>
            <a:gdLst>
              <a:gd name="textAreaLeft" fmla="*/ 117360 w 876240"/>
              <a:gd name="textAreaRight" fmla="*/ 758880 w 876240"/>
              <a:gd name="textAreaTop" fmla="*/ 352800 h 2017440"/>
              <a:gd name="textAreaBottom" fmla="*/ 1462680 h 201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6:01:27Z</dcterms:created>
  <dc:creator/>
  <dc:description/>
  <cp:keywords/>
  <dc:language>en-US</dc:language>
  <cp:lastModifiedBy>yu</cp:lastModifiedBy>
  <cp:lastPrinted>1899-12-30T00:00:00Z</cp:lastPrinted>
  <dcterms:modified xsi:type="dcterms:W3CDTF">2013-05-20T05:37:10Z</dcterms:modified>
  <cp:revision>71</cp:revision>
  <dc:subject/>
  <dc:title>职称评审系统使用（申报者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