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4.gif" ContentType="image/gif"/>
  <Override PartName="/ppt/media/image21.gif" ContentType="image/gif"/>
  <Override PartName="/ppt/media/image20.jpeg" ContentType="image/jpeg"/>
  <Override PartName="/ppt/media/image19.png" ContentType="image/pn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49.gif" ContentType="image/gif"/>
  <Override PartName="/ppt/media/image16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22.gif" ContentType="image/gif"/>
  <Override PartName="/ppt/media/image4.jpeg" ContentType="image/jpeg"/>
  <Override PartName="/ppt/media/image38.wmf" ContentType="image/x-wmf"/>
  <Override PartName="/ppt/media/image40.png" ContentType="image/png"/>
  <Override PartName="/ppt/media/image5.jpeg" ContentType="image/jpe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54.png" ContentType="image/png"/>
  <Override PartName="/ppt/media/image43.gif" ContentType="image/gif"/>
  <Override PartName="/ppt/media/image47.gif" ContentType="image/gif"/>
  <Override PartName="/ppt/media/image48.gif" ContentType="image/gif"/>
  <Override PartName="/ppt/media/image57.jpeg" ContentType="image/jpeg"/>
  <Override PartName="/ppt/media/image50.gif" ContentType="image/gif"/>
  <Override PartName="/ppt/media/image51.jpeg" ContentType="image/jpeg"/>
  <Override PartName="/ppt/media/image13.jpeg" ContentType="image/jpeg"/>
  <Override PartName="/ppt/media/image53.gif" ContentType="image/gif"/>
  <Override PartName="/ppt/media/image58.jpeg" ContentType="image/jpeg"/>
  <Override PartName="/ppt/media/image46.gif" ContentType="image/gif"/>
  <Override PartName="/ppt/media/image55.jpeg" ContentType="image/jpeg"/>
  <Override PartName="/ppt/media/image56.jpeg" ContentType="image/jpeg"/>
  <Override PartName="/ppt/media/image42.png" ContentType="image/png"/>
  <Override PartName="/ppt/media/image59.jpeg" ContentType="image/jpeg"/>
  <Override PartName="/ppt/media/image41.png" ContentType="image/png"/>
  <Override PartName="/ppt/media/image36.gif" ContentType="image/gif"/>
  <Override PartName="/ppt/media/image35.png" ContentType="image/png"/>
  <Override PartName="/ppt/media/image33.jpeg" ContentType="image/jpeg"/>
  <Override PartName="/ppt/media/image32.png" ContentType="image/png"/>
  <Override PartName="/ppt/media/image31.jpeg" ContentType="image/jpeg"/>
  <Override PartName="/ppt/media/image34.png" ContentType="image/png"/>
  <Override PartName="/ppt/media/image12.jpeg" ContentType="image/jpeg"/>
  <Override PartName="/ppt/media/image39.gif" ContentType="image/gif"/>
  <Override PartName="/ppt/media/image9.gif" ContentType="image/gif"/>
  <Override PartName="/ppt/media/image7.png" ContentType="image/png"/>
  <Override PartName="/ppt/media/image44.gif" ContentType="image/gif"/>
  <Override PartName="/ppt/media/image11.jpeg" ContentType="image/jpeg"/>
  <Override PartName="/ppt/media/image45.gif" ContentType="image/gi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948-EB4A-431A-BDE2-5FBE31EE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2E0-D09E-4079-B148-DBFC1491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8A1-A899-47F0-893B-FF838093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4CE-73C6-455A-9E06-10E5DAC8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BAB1-3D9B-4D34-A009-240A82AD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D07A-540A-4857-B356-204325EC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DC4D-88CE-4C02-92D9-78A360CC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3739-7659-421F-A9E8-63F688ED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E5AB-650C-4623-94A8-837613D5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DEDD-A2C1-4C3B-A395-260D3E54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8AED-1A95-4683-909A-64C46BA3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698-9D6E-4664-8EDB-37F36901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5DD1-0528-475E-96E4-E45D401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3B53-05A3-4DE4-BCCA-8963A65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20F4-7283-44B2-B6DF-8AD4C102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93AB-6B5A-40E4-86D0-2A06ED4D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0BCC-78D1-46C0-9288-7FAD08D7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CA83-D5D0-42F2-A397-1F879B70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2030-01B7-4522-811E-52605AE9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5230-835D-4546-B545-E2BF2B2E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B497-AAA2-4B6F-A404-6DC3DB1E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1382-7006-4B2E-BF75-FD0802E1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7B6-A494-457C-8203-9CD8B59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94074-A64D-43A8-9030-4449137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8411-7F2E-41FF-8B43-B51DFDCF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97EB-7A1C-4F67-A3B2-124F5C2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DCAD-376C-4E0A-BBD6-1DDF3C58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26E8-31AD-4AA8-9205-FD357E86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2A1E-8B64-47C6-9B78-0540F4C1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8057-67E1-4EA1-94C0-163ABE7A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E856C-AE53-4DD9-A2A2-D437AB71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679D-961E-44D7-A532-8B6B7866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A3DD-8C2A-4305-BF0F-AF532E9A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4F9-8A97-4E2D-8E94-7B2EEAEA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87A3B-39F0-424D-8F2E-F7505A78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2A9E-3AED-40A4-96A0-1079093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401F-6612-4515-BF05-B84033B8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C017-017C-4140-875E-6CACE8DB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A338-4FD3-4243-9D6F-B1D5E1FE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E3233-4704-47CB-8DCA-1DA46215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168B-5277-4D29-B496-6C77EC16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E16C-30D9-406B-A236-6505ABB4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0AF8-61A9-4DA8-872E-2C51A7EC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41BF0-5BB2-452B-A752-CB07F59D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725-5DF8-44ED-8881-D90A4472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8ACDE-9648-4472-A11C-01FA0EE8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25D97-B065-4136-84FA-464ABCFC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DF056-9F2A-4271-8D54-2F05E1F9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F1266-8201-4FF3-BED9-AFE4B2D9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96DAE-2FE3-4BDA-A83D-9B1A17E8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9F25D-D6D8-4110-A7EB-6C3C35D5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28178-EE88-4FCF-B1DD-3EDB9C7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37E61-8E7E-4D7C-BBC8-DB39B11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FCA12-CC12-4B3F-A0F4-CDB38296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F057E-3527-49F7-A8B4-3FF517CF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485-61F5-4F75-8826-088D1A9A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9580D-A673-4BD6-8DB4-AE226B56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E62A8-8C64-4455-8221-B784C860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EDC44-7AFF-4FCF-9951-4B854612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D6D6-5599-4A31-B4A3-AB56A0FE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8425F-E303-4FD0-AB9A-017973F9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61A80-2B0D-4AA0-AB3A-5AE70F43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FD0BE-9FC5-4A51-B81D-AEB0EDB9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0B0E1-91A1-4975-8566-18942DA8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B19A5-2F85-438D-85B7-F519C087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31581-E66C-4AA6-BDB0-A157222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330-B54B-4373-8598-2203184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0ECF-320F-4054-98AB-63EB8219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9DE0C-4ACB-4E88-9D1F-B3B14F9C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6975B-DA2D-455A-88C3-B83B5B50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99C3F-C1C7-412F-A73D-8E173F2F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F5EE8-2B98-49D7-92C3-4D086D1C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617D7-5358-4102-AF10-502AC3C8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529C1-A01C-47C4-BCF9-7C1C2123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0E50C-8FBA-4B2E-97F6-8501BA06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BF476-E384-491C-9C32-98411BB3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A2B02-7CBB-4D37-9C87-38125E81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CEF-DC54-44D7-80E0-4172434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8DFA-80D6-49FF-B7CE-63B25B65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39309-46C7-4113-A217-F1FAA0C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5002D-6858-4F68-9507-F35A4B4F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05C56-A5D7-4177-AF3E-5ECA08FB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8ADBF-5DEE-4BB9-B22C-F1B39A62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448B7-C7D6-4238-A8CA-D77F32DD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2A1D7-E129-43E2-AF43-10024893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C83EF-95C0-44C1-AA88-1F29EBA9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FC2A9-D6DE-4E36-A877-B71D3CA7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66D5F-DAFE-485B-9B1B-86D6FD8E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7DA-AE29-43BF-91BD-5F13A07A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67C6E-3514-41A5-891C-9ECBBAB8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B868E-588E-45CB-A6A8-1666201B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3FC45-886C-437A-A03E-9FDD056A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03CEC-9907-4473-99BE-C557E250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FA935-F1A7-4F24-BB1A-EB3F434B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CF600-6694-447B-BF2D-A9E0C36D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7C10-95E5-43E8-BA39-E9626100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2B7D-5773-4488-A8AB-ABF7D68AB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018A-57D6-4C56-AD98-66D883BB3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95F-BD81-4B9F-A84E-C18FA62D52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2CA1-B128-4A03-B139-B75818ED43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844C-2042-4EA2-A242-5A71AE504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31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F521-3CC1-46BF-8E9F-DD57384EA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D6DD-2AD8-432A-8CB2-6BD785A240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01AE-3FC5-49CA-A2C8-B7D218DA9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cn.alibaba.com/athena/sampledetail/shyh0610ab-6402833.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6.gif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image" Target="../media/image37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image" Target="../media/image44.gif"/><Relationship Id="rId7" Type="http://schemas.openxmlformats.org/officeDocument/2006/relationships/image" Target="../media/image45.gif"/><Relationship Id="rId8" Type="http://schemas.openxmlformats.org/officeDocument/2006/relationships/image" Target="../media/image45.gif"/><Relationship Id="rId9" Type="http://schemas.openxmlformats.org/officeDocument/2006/relationships/image" Target="../media/image46.gif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image" Target="../media/image46.gif"/><Relationship Id="rId7" Type="http://schemas.openxmlformats.org/officeDocument/2006/relationships/image" Target="../media/image46.gi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9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6.gif"/><Relationship Id="rId4" Type="http://schemas.openxmlformats.org/officeDocument/2006/relationships/image" Target="../media/image50.gif"/><Relationship Id="rId5" Type="http://schemas.openxmlformats.org/officeDocument/2006/relationships/image" Target="../media/image42.png"/><Relationship Id="rId6" Type="http://schemas.openxmlformats.org/officeDocument/2006/relationships/image" Target="../media/image46.gi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1.jpeg"/><Relationship Id="rId3" Type="http://schemas.openxmlformats.org/officeDocument/2006/relationships/image" Target="../media/image28.png"/><Relationship Id="rId4" Type="http://schemas.openxmlformats.org/officeDocument/2006/relationships/image" Target="../media/image7.png"/><Relationship Id="rId5" Type="http://schemas.openxmlformats.org/officeDocument/2006/relationships/image" Target="../media/image52.png"/><Relationship Id="rId6" Type="http://schemas.openxmlformats.org/officeDocument/2006/relationships/image" Target="../media/image53.gif"/><Relationship Id="rId7" Type="http://schemas.openxmlformats.org/officeDocument/2006/relationships/image" Target="../media/image10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637080" y="595008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ade by Michael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18900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Zhaiqiao Middle School</a:t>
            </a:r>
            <a:r>
              <a:rPr b="1" lang="en-US" sz="4000" spc="-1" strike="noStrike">
                <a:solidFill>
                  <a:srgbClr val="99cc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95640" y="1270080"/>
            <a:ext cx="5113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A Unit 3  A day out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556000" y="2637000"/>
            <a:ext cx="4392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Reading (1)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rcRect l="21430" t="0" r="23214" b="0"/>
          <a:stretch/>
        </p:blipFill>
        <p:spPr>
          <a:xfrm>
            <a:off x="324000" y="620640"/>
            <a:ext cx="29178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6" name="" descr="">
            <a:hlinkClick r:id="rId2"/>
          </p:cNvPr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932360" y="765000"/>
            <a:ext cx="28479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7" name=""/>
          <p:cNvSpPr/>
          <p:nvPr/>
        </p:nvSpPr>
        <p:spPr>
          <a:xfrm>
            <a:off x="466560" y="4076640"/>
            <a:ext cx="22323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th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re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74480" y="4076640"/>
            <a:ext cx="241236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odel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of t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Eiffel T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7720" y="5086440"/>
            <a:ext cx="4269960" cy="563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It is made o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teel.    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钢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33800" y="53020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82480" y="4076640"/>
            <a:ext cx="208260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Eiffel T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99560" y="5950080"/>
            <a:ext cx="5373360" cy="563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the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ourney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to the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place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he World Park in BeiJing" descr=""/>
          <p:cNvPicPr/>
          <p:nvPr/>
        </p:nvPicPr>
        <p:blipFill>
          <a:blip r:embed="rId2"/>
          <a:stretch/>
        </p:blipFill>
        <p:spPr>
          <a:xfrm>
            <a:off x="0" y="-17640"/>
            <a:ext cx="9217080" cy="697572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971640" y="909720"/>
            <a:ext cx="7415280" cy="5183280"/>
            <a:chOff x="971640" y="909720"/>
            <a:chExt cx="7415280" cy="5183280"/>
          </a:xfrm>
        </p:grpSpPr>
        <p:pic>
          <p:nvPicPr>
            <p:cNvPr id="415" name="Picture 3" descr="mso7D3E8"/>
            <p:cNvPicPr/>
            <p:nvPr/>
          </p:nvPicPr>
          <p:blipFill>
            <a:blip r:embed="rId3">
              <a:lum contrast="54000"/>
            </a:blip>
            <a:srcRect l="20960" t="36994" r="16074" b="2391"/>
            <a:stretch/>
          </p:blipFill>
          <p:spPr>
            <a:xfrm>
              <a:off x="971640" y="909720"/>
              <a:ext cx="7415280" cy="518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6" descr="bow2"/>
            <p:cNvPicPr/>
            <p:nvPr/>
          </p:nvPicPr>
          <p:blipFill>
            <a:blip r:embed="rId4"/>
            <a:stretch/>
          </p:blipFill>
          <p:spPr>
            <a:xfrm>
              <a:off x="6789240" y="4437720"/>
              <a:ext cx="526320" cy="157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7" descr="bow1"/>
            <p:cNvPicPr/>
            <p:nvPr/>
          </p:nvPicPr>
          <p:blipFill>
            <a:blip r:embed="rId5"/>
            <a:stretch/>
          </p:blipFill>
          <p:spPr>
            <a:xfrm>
              <a:off x="977040" y="4237920"/>
              <a:ext cx="531720" cy="17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8" descr="bow2"/>
            <p:cNvPicPr/>
            <p:nvPr/>
          </p:nvPicPr>
          <p:blipFill>
            <a:blip r:embed="rId6"/>
            <a:stretch/>
          </p:blipFill>
          <p:spPr>
            <a:xfrm>
              <a:off x="1650960" y="4335480"/>
              <a:ext cx="542880" cy="162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9" descr="bow1"/>
            <p:cNvPicPr/>
            <p:nvPr/>
          </p:nvPicPr>
          <p:blipFill>
            <a:blip r:embed="rId7"/>
            <a:stretch/>
          </p:blipFill>
          <p:spPr>
            <a:xfrm>
              <a:off x="7493400" y="4237920"/>
              <a:ext cx="549720" cy="177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"/>
          <p:cNvSpPr/>
          <p:nvPr/>
        </p:nvSpPr>
        <p:spPr>
          <a:xfrm>
            <a:off x="1692360" y="117360"/>
            <a:ext cx="6119640" cy="581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e World Park in Beij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6354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5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84464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d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went to the World Park in Beijing with the Class 1,Grade 8 students yesterday and she wrote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an email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her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parent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16" descr="logo1284"/>
          <p:cNvPicPr/>
          <p:nvPr/>
        </p:nvPicPr>
        <p:blipFill>
          <a:blip r:embed="rId2"/>
          <a:stretch/>
        </p:blipFill>
        <p:spPr>
          <a:xfrm>
            <a:off x="1187280" y="333360"/>
            <a:ext cx="6934320" cy="10558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332000" y="6206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Around the world in a da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8001000" y="5715000"/>
            <a:ext cx="1143000" cy="1143000"/>
            <a:chOff x="8001000" y="5715000"/>
            <a:chExt cx="1143000" cy="1143000"/>
          </a:xfrm>
        </p:grpSpPr>
        <p:sp>
          <p:nvSpPr>
            <p:cNvPr id="425" name=""/>
            <p:cNvSpPr/>
            <p:nvPr/>
          </p:nvSpPr>
          <p:spPr>
            <a:xfrm>
              <a:off x="8001000" y="5715000"/>
              <a:ext cx="1143000" cy="1143000"/>
            </a:xfrm>
            <a:custGeom>
              <a:avLst/>
              <a:gdLst>
                <a:gd name="textAreaLeft" fmla="*/ 268200 w 1143000"/>
                <a:gd name="textAreaRight" fmla="*/ 874800 w 1143000"/>
                <a:gd name="textAreaTop" fmla="*/ 268200 h 1143000"/>
                <a:gd name="textAreaBottom" fmla="*/ 8748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fe2c"/>
                </a:gs>
                <a:gs pos="50000">
                  <a:srgbClr val="ffff00"/>
                </a:gs>
                <a:gs pos="100000">
                  <a:srgbClr val="fefe2c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29600" y="5943600"/>
              <a:ext cx="685800" cy="685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7" name="注释" descr=""/>
          <p:cNvPicPr/>
          <p:nvPr/>
        </p:nvPicPr>
        <p:blipFill>
          <a:blip r:embed="rId4"/>
          <a:stretch/>
        </p:blipFill>
        <p:spPr>
          <a:xfrm>
            <a:off x="5219640" y="3718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801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12720" y="-792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609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st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38680" y="38088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179280" y="4941720"/>
            <a:ext cx="1295640" cy="533520"/>
          </a:xfrm>
          <a:custGeom>
            <a:avLst/>
            <a:gdLst>
              <a:gd name="textAreaLeft" fmla="*/ 33120 w 1295640"/>
              <a:gd name="textAreaRight" fmla="*/ 1262520 w 129564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52434" h="21600">
                <a:moveTo>
                  <a:pt x="0" y="0"/>
                </a:moveTo>
                <a:lnTo>
                  <a:pt x="52434" y="0"/>
                </a:lnTo>
                <a:lnTo>
                  <a:pt x="52434" y="21600"/>
                </a:lnTo>
                <a:lnTo>
                  <a:pt x="0" y="21600"/>
                </a:lnTo>
                <a:close/>
              </a:path>
              <a:path fill="lightenLess" w="52434" h="21600">
                <a:moveTo>
                  <a:pt x="0" y="0"/>
                </a:moveTo>
                <a:lnTo>
                  <a:pt x="52434" y="0"/>
                </a:lnTo>
                <a:lnTo>
                  <a:pt x="51084" y="1350"/>
                </a:lnTo>
                <a:lnTo>
                  <a:pt x="1350" y="1350"/>
                </a:lnTo>
                <a:close/>
              </a:path>
              <a:path fill="darken" w="52434" h="21600">
                <a:moveTo>
                  <a:pt x="52434" y="0"/>
                </a:moveTo>
                <a:lnTo>
                  <a:pt x="52434" y="21600"/>
                </a:lnTo>
                <a:lnTo>
                  <a:pt x="51084" y="20250"/>
                </a:lnTo>
                <a:lnTo>
                  <a:pt x="51084" y="1350"/>
                </a:lnTo>
                <a:close/>
              </a:path>
              <a:path fill="darkenLess" w="52434" h="21600">
                <a:moveTo>
                  <a:pt x="524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1084" y="20250"/>
                </a:lnTo>
                <a:close/>
              </a:path>
              <a:path fill="lighten" w="524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2434" h="21600">
                <a:moveTo>
                  <a:pt x="19173" y="3756"/>
                </a:moveTo>
                <a:lnTo>
                  <a:pt x="33261" y="10800"/>
                </a:lnTo>
                <a:lnTo>
                  <a:pt x="19173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5640" y="1341360"/>
            <a:ext cx="90676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Who invited  Linda to join the school trip to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rld park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71640" y="2349360"/>
            <a:ext cx="77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r Wu did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360" y="0"/>
            <a:ext cx="13467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5640" y="2997360"/>
            <a:ext cx="90676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Did Linda see the real places of interest all ov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rld there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44720" y="40766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No,she didn't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47440" y="4870440"/>
            <a:ext cx="642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Then number the paragraphs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段落）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246240" y="0"/>
            <a:ext cx="913788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-19800" y="1125360"/>
            <a:ext cx="11023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he school trip to the World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P2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16000" y="1701720"/>
            <a:ext cx="533520" cy="3353040"/>
          </a:xfrm>
          <a:custGeom>
            <a:avLst/>
            <a:gdLst>
              <a:gd name="textAreaLeft" fmla="*/ 340920 w 533520"/>
              <a:gd name="textAreaRight" fmla="*/ 533880 w 5335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19280" y="141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 the way to the p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47640" y="4653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 the p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35640" y="141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para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92360" y="465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para 3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rcRect l="0" t="16225" r="7416" b="18824"/>
          <a:stretch/>
        </p:blipFill>
        <p:spPr>
          <a:xfrm>
            <a:off x="2050920" y="1773360"/>
            <a:ext cx="3529080" cy="16509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476360" y="117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le-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7848720" y="6324480"/>
            <a:ext cx="1295280" cy="533520"/>
          </a:xfrm>
          <a:custGeom>
            <a:avLst/>
            <a:gdLst>
              <a:gd name="textAreaLeft" fmla="*/ 33120 w 1295280"/>
              <a:gd name="textAreaRight" fmla="*/ 1262160 w 129528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70" y="1350"/>
                </a:lnTo>
                <a:lnTo>
                  <a:pt x="1350" y="135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70" y="20250"/>
                </a:lnTo>
                <a:lnTo>
                  <a:pt x="51070" y="135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1070" y="2025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2420" h="21600">
                <a:moveTo>
                  <a:pt x="19166" y="3756"/>
                </a:moveTo>
                <a:lnTo>
                  <a:pt x="33254" y="10800"/>
                </a:lnTo>
                <a:lnTo>
                  <a:pt x="1916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360" y="0"/>
            <a:ext cx="134676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ask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505480" y="3502080"/>
            <a:ext cx="3646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-162360" y="-360"/>
            <a:ext cx="955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Comic Sans MS"/>
              </a:rPr>
              <a:t>Read and try to match these sentenc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600200" y="5638680"/>
            <a:ext cx="1066680" cy="979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0" y="1143000"/>
            <a:ext cx="44006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On the wa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2. When she arrived at the par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3. When she was inside the par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762120"/>
            <a:ext cx="50292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she felt </a:t>
            </a:r>
            <a:r>
              <a:rPr b="1" i="1" lang="zh-CN" sz="3600" spc="-1" strike="noStrike">
                <a:solidFill>
                  <a:srgbClr val="ff0066"/>
                </a:solidFill>
                <a:latin typeface="Times New Roman"/>
              </a:rPr>
              <a:t>excite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,  she saw many models of places of interest the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B. Linda thought  the journey was a little bor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C. she couldn't wait to get off the bus , she wanted to enjoy  her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00400" y="1600200"/>
            <a:ext cx="114300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71800" y="3048120"/>
            <a:ext cx="1295280" cy="1676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352680" y="1371600"/>
            <a:ext cx="990720" cy="3200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rcRect l="0" t="16225" r="7416" b="18824"/>
          <a:stretch/>
        </p:blipFill>
        <p:spPr>
          <a:xfrm>
            <a:off x="971640" y="1701720"/>
            <a:ext cx="10792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abl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08000" y="1486080"/>
          <a:ext cx="8569440" cy="5111640"/>
        </p:xfrm>
        <a:graphic>
          <a:graphicData uri="http://schemas.openxmlformats.org/drawingml/2006/table">
            <a:tbl>
              <a:tblPr/>
              <a:tblGrid>
                <a:gridCol w="2889360"/>
                <a:gridCol w="5680080"/>
              </a:tblGrid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 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0 Octob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rm d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n a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ue sk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to 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3276720" y="2637000"/>
            <a:ext cx="381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the World Park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  <a:ea typeface="Dot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48000" y="3357720"/>
            <a:ext cx="1727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fine</a:t>
            </a:r>
            <a:r>
              <a:rPr b="1" lang="zh-CN" sz="3200" spc="-1" strike="noStrike">
                <a:solidFill>
                  <a:srgbClr val="cc3300"/>
                </a:solidFill>
                <a:latin typeface="Comic Sans MS"/>
                <a:ea typeface="Dot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835280" y="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Arial"/>
              </a:rPr>
              <a:t>Read Para 1-2 </a:t>
            </a:r>
            <a:endParaRPr b="1" lang="en-US" sz="2400" spc="-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604360" y="44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101080" y="442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00" y="0"/>
            <a:ext cx="1198800" cy="520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ask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19640" y="4510080"/>
            <a:ext cx="1726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clear</a:t>
            </a:r>
            <a:r>
              <a:rPr b="1" lang="zh-CN" sz="3200" spc="-1" strike="noStrike">
                <a:solidFill>
                  <a:srgbClr val="cc3300"/>
                </a:solidFill>
                <a:latin typeface="Comic Sans MS"/>
                <a:ea typeface="Dot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68720" y="5877000"/>
            <a:ext cx="86364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bus</a:t>
            </a:r>
            <a:r>
              <a:rPr b="1" lang="zh-CN" sz="3200" spc="-1" strike="noStrike">
                <a:solidFill>
                  <a:srgbClr val="cc3300"/>
                </a:solidFill>
                <a:latin typeface="Comic Sans MS"/>
                <a:ea typeface="Dot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48000" y="3860640"/>
            <a:ext cx="1944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shining</a:t>
            </a:r>
            <a:r>
              <a:rPr b="1" lang="zh-CN" sz="3200" spc="-1" strike="noStrike">
                <a:solidFill>
                  <a:srgbClr val="cc3300"/>
                </a:solidFill>
                <a:latin typeface="Comic Sans MS"/>
                <a:ea typeface="Dot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ara1-2" descr=""/>
          <p:cNvPicPr/>
          <p:nvPr/>
        </p:nvPicPr>
        <p:blipFill>
          <a:blip r:embed="rId4"/>
          <a:stretch/>
        </p:blipFill>
        <p:spPr>
          <a:xfrm>
            <a:off x="7813800" y="8380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34432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4956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nda and Kitty went to the World Pa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y themsel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  Linda didn't enjoy the day very mu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  It took the students half an hour to get to the p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01800" y="1774800"/>
            <a:ext cx="7343640" cy="520560"/>
          </a:xfrm>
          <a:prstGeom prst="rect">
            <a:avLst/>
          </a:prstGeom>
          <a:solidFill>
            <a:srgbClr val="71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ith Mr Wu and the Class 1 ,Grade 8 student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56000" y="4222800"/>
            <a:ext cx="2160720" cy="520560"/>
          </a:xfrm>
          <a:prstGeom prst="rect">
            <a:avLst/>
          </a:prstGeom>
          <a:solidFill>
            <a:srgbClr val="71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wo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920" y="115920"/>
            <a:ext cx="83534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"/>
              </a:rPr>
              <a:t>Read para 1-2 by yourself and  tell 'T or F'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0" y="6526080"/>
            <a:ext cx="1222200" cy="331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838980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8520" y="170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8360" y="47260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2720" y="2997360"/>
            <a:ext cx="2087640" cy="520560"/>
          </a:xfrm>
          <a:prstGeom prst="rect">
            <a:avLst/>
          </a:prstGeom>
          <a:solidFill>
            <a:srgbClr val="71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enj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2340000" y="838080"/>
            <a:ext cx="4249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0" blurRad="0" rotWithShape="0">
                    <a:srgbClr val="b2b2b2">
                      <a:alpha val="77000"/>
                    </a:srgbClr>
                  </a:outerShdw>
                </a:effectLst>
                <a:latin typeface="宋体"/>
              </a:rPr>
              <a:t>Further thinking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38160" dir="0" blurRad="0" rotWithShape="0">
                  <a:srgbClr val="b2b2b2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2" name=""/>
          <p:cNvSpPr/>
          <p:nvPr/>
        </p:nvSpPr>
        <p:spPr>
          <a:xfrm>
            <a:off x="181080" y="2060640"/>
            <a:ext cx="885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Why was the journey on the way a litt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o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Can you tell me how to solve the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79280" y="-379440"/>
            <a:ext cx="716436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Comic Sans MS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1341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Dotum"/>
                <a:ea typeface="Dotum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Dotum"/>
                <a:ea typeface="Dotum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at 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model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of </a:t>
            </a:r>
            <a:r>
              <a:rPr b="1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places of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interes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did Linda write about in her ema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Dotum"/>
                <a:ea typeface="Dotum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7451640" y="549360"/>
            <a:ext cx="1447920" cy="1060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1763640" y="2565360"/>
            <a:ext cx="2338560" cy="15112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rcRect l="0" t="0" r="0" b="5709"/>
          <a:stretch/>
        </p:blipFill>
        <p:spPr>
          <a:xfrm>
            <a:off x="5437080" y="2565360"/>
            <a:ext cx="2376720" cy="1513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258560" y="4076640"/>
            <a:ext cx="32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he model Eiffel  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29480" y="4076640"/>
            <a:ext cx="41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he model Golden Gate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-360" y="44280"/>
            <a:ext cx="134676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ask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560520" y="4581360"/>
            <a:ext cx="103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at was also wonderful during the tr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5"/>
          <a:stretch/>
        </p:blipFill>
        <p:spPr>
          <a:xfrm>
            <a:off x="6012000" y="5084640"/>
            <a:ext cx="2376360" cy="15843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875880" y="5438880"/>
            <a:ext cx="48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 song  and dance sh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38520" y="189000"/>
            <a:ext cx="56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a50021"/>
                </a:solidFill>
                <a:latin typeface="Times New Roman"/>
              </a:rPr>
              <a:t>Rea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Para 3-5</a:t>
            </a:r>
            <a:r>
              <a:rPr b="1" i="1" lang="zh-CN" sz="3600" spc="-1" strike="noStrike">
                <a:solidFill>
                  <a:srgbClr val="a50021"/>
                </a:solidFill>
                <a:latin typeface="Times New Roman"/>
              </a:rPr>
              <a:t> after the tap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a50021"/>
                </a:solidFill>
                <a:latin typeface="Times New Roman"/>
              </a:rPr>
              <a:t>to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ara3-5" descr=""/>
          <p:cNvPicPr/>
          <p:nvPr/>
        </p:nvPicPr>
        <p:blipFill>
          <a:blip r:embed="rId6"/>
          <a:stretch/>
        </p:blipFill>
        <p:spPr>
          <a:xfrm>
            <a:off x="6732720" y="765000"/>
            <a:ext cx="6570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49426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724360" y="3863880"/>
            <a:ext cx="3013200" cy="22258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097440" cy="2160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539640" y="3863880"/>
            <a:ext cx="3097440" cy="2130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348000" y="23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Dotu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7440" y="335772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hina Dinasaur Pa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56360" y="3286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orld Joy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8720" y="602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Yanchen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33440" y="609300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anmu Lake landscape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5797440" y="1125360"/>
            <a:ext cx="3022560" cy="2160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755640" y="0"/>
            <a:ext cx="7048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The sights in our hometown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abl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79280" y="836640"/>
          <a:ext cx="8569440" cy="5535720"/>
        </p:xfrm>
        <a:graphic>
          <a:graphicData uri="http://schemas.openxmlformats.org/drawingml/2006/table">
            <a:tbl>
              <a:tblPr/>
              <a:tblGrid>
                <a:gridCol w="2889360"/>
                <a:gridCol w="56800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0 Octob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rm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n 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ue s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to 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the p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ls of more th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ces of interest from a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ver the wor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Dotum"/>
                        </a:rPr>
                        <a:t> 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Dotum"/>
                        </a:rPr>
                        <a:t>shows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"/>
          <p:cNvSpPr/>
          <p:nvPr/>
        </p:nvSpPr>
        <p:spPr>
          <a:xfrm>
            <a:off x="3132000" y="1486080"/>
            <a:ext cx="38163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</a:rPr>
              <a:t>the World Park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Dot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1989000"/>
            <a:ext cx="1726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Comic Sans MS"/>
              </a:rPr>
              <a:t>a fine</a:t>
            </a:r>
            <a:r>
              <a:rPr b="1" lang="zh-CN" sz="2800" spc="-1" strike="noStrike">
                <a:solidFill>
                  <a:srgbClr val="cc3300"/>
                </a:solidFill>
                <a:latin typeface="Comic Sans MS"/>
                <a:ea typeface="Dot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835280" y="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Arial"/>
              </a:rPr>
              <a:t>our school trip</a:t>
            </a:r>
            <a:endParaRPr b="1" lang="en-US" sz="2400" spc="-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604360" y="44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8101080" y="442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3070080"/>
            <a:ext cx="1726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Comic Sans MS"/>
              </a:rPr>
              <a:t>clear</a:t>
            </a:r>
            <a:r>
              <a:rPr b="1" lang="zh-CN" sz="2800" spc="-1" strike="noStrike">
                <a:solidFill>
                  <a:srgbClr val="cc3300"/>
                </a:solidFill>
                <a:latin typeface="Comic Sans MS"/>
                <a:ea typeface="Dot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52720" y="3573360"/>
            <a:ext cx="863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Comic Sans MS"/>
              </a:rPr>
              <a:t>bus</a:t>
            </a:r>
            <a:r>
              <a:rPr b="1" lang="zh-CN" sz="2800" spc="-1" strike="noStrike">
                <a:solidFill>
                  <a:srgbClr val="cc3300"/>
                </a:solidFill>
                <a:latin typeface="Comic Sans MS"/>
                <a:ea typeface="Dot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32000" y="5589720"/>
            <a:ext cx="3600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Comic Sans MS"/>
              </a:rPr>
              <a:t>the song and dance</a:t>
            </a:r>
            <a:r>
              <a:rPr b="1" lang="zh-CN" sz="2800" spc="-1" strike="noStrike">
                <a:solidFill>
                  <a:srgbClr val="cc3300"/>
                </a:solidFill>
                <a:latin typeface="Comic Sans MS"/>
                <a:ea typeface="Dot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2492280"/>
            <a:ext cx="13665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Comic Sans MS"/>
              </a:rPr>
              <a:t>shining</a:t>
            </a:r>
            <a:r>
              <a:rPr b="1" lang="zh-CN" sz="2800" spc="-1" strike="noStrike">
                <a:solidFill>
                  <a:srgbClr val="cc3300"/>
                </a:solidFill>
                <a:latin typeface="Comic Sans MS"/>
                <a:ea typeface="Dot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48360" y="4076640"/>
            <a:ext cx="11527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Comic Sans MS"/>
              </a:rPr>
              <a:t>100</a:t>
            </a:r>
            <a:r>
              <a:rPr b="1" lang="zh-CN" sz="2800" spc="-1" strike="noStrike">
                <a:solidFill>
                  <a:srgbClr val="cc3300"/>
                </a:solidFill>
                <a:latin typeface="Comic Sans MS"/>
                <a:ea typeface="Dot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324000" y="451008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569440" cy="44956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  The models in the park are small and wonder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  The model Eiffel Tower is mad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  The model Golden Gate Bridge looked just like  the real one  in  the U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20000" y="3213000"/>
            <a:ext cx="936720" cy="520560"/>
          </a:xfrm>
          <a:prstGeom prst="rect">
            <a:avLst/>
          </a:prstGeom>
          <a:solidFill>
            <a:srgbClr val="71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50920" y="115920"/>
            <a:ext cx="83534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"/>
              </a:rPr>
              <a:t>"popcorn"and  tell 'T or F'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0" y="6526080"/>
            <a:ext cx="1222200" cy="3319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8462880" y="3286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461800" y="4653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246880" y="134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360" y="0"/>
            <a:ext cx="148212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ask 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116000" y="1557360"/>
            <a:ext cx="7788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How can Linda’s parents know m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out the tr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y can see some photos of the trip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 Inter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Who put the photos on the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home pag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niel di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0"/>
            <a:ext cx="6983280" cy="1440000"/>
          </a:xfrm>
          <a:prstGeom prst="irregularSeal2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fter the tr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7696080" y="5797440"/>
            <a:ext cx="1447920" cy="10605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0" y="0"/>
            <a:ext cx="154764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ask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44720" y="54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par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468360" y="422100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4360" y="2421000"/>
            <a:ext cx="79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Some students are talking with Daniel in their QQ Group. Complete the missing par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596360" y="1125360"/>
            <a:ext cx="1187280" cy="11462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-3240" y="0"/>
            <a:ext cx="332784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ask 7  Role-pl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34920" y="1413000"/>
            <a:ext cx="1239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869080" y="3429000"/>
            <a:ext cx="285480" cy="289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332000" y="981000"/>
            <a:ext cx="540072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19:56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Hi, everyone, come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60360" y="1486080"/>
            <a:ext cx="60483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ry 19:56: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id you and your classmate go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32000" y="32860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We went to the World Park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155520" y="46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155520" y="46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2987640" y="2421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7"/>
          <a:stretch/>
        </p:blipFill>
        <p:spPr>
          <a:xfrm>
            <a:off x="5364000" y="335772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403280" y="3357720"/>
            <a:ext cx="5327640" cy="79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8"/>
          <a:stretch/>
        </p:blipFill>
        <p:spPr>
          <a:xfrm>
            <a:off x="155520" y="460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260360" y="4005360"/>
            <a:ext cx="5400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y 19:56: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. How did you go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60360" y="3141720"/>
            <a:ext cx="2880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19:56: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9"/>
          <a:stretch/>
        </p:blipFill>
        <p:spPr>
          <a:xfrm>
            <a:off x="3419640" y="3357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0"/>
          <a:stretch/>
        </p:blipFill>
        <p:spPr>
          <a:xfrm>
            <a:off x="5653080" y="12700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827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827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3492360" y="134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044720" y="1844640"/>
            <a:ext cx="5616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ry 19:57: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Did Linda enjoy it on the way?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71640" y="364500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o, it was a little boring on the way. There was a lot of traff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16000" y="1054080"/>
            <a:ext cx="590400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y b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2916360" y="12700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5003640" y="4149720"/>
            <a:ext cx="505080" cy="5032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755640" y="836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19:57: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44720" y="1270080"/>
            <a:ext cx="4897440" cy="64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6"/>
          <a:stretch/>
        </p:blipFill>
        <p:spPr>
          <a:xfrm>
            <a:off x="3203640" y="119700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971640" y="3645000"/>
            <a:ext cx="5688000" cy="1222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7"/>
          <a:stretch/>
        </p:blipFill>
        <p:spPr>
          <a:xfrm>
            <a:off x="3492360" y="378936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1044720" y="3141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19:57: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23493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827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827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348000" y="307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116000" y="98100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se 19:58: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Great! How many models of places of interest are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44720" y="2852640"/>
            <a:ext cx="43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 one hund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155520" y="460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1044720" y="2421000"/>
            <a:ext cx="2806560" cy="27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19:59: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44720" y="2709720"/>
            <a:ext cx="3384360" cy="79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2413080" y="2781360"/>
            <a:ext cx="647640" cy="6490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044720" y="3645000"/>
            <a:ext cx="590220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ose 19:59: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Which places of interest did you s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827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5581800" y="2278080"/>
            <a:ext cx="304560" cy="3589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116000" y="1413000"/>
            <a:ext cx="56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del Eiffel Tow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del Golden Gate Brid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nd many other place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16000" y="909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20:00: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116000" y="1413000"/>
            <a:ext cx="5761080" cy="1438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3276720" y="1628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16000" y="2925720"/>
            <a:ext cx="604836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ose 20:02: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Do you also feel very excit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187280" y="4221000"/>
            <a:ext cx="6191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of cou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87280" y="3789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20:02: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3995640" y="422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5"/>
          <a:stretch/>
        </p:blipFill>
        <p:spPr>
          <a:xfrm>
            <a:off x="1908000" y="4870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044720" y="3789360"/>
            <a:ext cx="5686200" cy="1009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6"/>
          <a:stretch/>
        </p:blipFill>
        <p:spPr>
          <a:xfrm>
            <a:off x="3419640" y="3933720"/>
            <a:ext cx="649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827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827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6732720" y="981000"/>
            <a:ext cx="1728720" cy="19447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4645080" y="981000"/>
            <a:ext cx="1871640" cy="19875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3"/>
          <a:srcRect l="0" t="16225" r="7416" b="18824"/>
          <a:stretch/>
        </p:blipFill>
        <p:spPr>
          <a:xfrm>
            <a:off x="2556000" y="6237360"/>
            <a:ext cx="1079280" cy="59688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4"/>
          <a:srcRect l="6667" t="15000" r="3333" b="13331"/>
          <a:stretch/>
        </p:blipFill>
        <p:spPr>
          <a:xfrm>
            <a:off x="684360" y="4438800"/>
            <a:ext cx="2398680" cy="119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1" name="未知"/>
          <p:cNvSpPr/>
          <p:nvPr/>
        </p:nvSpPr>
        <p:spPr>
          <a:xfrm flipV="1">
            <a:off x="1476360" y="403560"/>
            <a:ext cx="6440400" cy="5543640"/>
          </a:xfrm>
          <a:custGeom>
            <a:avLst/>
            <a:gdLst/>
            <a:ahLst/>
            <a:rect l="l" t="t" r="r" b="b"/>
            <a:pathLst>
              <a:path w="2448" h="2736">
                <a:moveTo>
                  <a:pt x="2448" y="2736"/>
                </a:moveTo>
                <a:cubicBezTo>
                  <a:pt x="2240" y="2716"/>
                  <a:pt x="2032" y="2696"/>
                  <a:pt x="1920" y="2544"/>
                </a:cubicBezTo>
                <a:cubicBezTo>
                  <a:pt x="1808" y="2392"/>
                  <a:pt x="1928" y="1992"/>
                  <a:pt x="1776" y="1824"/>
                </a:cubicBezTo>
                <a:cubicBezTo>
                  <a:pt x="1624" y="1656"/>
                  <a:pt x="1176" y="1688"/>
                  <a:pt x="1008" y="1536"/>
                </a:cubicBezTo>
                <a:cubicBezTo>
                  <a:pt x="840" y="1384"/>
                  <a:pt x="800" y="1120"/>
                  <a:pt x="768" y="912"/>
                </a:cubicBezTo>
                <a:cubicBezTo>
                  <a:pt x="736" y="704"/>
                  <a:pt x="944" y="440"/>
                  <a:pt x="816" y="288"/>
                </a:cubicBezTo>
                <a:cubicBezTo>
                  <a:pt x="688" y="136"/>
                  <a:pt x="136" y="48"/>
                  <a:pt x="0" y="0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403280" y="57340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31040" y="15238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95640" y="306864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1080" y="386064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51480" y="177336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791480" y="5335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595008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ok us  about two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74160" y="37180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n th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00520" y="2616120"/>
            <a:ext cx="316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rrived at the par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uldn't wai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00" y="1197000"/>
            <a:ext cx="473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side the park, models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in sights of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42880" y="-90360"/>
            <a:ext cx="38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fter the trip,hom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5"/>
          <a:srcRect l="0" t="5074" r="0" b="10178"/>
          <a:stretch/>
        </p:blipFill>
        <p:spPr>
          <a:xfrm flipH="1">
            <a:off x="3492000" y="4941720"/>
            <a:ext cx="1917720" cy="19162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4645080" y="3141720"/>
            <a:ext cx="3960720" cy="2879640"/>
          </a:xfrm>
          <a:prstGeom prst="cloudCallout">
            <a:avLst>
              <a:gd name="adj1" fmla="val -35078"/>
              <a:gd name="adj2" fmla="val 3292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61080" y="3718080"/>
            <a:ext cx="39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Hi! I’m Linda. Yesterday morning I went to --- with Mr. Wu and many other stud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0" y="4428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cc"/>
                </a:solidFill>
                <a:uFillTx/>
                <a:latin typeface="Arial"/>
              </a:rPr>
              <a:t>Task 8: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2771640" y="3860640"/>
            <a:ext cx="505080" cy="5763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7"/>
          <a:stretch/>
        </p:blipFill>
        <p:spPr>
          <a:xfrm>
            <a:off x="5797440" y="1413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"/>
          <a:stretch/>
        </p:blipFill>
        <p:spPr>
          <a:xfrm>
            <a:off x="3419640" y="774864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8172360" y="117360"/>
            <a:ext cx="432000" cy="5032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6458040" y="5006880"/>
            <a:ext cx="187200" cy="1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-19080" y="2276640"/>
            <a:ext cx="9163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</a:rPr>
              <a:t>Do you like travelling ? Why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</a:rPr>
              <a:t>Will you go to the real places of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</a:rPr>
              <a:t>interest around the world or th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</a:rPr>
              <a:t>model ones ? Why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0"/>
            <a:ext cx="1619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ask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116000" y="836640"/>
            <a:ext cx="6791400" cy="12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Further thinking </a:t>
            </a:r>
            <a:endParaRPr b="1" lang="en-US" sz="2400" spc="-1" strike="noStrike">
              <a:ln w="0">
                <a:noFill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08000" y="1273320"/>
            <a:ext cx="4610160" cy="3960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3348000" y="23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Dotu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46080"/>
            <a:ext cx="7058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黑体"/>
              </a:rPr>
              <a:t>my trip to a place of interest</a:t>
            </a:r>
            <a:endParaRPr b="1" lang="en-US" sz="2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80" name=""/>
          <p:cNvSpPr/>
          <p:nvPr/>
        </p:nvSpPr>
        <p:spPr>
          <a:xfrm>
            <a:off x="250920" y="57340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hina Dinosaur Pa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7800" y="1270080"/>
            <a:ext cx="2288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ho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at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how t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-92160" y="-82440"/>
            <a:ext cx="9128160" cy="4952880"/>
          </a:xfrm>
          <a:prstGeom prst="cloudCallout">
            <a:avLst>
              <a:gd name="adj1" fmla="val -40069"/>
              <a:gd name="adj2" fmla="val 7753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60360" y="549360"/>
            <a:ext cx="7417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Times New Roman"/>
                <a:ea typeface="新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Travelling is not just for fun. It helps us know people, nature, history…It can open our eyes, learn more knowledge and improve ourselves.But it needs much mone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so we should work h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250920" y="5711760"/>
            <a:ext cx="1187280" cy="11462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611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26062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724360" y="3863880"/>
            <a:ext cx="3013200" cy="22258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3097440" cy="23050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539640" y="3863880"/>
            <a:ext cx="3097440" cy="21304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3348000" y="23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Dotu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57440" y="335772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ina Dinasaur Pa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156360" y="3286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ld Joy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8720" y="602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anchen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33440" y="609300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anmu Lake landscape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755640" y="0"/>
            <a:ext cx="7048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6000"/>
                    </a:srgbClr>
                  </a:outerShdw>
                </a:effectLst>
                <a:latin typeface="黑体"/>
              </a:rPr>
              <a:t>Love our motherland,love our hometown</a:t>
            </a:r>
            <a:endParaRPr b="1" lang="en-US" sz="2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18" name=""/>
          <p:cNvSpPr/>
          <p:nvPr/>
        </p:nvSpPr>
        <p:spPr>
          <a:xfrm>
            <a:off x="3781080" y="1486080"/>
            <a:ext cx="2334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when to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here to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how to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hat to do/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how to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5797440" y="981000"/>
            <a:ext cx="3022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505320" y="8380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1125360"/>
            <a:ext cx="5038920" cy="374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Write an article  about your trip to a place of interest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89440" y="260280"/>
            <a:ext cx="505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</a:rPr>
              <a:t>Welcome to Wuj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13080" y="1413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st email me at1747422310@q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28720" y="4292640"/>
            <a:ext cx="763272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Love our motherland,Love our hometown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24321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533520" y="0"/>
            <a:ext cx="60958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ell done!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今天学得不错啊！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0" y="5410080"/>
            <a:ext cx="1905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-bye</a:t>
            </a:r>
            <a:endParaRPr b="1" i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rcRect l="6667" t="15000" r="3333" b="13331"/>
          <a:stretch/>
        </p:blipFill>
        <p:spPr>
          <a:xfrm>
            <a:off x="0" y="69840"/>
            <a:ext cx="9144000" cy="4727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83" name=""/>
          <p:cNvSpPr/>
          <p:nvPr/>
        </p:nvSpPr>
        <p:spPr>
          <a:xfrm>
            <a:off x="685800" y="5086440"/>
            <a:ext cx="7920000" cy="15202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re was a lot of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raffic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['træfik]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n.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 th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oad. It wa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 littl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o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-15840" y="0"/>
            <a:ext cx="54000" cy="6858000"/>
            <a:chOff x="-15840" y="0"/>
            <a:chExt cx="54000" cy="6858000"/>
          </a:xfrm>
        </p:grpSpPr>
        <p:sp>
          <p:nvSpPr>
            <p:cNvPr id="385" name=""/>
            <p:cNvSpPr/>
            <p:nvPr/>
          </p:nvSpPr>
          <p:spPr>
            <a:xfrm>
              <a:off x="-15840" y="0"/>
              <a:ext cx="54000" cy="6858000"/>
            </a:xfrm>
            <a:prstGeom prst="rect">
              <a:avLst/>
            </a:prstGeom>
            <a:solidFill>
              <a:srgbClr val="ac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198000" tIns="46800" bIns="46800" anchor="t" anchorCtr="1" vert="eaVert"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      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-15840" y="4562640"/>
              <a:ext cx="54000" cy="1260360"/>
            </a:xfrm>
            <a:prstGeom prst="rect">
              <a:avLst/>
            </a:prstGeom>
            <a:solidFill>
              <a:srgbClr val="ac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198000" tIns="46800" bIns="46800" anchor="t" anchorCtr="1" vert="eaVer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rot="20736000">
            <a:off x="0" y="1197000"/>
            <a:ext cx="7467480" cy="3816360"/>
          </a:xfrm>
          <a:prstGeom prst="cloudCallout">
            <a:avLst>
              <a:gd name="adj1" fmla="val 14083"/>
              <a:gd name="adj2" fmla="val 68504"/>
            </a:avLst>
          </a:prstGeom>
          <a:blipFill rotWithShape="0">
            <a:blip r:embed="rId1"/>
            <a:srcRect/>
            <a:stretch/>
          </a:blip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979640" y="1773360"/>
            <a:ext cx="33656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53000"/>
                    </a:srgbClr>
                  </a:outerShdw>
                </a:effectLst>
                <a:latin typeface="Comic Sans MS"/>
              </a:rPr>
              <a:t>guess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53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602400" y="3762360"/>
            <a:ext cx="2541600" cy="30956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1509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39640" y="1484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5292720" cy="44654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656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-781200" y="189000"/>
            <a:ext cx="956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It is the longest wall in the wor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Chinese people built it in the Qing Dynas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2000" y="318276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Great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6084720" cy="4032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-779760" y="260280"/>
            <a:ext cx="999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It is a beautiful building with a big ga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nd many trees. The President of the USA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nd works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0720" y="3398760"/>
            <a:ext cx="175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Wh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rcRect l="0" t="0" r="0" b="5709"/>
          <a:stretch/>
        </p:blipFill>
        <p:spPr>
          <a:xfrm>
            <a:off x="250920" y="1844640"/>
            <a:ext cx="6443640" cy="4437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-353880" y="352440"/>
            <a:ext cx="80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The bridge is about 1.7 miles lo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It is made of steel.It is in the U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06160" y="3068640"/>
            <a:ext cx="20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Gol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Gate 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6443640" cy="4465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-204840" y="403200"/>
            <a:ext cx="97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It is a 320-meter-high tower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塔）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It stand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the River Seine in Paris, Fr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360" y="2751120"/>
            <a:ext cx="15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Eiff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2:29:48Z</dcterms:created>
  <dc:creator>Common</dc:creator>
  <dc:description/>
  <dc:language>en-US</dc:language>
  <cp:lastModifiedBy>dfcz</cp:lastModifiedBy>
  <cp:lastPrinted>1899-12-30T00:00:00Z</cp:lastPrinted>
  <dcterms:modified xsi:type="dcterms:W3CDTF">2009-10-12T16:02:47Z</dcterms:modified>
  <cp:revision>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