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EB2-F4F4-4B53-B760-56301AD6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F42-F1E4-4B85-8014-77A4185F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1C0-5A9F-4DDE-8EEA-22C49F6A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6B3-E4DE-4825-9AD3-B692C1C6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963-60D1-46F9-A879-CC414803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C98-B7AE-491F-A64D-8837EFBD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D97-B220-442D-AAE7-53F63F42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30E-DCDF-4443-9BCD-59F0E74B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227-35B1-4185-9CD0-4F81B624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0FBC-B0CD-4A1A-8F8E-5F9E180B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1A40-1D9C-4BE7-9A4F-F028B951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8A9-F1C4-4660-BA84-C1E0A8BF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BD69-6335-4A03-828D-B2DB9FF405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47640" y="260280"/>
            <a:ext cx="705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ff"/>
                </a:solidFill>
                <a:latin typeface="Arial"/>
                <a:ea typeface="汉仪太极体简"/>
              </a:rPr>
              <a:t>健康活动：爱牙日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08360" cy="3740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40360" y="3098880"/>
            <a:ext cx="5003640" cy="375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859280" y="765000"/>
            <a:ext cx="3960720" cy="12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康布丁体W12(P)"/>
              </a:rPr>
              <a:t>你喜欢哪个牙齿？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康布丁体W12(P)"/>
              <a:ea typeface="华康布丁体W12(P)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9640" y="4365720"/>
            <a:ext cx="3311640" cy="13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康娃娃体W5(P)"/>
              </a:rPr>
              <a:t>为什么？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康娃娃体W5(P)"/>
              <a:ea typeface="华康娃娃体W5(P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3535200" cy="360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821040" cy="4381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16360" y="1268280"/>
            <a:ext cx="41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汉仪太极体简"/>
              </a:rPr>
              <a:t>健康的牙齿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141300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851280" y="5155560"/>
            <a:ext cx="106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229360"/>
            <a:ext cx="392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汉仪太极体简"/>
              </a:rPr>
              <a:t>生病的牙齿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2793960" cy="2793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26920" y="2637000"/>
            <a:ext cx="2813040" cy="4221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572000" y="3573360"/>
            <a:ext cx="41036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4788000" cy="293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14640" y="765000"/>
            <a:ext cx="5229360" cy="5729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39640" y="3645000"/>
            <a:ext cx="3095640" cy="18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康布丁体W12(P)"/>
              </a:rPr>
              <a:t>正确刷牙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康布丁体W12(P)"/>
              <a:ea typeface="华康布丁体W12(P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77080" cy="6783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294320" y="0"/>
            <a:ext cx="1094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66cc"/>
                </a:solidFill>
                <a:latin typeface="Arial"/>
                <a:ea typeface="华康娃娃体W5(P)"/>
              </a:rPr>
              <a:t>希望每个小朋友们拥有健康美丽的牙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7T06:12:31Z</dcterms:created>
  <dc:creator>User</dc:creator>
  <dc:description/>
  <dc:language>en-US</dc:language>
  <cp:lastModifiedBy>User</cp:lastModifiedBy>
  <dcterms:modified xsi:type="dcterms:W3CDTF">2013-09-18T04:31:42Z</dcterms:modified>
  <cp:revision>8</cp:revision>
  <dc:subject/>
  <dc:title>幻灯片 1</dc:title>
</cp:coreProperties>
</file>