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F9C9-5CCD-4CA2-B3A7-FEFA1D3F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F11-32B7-46A4-92F0-365DC1A8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330-2F60-4C44-B075-C39C0949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689-BBB8-43D0-AE09-41023476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8F9-5636-479E-9AD0-68AFC6CE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0AB-9E84-445F-BB66-198483E5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BB4-F54A-4E3D-A3BF-51F487EE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B37-3127-4F59-B348-623AE965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1031-FBEB-4842-BDB7-B9C3F4F6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669-EC38-4B67-A3A4-E732027D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31A-BDA0-4E1D-9C15-FF4BE0C1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9BB-3EA9-4E5B-8BD7-EC29E58D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4255-C214-423D-AA2A-0C93EF1B19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lenovo\appdata\roaming\360se6\User Data\temp\200811108357696_2.jpg"/>
          <p:cNvPicPr/>
          <p:nvPr/>
        </p:nvPicPr>
        <p:blipFill>
          <a:blip r:embed="rId1"/>
          <a:srcRect l="0" t="7225" r="0" b="0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787640" y="6021360"/>
            <a:ext cx="402588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周家巷小学   龙高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"/>
          <p:cNvSpPr/>
          <p:nvPr/>
        </p:nvSpPr>
        <p:spPr>
          <a:xfrm>
            <a:off x="1258920" y="141300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在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crtach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里面，音量值的范围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因此，我们可以通过划分音量值范围段的方法来控制角色的运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 rot="20543400">
            <a:off x="301320" y="3657240"/>
            <a:ext cx="3809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68360" y="1835280"/>
          <a:ext cx="8280360" cy="4330440"/>
        </p:xfrm>
        <a:graphic>
          <a:graphicData uri="http://schemas.openxmlformats.org/drawingml/2006/table">
            <a:tbl>
              <a:tblPr/>
              <a:tblGrid>
                <a:gridCol w="1655640"/>
                <a:gridCol w="4372200"/>
                <a:gridCol w="2252520"/>
              </a:tblGrid>
              <a:tr h="72216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条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20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如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音量值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(    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造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2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如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音量值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(     )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且 音量值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(    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造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2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如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音量值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(     )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且 音量值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(    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造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0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如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2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如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音量值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(     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造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7" name="Rectangle 1"/>
          <p:cNvSpPr/>
          <p:nvPr/>
        </p:nvSpPr>
        <p:spPr>
          <a:xfrm>
            <a:off x="2122560" y="81576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为街舞男孩设定动作范围并填写下表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859280" y="4005360"/>
            <a:ext cx="4100400" cy="2923920"/>
          </a:xfrm>
          <a:prstGeom prst="rect">
            <a:avLst/>
          </a:prstGeom>
          <a:ln w="0">
            <a:noFill/>
          </a:ln>
        </p:spPr>
      </p:pic>
      <p:sp>
        <p:nvSpPr>
          <p:cNvPr id="49" name="矩形 1"/>
          <p:cNvSpPr/>
          <p:nvPr/>
        </p:nvSpPr>
        <p:spPr>
          <a:xfrm>
            <a:off x="826920" y="1347840"/>
            <a:ext cx="77774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拓展提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除了让切换造型外，我们还可以为演员设计哪些动作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0:14:17Z</dcterms:created>
  <dc:creator>lenovo</dc:creator>
  <dc:description/>
  <dc:language>en-US</dc:language>
  <cp:lastModifiedBy>lenovo</cp:lastModifiedBy>
  <dcterms:modified xsi:type="dcterms:W3CDTF">2014-12-17T11:10:53Z</dcterms:modified>
  <cp:revision>9</cp:revision>
  <dc:subject/>
  <dc:title>用声音控制角色运动 之《小小编舞师》 </dc:title>
</cp:coreProperties>
</file>