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437-7DE5-42CF-B27B-6748F48E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7A7-1E3A-46E2-B768-47D06CE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DE8-79F0-4CFF-9FEC-D24F3865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37C-9F73-450C-8D36-68CA51B6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F85B-DF1E-4AE3-A8F4-2937625F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C142-0A2A-4855-B6E5-B26F9C5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574-1E63-4491-A1B2-6A129CB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F611-1848-4D3C-A939-D41B276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067-1F58-4FFB-A038-EAF878C2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DDE9-1102-44ED-8EB0-9D5B4C4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403-15E3-4F76-8784-B754F0D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6B2-6851-4F7C-B70C-DAC83A6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5C6D-E787-4776-A3B6-60BB12C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6D8-AEE6-42FB-A6CC-D0E63F0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335E-5B18-48CE-8263-74BD909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773-75BB-45CF-8538-932A529C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6E4B-7789-426A-963A-C9136462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815-3F95-43C8-92DD-5D99364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25C-CBBD-4C47-9E1B-856356E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B14-74CF-444F-BB15-64C2BE45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514-CD49-48DF-971A-EE798B7E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3B7-96D3-4948-9886-BA6A770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117-CC41-4260-BFBE-E8977FFA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EED-9450-4C72-87DA-DB893BF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1579-F8AD-4E90-88E7-254A9EDF833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E073-BA18-4D16-8B35-461AE12470F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隶书"/>
              </a:rPr>
              <a:t>课题研究方案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隶书"/>
              </a:rPr>
              <a:t>的设计与策略</a:t>
            </a:r>
            <a:endParaRPr b="0" lang="en-US" sz="6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衢州市教科所副所长    毛佩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el:0570-3087445  13505707175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-mail:pq1116@tom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范围要限定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华文新魏"/>
              </a:rPr>
              <a:t>课题研究的适用范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研究对象总体范围进行限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buClr>
                <a:srgbClr val="003366"/>
              </a:buClr>
              <a:buFont typeface="华文行楷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楷体_GB2312"/>
              </a:rPr>
              <a:t>总体对象、抽样对象（方法、容量）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一些模糊概念、特定对象进行限定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buClr>
                <a:srgbClr val="00336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厌学生”、 “偏常学生”、“薄弱学校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一些关键性、自创性概念的界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buClr>
                <a:srgbClr val="00336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+C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整合课堂教学模式研究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一些变量进行界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目标要针对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研究者在研究过程中要求达到的某种愿望和期望的结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目标很笼统——许多课题都可以适用，没有自己课题的独特性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目标很具体——表述得很详细、具体、全面，成为具体工作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龙头”课题目标——可以构成一个有内在联系的、多层次的目标系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华文行楷"/>
              </a:rPr>
              <a:t>总目标——子目标系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内容要具体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具体阐述研究工作从哪些方面展开，具体做哪些工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把一个大问题分解成几个小问题，或者分解成一个问题的几个方面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研究内容概括、空洞、不具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研究内容与研究目标相脱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课题很大而研究内容很少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方法要科学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078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课题研究过程中所采用的方式、手段、途径或遵循的程序、格式和规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方法是保证研究质量的决定性因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反映研究过程的科学性、规范性以及研究成果的可信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研究方法要服从于研究的目的与性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倡使用综合的方法，或几种方法并用，或以一种方法为主，其它方法为辅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方法要科学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0000"/>
                </a:solidFill>
                <a:latin typeface="华文新魏"/>
                <a:ea typeface="华文新魏"/>
              </a:rPr>
              <a:t>中小学课题研究方法存在的问题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科研方法使用随意性大、不规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多数使用的仅仅是工作经验总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调查法的重视很不够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实验法的使用上有滥用的情况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定性分析多，定量分析少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华文新魏"/>
              </a:rPr>
              <a:t>研究步骤要详备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研究的实施程序、研究方法、时间安排和工作内容的总体设计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交代清楚研究过程先进行哪项工作，后进行哪项工作，每项工作有什么要求；每一个阶段的工作运用的研究方法，需要的工作时间，课题组成员的具体分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不科学——随心所欲，想当然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不详细——不具体，太概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不完整——不能涵盖整个研究过程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华文新魏"/>
              </a:rPr>
              <a:t>条件分析要真实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题组及其所在单位是否具备研究这个课题的能力和水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分析人、财、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000"/>
                </a:solidFill>
                <a:latin typeface="华文行楷"/>
                <a:ea typeface="华文行楷"/>
              </a:rPr>
              <a:t>人的方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在单位的领导—重视程度、支持保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题组负责人—学术水平、研究能力、协调能力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题组成员—知识年龄结构、科研能力、研究成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000"/>
                </a:solidFill>
                <a:latin typeface="华文行楷"/>
                <a:ea typeface="华文行楷"/>
              </a:rPr>
              <a:t>财的方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所需的经费和经费的保障措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000"/>
                </a:solidFill>
                <a:latin typeface="华文行楷"/>
                <a:ea typeface="华文行楷"/>
              </a:rPr>
              <a:t>物的方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一些课题研究所需的物质条件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参考文献不可少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提供对当前的研究有参考价值的有效信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有关研究问题的基础信息与动态信息，为自己当前的研究确定逻辑起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现研究变量及其相互关系，为自己形成清晰的研究思路提供具有启发意义的线索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吸取前人和他人在研究中的经验教训，提高自己当前研究的质量与效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095880" y="1219320"/>
            <a:ext cx="1981440" cy="30456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40387" h="21600">
                <a:moveTo>
                  <a:pt x="0" y="0"/>
                </a:moveTo>
                <a:lnTo>
                  <a:pt x="140387" y="0"/>
                </a:lnTo>
                <a:lnTo>
                  <a:pt x="140387" y="21600"/>
                </a:lnTo>
                <a:lnTo>
                  <a:pt x="0" y="21600"/>
                </a:lnTo>
                <a:close/>
              </a:path>
              <a:path fill="lightenLess" w="140387" h="21600">
                <a:moveTo>
                  <a:pt x="0" y="0"/>
                </a:moveTo>
                <a:lnTo>
                  <a:pt x="140387" y="0"/>
                </a:lnTo>
                <a:lnTo>
                  <a:pt x="138987" y="1400"/>
                </a:lnTo>
                <a:lnTo>
                  <a:pt x="1400" y="1400"/>
                </a:lnTo>
                <a:close/>
              </a:path>
              <a:path fill="darken" w="140387" h="21600">
                <a:moveTo>
                  <a:pt x="140387" y="0"/>
                </a:moveTo>
                <a:lnTo>
                  <a:pt x="140387" y="21600"/>
                </a:lnTo>
                <a:lnTo>
                  <a:pt x="138987" y="20200"/>
                </a:lnTo>
                <a:lnTo>
                  <a:pt x="138987" y="1400"/>
                </a:lnTo>
                <a:close/>
              </a:path>
              <a:path fill="darkenLess" w="140387" h="21600">
                <a:moveTo>
                  <a:pt x="14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87" y="20200"/>
                </a:lnTo>
                <a:close/>
              </a:path>
              <a:path fill="lighten" w="14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387" h="21600">
                <a:moveTo>
                  <a:pt x="63187" y="3794"/>
                </a:moveTo>
                <a:lnTo>
                  <a:pt x="77200" y="10800"/>
                </a:lnTo>
                <a:lnTo>
                  <a:pt x="6318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参考资料不可少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注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行楷"/>
              </a:rPr>
              <a:t>直接引用了别人的研究成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参考资料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受到别人研究成果的启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一般顺序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、文章名、期刊名、期号、出版社、出版时间、页码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0640" y="76068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华文行楷"/>
              </a:rPr>
              <a:t>课题研究方案的性质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是对整个课题研究过程的全面规划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是对课题研究主要工作详细的安排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新魏"/>
                <a:ea typeface="华文新魏"/>
              </a:rPr>
              <a:t>是进行研究的工作框架和行动指南</a:t>
            </a:r>
            <a:r>
              <a:rPr b="0" lang="zh-CN" sz="3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黑体"/>
              </a:rPr>
              <a:t>课题研究方案的作用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078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幼圆"/>
              </a:rPr>
              <a:t>可以保证课题研究顺利地进行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以使课题研究具体化、操作化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幼圆"/>
              </a:rPr>
              <a:t>可以保证课题研究过程科学化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幼圆"/>
              </a:rPr>
              <a:t>有利于课题研究的检查和自我检查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华文行楷"/>
              </a:rPr>
              <a:t>课题研究方案的基本要求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客观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实事求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切实可行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  <a:ea typeface="幼圆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科学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方法和手段科学、合理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  <a:ea typeface="幼圆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指导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对所有课题组成员有指导作用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操作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明确具体、操作性强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  <a:ea typeface="幼圆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参与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课题组成员参与讨论、论证</a:t>
            </a:r>
            <a:r>
              <a:rPr b="1" lang="zh-CN" sz="3200" spc="-1" strike="noStrike">
                <a:solidFill>
                  <a:srgbClr val="009900"/>
                </a:solidFill>
                <a:latin typeface="Verdana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幼圆"/>
              </a:rPr>
              <a:t>灵活性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在研究过程中进行修改、调整</a:t>
            </a:r>
            <a:r>
              <a:rPr b="0" lang="zh-CN" sz="3200" spc="-1" strike="noStrike">
                <a:solidFill>
                  <a:srgbClr val="009900"/>
                </a:solidFill>
                <a:latin typeface="Verdana"/>
                <a:ea typeface="幼圆"/>
              </a:rPr>
              <a:t>  </a:t>
            </a:r>
            <a:r>
              <a:rPr b="0" lang="zh-CN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华文行楷"/>
              </a:rPr>
              <a:t>课题研究方案的基本结构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名称的界定与表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背景和意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理论依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内外相关研究的综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目标与内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方法和步骤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条件分析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组成员的分工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题研究的参考资料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课题名称要规范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仿宋_GB2312"/>
              </a:rPr>
              <a:t>揭示整个课题研究的实质和研究价值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研究范围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对象、适用范围</a:t>
            </a:r>
            <a:r>
              <a:rPr b="1" lang="zh-CN" sz="2800" spc="-1" strike="noStrike">
                <a:solidFill>
                  <a:srgbClr val="9a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研究内容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所要研究的问题</a:t>
            </a:r>
            <a:r>
              <a:rPr b="1" lang="zh-CN" sz="2800" spc="-1" strike="noStrike">
                <a:solidFill>
                  <a:srgbClr val="9a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华文新魏"/>
                <a:ea typeface="华文新魏"/>
              </a:rPr>
              <a:t>研究方法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主要用的方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仿宋_GB2312"/>
              </a:rPr>
              <a:t>要求：直截了当、简单明了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研究意义要切实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为什么”要进行这个课题研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隶书"/>
              </a:rPr>
              <a:t>重要性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背景、提出研究课题的根据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  <a:ea typeface="隶书"/>
              </a:rPr>
              <a:t>必要性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分析现实问题的现状及后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隶书"/>
                <a:ea typeface="隶书"/>
              </a:rPr>
              <a:t>价值性</a:t>
            </a: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华文行楷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华文行楷"/>
              </a:rPr>
              <a:t>对教育教学改革会起什么促进作用</a:t>
            </a:r>
            <a:r>
              <a:rPr b="1" lang="zh-CN" sz="3600" spc="-1" strike="noStrike">
                <a:solidFill>
                  <a:srgbClr val="9a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意义表述上存在的问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过分夸大课题研究的意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对现实存在的问题分析不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buClr>
                <a:srgbClr val="9a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对研究课题自身价值不了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理论依据要相关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课题研究的理论支撑、指导方针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育学、心理学理论、法规依据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对课题研究有启发的新教育理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理论依据过于笼统、空洞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就理论而理论，与研究课题相脱节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798840"/>
            <a:ext cx="8163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相关综述要概括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811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的文献资料进行综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纳概括出主要观点，揭示对自己的启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存在的不足，突出自己研究的新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时积累—翻阅有关的报刊，上网查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课题研究后，有针对性的专门搜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  <a:ea typeface="华文行楷"/>
              </a:rPr>
              <a:t>把文献资料照抄照搬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13:18Z</dcterms:created>
  <dc:creator>Billgates</dc:creator>
  <dc:description/>
  <dc:language>en-US</dc:language>
  <cp:lastModifiedBy>sy</cp:lastModifiedBy>
  <dcterms:modified xsi:type="dcterms:W3CDTF">2006-05-26T06:34:27Z</dcterms:modified>
  <cp:revision>9</cp:revision>
  <dc:subject/>
  <dc:title>课题研究方案 的设计与策略</dc:title>
</cp:coreProperties>
</file>