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5.gif" ContentType="image/gif"/>
  <Override PartName="/ppt/media/image14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23.jpeg" ContentType="image/jpeg"/>
  <Override PartName="/ppt/media/image13.jpeg" ContentType="image/jpeg"/>
  <Override PartName="/ppt/media/image20.gif" ContentType="image/gif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wmf" ContentType="image/x-wmf"/>
  <Override PartName="/ppt/media/image1.png" ContentType="image/png"/>
  <Override PartName="/ppt/media/image3.jpeg" ContentType="image/jpeg"/>
  <Override PartName="/ppt/media/image17.jpeg" ContentType="image/jpeg"/>
  <Override PartName="/ppt/media/image15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2F37-6BCD-44A9-BA6A-09779991C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F330-E1B2-46F5-B438-88D35EF93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4E67-675E-4B5D-A20B-5684FD1DA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D8EA-EBC9-4422-AC80-03AC717B8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6553-08A3-48EE-B3B2-740968C89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E5B0-FE5F-4856-A4CD-AEF1689B9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3529-11ED-430D-8CCC-736642820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0394-CC4E-46A8-85C3-3701DB8C8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D72C-5C87-4A69-BF5F-5B4310BF6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BC7D-2A6E-43DD-BB84-D5AC3E27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0638-F586-4B8F-8BA4-ED99FFC7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8EC2-753A-40E9-81DB-978336CA7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4FBD3-58EE-4D97-B0EC-19D4AE7C02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&#24067;&#37070;&#36816;&#21160;.swf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&#27668;&#20307;&#25193;&#25955;.mpg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image" Target="../media/image4.png"/><Relationship Id="rId5" Type="http://schemas.openxmlformats.org/officeDocument/2006/relationships/image" Target="../media/image5.gif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80880" y="838080"/>
            <a:ext cx="15242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38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9900"/>
                </a:solidFill>
                <a:latin typeface="宋体"/>
              </a:rPr>
              <a:t>课题</a:t>
            </a:r>
            <a:endParaRPr b="1" lang="en-US" sz="9600" spc="1" strike="noStrike">
              <a:ln w="12600">
                <a:solidFill>
                  <a:srgbClr val="3333cc"/>
                </a:solidFill>
                <a:miter/>
              </a:ln>
              <a:solidFill>
                <a:srgbClr val="ff9900"/>
              </a:solidFill>
              <a:latin typeface="宋体"/>
              <a:ea typeface="宋体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696440" cy="685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2771640" y="620640"/>
            <a:ext cx="57913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华文行楷"/>
              </a:rPr>
              <a:t>7.1</a:t>
            </a:r>
            <a:r>
              <a:rPr b="1" lang="zh-CN" sz="6000" spc="-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华文行楷"/>
              </a:rPr>
              <a:t>走进分子世界</a:t>
            </a:r>
            <a:endParaRPr b="1" lang="en-US" sz="6000" spc="-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268360" y="2708280"/>
            <a:ext cx="4284720" cy="35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-72000" y="914400"/>
            <a:ext cx="13993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探测微观世界的工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600200" y="189000"/>
            <a:ext cx="7302240" cy="6235560"/>
            <a:chOff x="1600200" y="189000"/>
            <a:chExt cx="7302240" cy="6235560"/>
          </a:xfrm>
        </p:grpSpPr>
        <p:pic>
          <p:nvPicPr>
            <p:cNvPr id="113" name="" descr=""/>
            <p:cNvPicPr/>
            <p:nvPr/>
          </p:nvPicPr>
          <p:blipFill>
            <a:blip r:embed="rId1"/>
            <a:stretch/>
          </p:blipFill>
          <p:spPr>
            <a:xfrm>
              <a:off x="1661760" y="189000"/>
              <a:ext cx="2411640" cy="317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2"/>
            <a:stretch/>
          </p:blipFill>
          <p:spPr>
            <a:xfrm>
              <a:off x="5429520" y="189000"/>
              <a:ext cx="1206000" cy="24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3"/>
            <a:stretch/>
          </p:blipFill>
          <p:spPr>
            <a:xfrm>
              <a:off x="5125320" y="3068640"/>
              <a:ext cx="3777120" cy="335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4"/>
            <a:stretch/>
          </p:blipFill>
          <p:spPr>
            <a:xfrm>
              <a:off x="1600200" y="4076640"/>
              <a:ext cx="2674440" cy="18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4336200" y="1413000"/>
              <a:ext cx="910800" cy="360360"/>
            </a:xfrm>
            <a:prstGeom prst="rightArrow">
              <a:avLst>
                <a:gd name="adj1" fmla="val 50000"/>
                <a:gd name="adj2" fmla="val 6318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5400000">
              <a:off x="7345440" y="1144800"/>
              <a:ext cx="539640" cy="1215000"/>
            </a:xfrm>
            <a:custGeom>
              <a:avLst/>
              <a:gdLst>
                <a:gd name="textAreaLeft" fmla="*/ 0 w 539640"/>
                <a:gd name="textAreaRight" fmla="*/ 540000 w 539640"/>
                <a:gd name="textAreaTop" fmla="*/ 0 h 1215000"/>
                <a:gd name="textAreaBottom" fmla="*/ 1215360 h 1215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48" stAng="10800000" swAng="5400000"/>
                  <a:lnTo>
                    <a:pt x="15126" y="2912"/>
                  </a:lnTo>
                  <a:lnTo>
                    <a:pt x="15126" y="0"/>
                  </a:lnTo>
                  <a:lnTo>
                    <a:pt x="21600" y="6079"/>
                  </a:lnTo>
                  <a:lnTo>
                    <a:pt x="15126" y="12158"/>
                  </a:lnTo>
                  <a:lnTo>
                    <a:pt x="15126" y="9246"/>
                  </a:lnTo>
                  <a:lnTo>
                    <a:pt x="12427" y="9246"/>
                  </a:lnTo>
                  <a:arcTo wR="6093" hR="2914" stAng="16200000" swAng="-5400000"/>
                  <a:lnTo>
                    <a:pt x="6334" y="216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36200" y="4724640"/>
              <a:ext cx="668160" cy="433080"/>
            </a:xfrm>
            <a:prstGeom prst="leftArrow">
              <a:avLst>
                <a:gd name="adj1" fmla="val 50000"/>
                <a:gd name="adj2" fmla="val 3857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457200" y="120600"/>
            <a:ext cx="8066160" cy="6137280"/>
            <a:chOff x="457200" y="120600"/>
            <a:chExt cx="8066160" cy="6137280"/>
          </a:xfrm>
        </p:grpSpPr>
        <p:sp>
          <p:nvSpPr>
            <p:cNvPr id="121" name=""/>
            <p:cNvSpPr/>
            <p:nvPr/>
          </p:nvSpPr>
          <p:spPr>
            <a:xfrm>
              <a:off x="1608120" y="5493600"/>
              <a:ext cx="5473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9999"/>
                  </a:solidFill>
                  <a:latin typeface="Verdana"/>
                  <a:ea typeface="华文新魏"/>
                </a:rPr>
                <a:t>电子显微镜下的蚊子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457200" y="120600"/>
              <a:ext cx="8066160" cy="4452480"/>
              <a:chOff x="457200" y="120600"/>
              <a:chExt cx="8066160" cy="4452480"/>
            </a:xfrm>
          </p:grpSpPr>
          <p:pic>
            <p:nvPicPr>
              <p:cNvPr id="12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57200" y="120600"/>
                <a:ext cx="3887640" cy="4452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633920" y="120600"/>
                <a:ext cx="3889440" cy="44330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25" name=""/>
          <p:cNvGrpSpPr/>
          <p:nvPr/>
        </p:nvGrpSpPr>
        <p:grpSpPr>
          <a:xfrm>
            <a:off x="76320" y="52560"/>
            <a:ext cx="9144000" cy="6653160"/>
            <a:chOff x="76320" y="52560"/>
            <a:chExt cx="9144000" cy="6653160"/>
          </a:xfrm>
        </p:grpSpPr>
        <p:pic>
          <p:nvPicPr>
            <p:cNvPr id="126" name="" descr=""/>
            <p:cNvPicPr/>
            <p:nvPr/>
          </p:nvPicPr>
          <p:blipFill>
            <a:blip r:embed="rId3"/>
            <a:stretch/>
          </p:blipFill>
          <p:spPr>
            <a:xfrm>
              <a:off x="76320" y="52560"/>
              <a:ext cx="7086600" cy="665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7211160" y="52560"/>
              <a:ext cx="2009160" cy="65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电子显微镜下的碳化硅分子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979640" y="1268280"/>
            <a:ext cx="2303280" cy="76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小结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835280" y="2492280"/>
            <a:ext cx="70038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科学家研究物质结构的方法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835280" y="3429000"/>
            <a:ext cx="698472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分子的定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08000" y="4437000"/>
            <a:ext cx="685512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分子模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324000" y="907920"/>
            <a:ext cx="1387440" cy="1371600"/>
            <a:chOff x="324000" y="907920"/>
            <a:chExt cx="1387440" cy="1371600"/>
          </a:xfrm>
        </p:grpSpPr>
        <p:grpSp>
          <p:nvGrpSpPr>
            <p:cNvPr id="133" name=""/>
            <p:cNvGrpSpPr/>
            <p:nvPr/>
          </p:nvGrpSpPr>
          <p:grpSpPr>
            <a:xfrm>
              <a:off x="324000" y="907920"/>
              <a:ext cx="609480" cy="1123920"/>
              <a:chOff x="324000" y="907920"/>
              <a:chExt cx="609480" cy="1123920"/>
            </a:xfrm>
          </p:grpSpPr>
          <p:pic>
            <p:nvPicPr>
              <p:cNvPr id="13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4000" y="907920"/>
                <a:ext cx="609480" cy="60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24000" y="1670040"/>
                <a:ext cx="609480" cy="361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6" name=""/>
            <p:cNvSpPr/>
            <p:nvPr/>
          </p:nvSpPr>
          <p:spPr>
            <a:xfrm>
              <a:off x="799560" y="907920"/>
              <a:ext cx="911880" cy="1371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663300"/>
                  </a:solidFill>
                  <a:latin typeface="Times New Roman"/>
                </a:rPr>
                <a:t>总结归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539640" y="189000"/>
            <a:ext cx="8280360" cy="6508800"/>
            <a:chOff x="539640" y="189000"/>
            <a:chExt cx="8280360" cy="6508800"/>
          </a:xfrm>
        </p:grpSpPr>
        <p:sp>
          <p:nvSpPr>
            <p:cNvPr id="138" name="">
              <a:hlinkClick r:id="rId1" action="ppaction://hlinksldjump"/>
            </p:cNvPr>
            <p:cNvSpPr/>
            <p:nvPr/>
          </p:nvSpPr>
          <p:spPr>
            <a:xfrm>
              <a:off x="2555640" y="189000"/>
              <a:ext cx="6264360" cy="3456000"/>
            </a:xfrm>
            <a:prstGeom prst="cloudCallout">
              <a:avLst>
                <a:gd name="adj1" fmla="val -49291"/>
                <a:gd name="adj2" fmla="val 76180"/>
              </a:avLst>
            </a:prstGeom>
            <a:solidFill>
              <a:srgbClr val="ffcccc"/>
            </a:solidFill>
            <a:ln w="936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80808"/>
                  </a:solidFill>
                  <a:latin typeface="Verdana"/>
                  <a:ea typeface="楷体_GB2312"/>
                </a:rPr>
                <a:t>分子是否会运动呢？？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9" name="" descr=""/>
            <p:cNvPicPr/>
            <p:nvPr/>
          </p:nvPicPr>
          <p:blipFill>
            <a:blip r:embed="rId2"/>
            <a:stretch/>
          </p:blipFill>
          <p:spPr>
            <a:xfrm>
              <a:off x="539640" y="3429000"/>
              <a:ext cx="2033640" cy="3268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1600200" y="1066680"/>
            <a:ext cx="426708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7.2</a:t>
            </a:r>
            <a:r>
              <a:rPr b="0" lang="zh-CN" sz="24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收集分子运动的实验证据</a:t>
            </a:r>
            <a:endParaRPr b="0" lang="en-US" sz="24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0" y="0"/>
            <a:ext cx="1228680" cy="132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909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活动二</a:t>
            </a:r>
            <a:endParaRPr b="0" lang="en-US" sz="32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42" name=""/>
          <p:cNvSpPr/>
          <p:nvPr/>
        </p:nvSpPr>
        <p:spPr>
          <a:xfrm>
            <a:off x="1771560" y="2133720"/>
            <a:ext cx="3333960" cy="102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ccccff"/>
                </a:solidFill>
                <a:uFillTx/>
                <a:latin typeface="Arial"/>
                <a:ea typeface="华文新魏"/>
                <a:hlinkClick r:id="rId1"/>
              </a:rPr>
              <a:t>布朗运动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396252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扩散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同物质相互接触时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彼此进入对方的现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68360" y="620640"/>
            <a:ext cx="5475240" cy="717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实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气体的扩散现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9640" y="2205000"/>
            <a:ext cx="540396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实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液体的扩散现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4692600"/>
            <a:ext cx="525924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实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固体的扩散现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90200" y="314172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红墨水滴在水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38098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现象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00200" y="38098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过一段时间整杯水都变红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54864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长期堆煤的墙角侧壁上用小刀刮开，会看到里面有黑色的煤粒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57200" y="210168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大量实验证明：分子一直处在</a:t>
            </a: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永不停息的运动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中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520" y="77616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结论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"/>
          <p:cNvGrpSpPr/>
          <p:nvPr/>
        </p:nvGrpSpPr>
        <p:grpSpPr>
          <a:xfrm>
            <a:off x="539640" y="189000"/>
            <a:ext cx="8209080" cy="6508800"/>
            <a:chOff x="539640" y="189000"/>
            <a:chExt cx="8209080" cy="6508800"/>
          </a:xfrm>
        </p:grpSpPr>
        <p:sp>
          <p:nvSpPr>
            <p:cNvPr id="154" name=""/>
            <p:cNvSpPr/>
            <p:nvPr/>
          </p:nvSpPr>
          <p:spPr>
            <a:xfrm>
              <a:off x="2555640" y="189000"/>
              <a:ext cx="6193080" cy="3095640"/>
            </a:xfrm>
            <a:prstGeom prst="cloudCallout">
              <a:avLst>
                <a:gd name="adj1" fmla="val -44208"/>
                <a:gd name="adj2" fmla="val 84972"/>
              </a:avLst>
            </a:prstGeom>
            <a:solidFill>
              <a:srgbClr val="ffcccc"/>
            </a:solidFill>
            <a:ln w="9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80808"/>
                  </a:solidFill>
                  <a:latin typeface="Verdana"/>
                  <a:ea typeface="楷体_GB2312"/>
                </a:rPr>
                <a:t>生活中还有哪些现象说明分子在不停的运动？？？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5" name="" descr=""/>
            <p:cNvPicPr/>
            <p:nvPr/>
          </p:nvPicPr>
          <p:blipFill>
            <a:blip r:embed="rId1"/>
            <a:stretch/>
          </p:blipFill>
          <p:spPr>
            <a:xfrm>
              <a:off x="539640" y="3429000"/>
              <a:ext cx="2033640" cy="3268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09480" y="974880"/>
            <a:ext cx="67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、香气扑鼻的美味佳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98320" y="196524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、区别醋和酱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88960" y="3108240"/>
            <a:ext cx="748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、香水瓶打开盖子后，满屋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满香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23880" y="4708440"/>
            <a:ext cx="714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、糖放入水中后不久，整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水都变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556000" y="189000"/>
            <a:ext cx="5688000" cy="3240000"/>
          </a:xfrm>
          <a:prstGeom prst="cloudCallout">
            <a:avLst>
              <a:gd name="adj1" fmla="val -43694"/>
              <a:gd name="adj2" fmla="val 78958"/>
            </a:avLst>
          </a:prstGeom>
          <a:solidFill>
            <a:srgbClr val="ffcccc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80808"/>
                </a:solidFill>
                <a:latin typeface="Verdana"/>
                <a:ea typeface="楷体_GB2312"/>
              </a:rPr>
              <a:t>什么会影响分子运动快慢？？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39640" y="3429000"/>
            <a:ext cx="2033640" cy="32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9640" y="549360"/>
            <a:ext cx="676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Verdana"/>
                <a:ea typeface="华文新魏"/>
              </a:rPr>
              <a:t>科学家的研究方法：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  <a:ea typeface="华文新魏"/>
              </a:rPr>
              <a:t>zxx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684360" y="1628640"/>
            <a:ext cx="7704000" cy="3887640"/>
            <a:chOff x="684360" y="1628640"/>
            <a:chExt cx="7704000" cy="3887640"/>
          </a:xfrm>
        </p:grpSpPr>
        <p:sp>
          <p:nvSpPr>
            <p:cNvPr id="47" name=""/>
            <p:cNvSpPr/>
            <p:nvPr/>
          </p:nvSpPr>
          <p:spPr>
            <a:xfrm>
              <a:off x="684360" y="1628640"/>
              <a:ext cx="7704000" cy="3887640"/>
            </a:xfrm>
            <a:prstGeom prst="flowChartAlternateProcess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043280" y="2170080"/>
              <a:ext cx="72007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Verdana"/>
                  <a:ea typeface="楷体_GB2312"/>
                </a:rPr>
                <a:t>根据观察到的现象提出一种结构模型的</a:t>
              </a:r>
              <a:r>
                <a:rPr b="1" lang="zh-CN" sz="4400" spc="-1" strike="noStrike">
                  <a:solidFill>
                    <a:srgbClr val="ff0000"/>
                  </a:solidFill>
                  <a:latin typeface="Verdana"/>
                  <a:ea typeface="黑体"/>
                </a:rPr>
                <a:t>猜想</a:t>
              </a:r>
              <a:r>
                <a:rPr b="1" lang="zh-CN" sz="4400" spc="-1" strike="noStrike">
                  <a:solidFill>
                    <a:srgbClr val="000000"/>
                  </a:solidFill>
                  <a:latin typeface="Verdana"/>
                  <a:ea typeface="楷体_GB2312"/>
                </a:rPr>
                <a:t>，再</a:t>
              </a:r>
              <a:r>
                <a:rPr b="1" lang="zh-CN" sz="4400" spc="-1" strike="noStrike">
                  <a:solidFill>
                    <a:srgbClr val="ff0000"/>
                  </a:solidFill>
                  <a:latin typeface="Verdana"/>
                  <a:ea typeface="黑体"/>
                </a:rPr>
                <a:t>收集证据</a:t>
              </a:r>
              <a:r>
                <a:rPr b="1" lang="zh-CN" sz="4400" spc="-1" strike="noStrike">
                  <a:solidFill>
                    <a:srgbClr val="000000"/>
                  </a:solidFill>
                  <a:latin typeface="Verdana"/>
                  <a:ea typeface="楷体_GB2312"/>
                </a:rPr>
                <a:t>证明自己的猜想，从而弄清物质的</a:t>
              </a:r>
              <a:r>
                <a:rPr b="1" lang="zh-CN" sz="4400" spc="-1" strike="noStrike">
                  <a:solidFill>
                    <a:srgbClr val="ff0000"/>
                  </a:solidFill>
                  <a:latin typeface="Verdana"/>
                  <a:ea typeface="黑体"/>
                </a:rPr>
                <a:t>内部结构</a:t>
              </a:r>
              <a:r>
                <a:rPr b="1" lang="zh-CN" sz="4400" spc="-1" strike="noStrike">
                  <a:solidFill>
                    <a:srgbClr val="000000"/>
                  </a:solidFill>
                  <a:latin typeface="Verdana"/>
                  <a:ea typeface="楷体_GB2312"/>
                </a:rPr>
                <a:t>。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87280" y="181080"/>
            <a:ext cx="6697800" cy="1800000"/>
          </a:xfrm>
          <a:custGeom>
            <a:avLst/>
            <a:gdLst>
              <a:gd name="textAreaLeft" fmla="*/ 1674360 w 6697800"/>
              <a:gd name="textAreaRight" fmla="*/ 5023440 w 6697800"/>
              <a:gd name="textAreaTop" fmla="*/ 450000 h 1800000"/>
              <a:gd name="textAreaBottom" fmla="*/ 1746720 h 180000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ffadd6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华文中宋"/>
              </a:rPr>
              <a:t>探 究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2117880"/>
            <a:ext cx="889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新魏"/>
              </a:rPr>
              <a:t>两个相同烧杯内分别盛质量相同的冷水和热水，同时向两烧杯内滴入一滴红墨水，观察现象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>
            <a:hlinkClick r:id="rId1" action="ppaction://hlinksldjump"/>
          </p:cNvPr>
          <p:cNvSpPr/>
          <p:nvPr/>
        </p:nvSpPr>
        <p:spPr>
          <a:xfrm>
            <a:off x="1116000" y="1197000"/>
            <a:ext cx="741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温度</a:t>
            </a:r>
            <a:r>
              <a:rPr b="1" lang="zh-CN" sz="6000" spc="-1" strike="noStrike">
                <a:solidFill>
                  <a:srgbClr val="0b0801"/>
                </a:solidFill>
                <a:latin typeface="华文新魏"/>
                <a:ea typeface="华文新魏"/>
              </a:rPr>
              <a:t>影响分子运动快慢；温度越</a:t>
            </a:r>
            <a:r>
              <a:rPr b="1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高</a:t>
            </a:r>
            <a:r>
              <a:rPr b="1" lang="zh-CN" sz="6000" spc="-1" strike="noStrike">
                <a:solidFill>
                  <a:srgbClr val="0b0801"/>
                </a:solidFill>
                <a:latin typeface="华文新魏"/>
                <a:ea typeface="华文新魏"/>
              </a:rPr>
              <a:t>分子运动越</a:t>
            </a:r>
            <a:r>
              <a:rPr b="1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剧烈</a:t>
            </a:r>
            <a:r>
              <a:rPr b="1" lang="zh-CN" sz="6000" spc="-1" strike="noStrike">
                <a:solidFill>
                  <a:srgbClr val="0b0801"/>
                </a:solidFill>
                <a:latin typeface="华文新魏"/>
                <a:ea typeface="华文新魏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468360" y="333360"/>
            <a:ext cx="151128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b0801"/>
                </a:solidFill>
                <a:latin typeface="华文新魏"/>
                <a:ea typeface="华文新魏"/>
              </a:rPr>
              <a:t>例题</a:t>
            </a:r>
            <a:r>
              <a:rPr b="1" lang="en-US" sz="4000" spc="-1" strike="noStrike">
                <a:solidFill>
                  <a:srgbClr val="0b0801"/>
                </a:solidFill>
                <a:latin typeface="华文新魏"/>
                <a:ea typeface="华文新魏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95280" y="1413000"/>
            <a:ext cx="842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花气袭人知骤暖，鹊声穿树喜新晴。”这是南宋诗人陆游《村居书喜》中的两句诗，对前一句，从物理角度可以理解为，花分泌的芳香油分子</a:t>
            </a: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_____________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加快，说明当时周围的气温突然</a:t>
            </a: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______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87280" y="3867120"/>
            <a:ext cx="25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Verdana"/>
                <a:ea typeface="楷体_GB2312"/>
              </a:rPr>
              <a:t>无规则运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276720" y="44956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Verdana"/>
                <a:ea typeface="楷体_GB2312"/>
              </a:rPr>
              <a:t>上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539640" y="404640"/>
            <a:ext cx="16560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b0801"/>
                </a:solidFill>
                <a:latin typeface="华文新魏"/>
                <a:ea typeface="华文新魏"/>
              </a:rPr>
              <a:t>例题</a:t>
            </a:r>
            <a:r>
              <a:rPr b="1" lang="en-US" sz="4000" spc="-1" strike="noStrike">
                <a:solidFill>
                  <a:srgbClr val="0b0801"/>
                </a:solidFill>
                <a:latin typeface="华文新魏"/>
                <a:ea typeface="华文新魏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68360" y="1268280"/>
            <a:ext cx="867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下列事例中，能表明分子在不停的做无规则运动的是（     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55640" y="2637000"/>
            <a:ext cx="66247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A.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扫地时，灰尘四起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B.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花开时，花香满园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C.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下雪时，雪花飘飘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D.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刮风时，黄沙扑面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64000" y="1989000"/>
            <a:ext cx="11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Verdana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0" y="0"/>
            <a:ext cx="1228680" cy="132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909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活动二</a:t>
            </a:r>
            <a:endParaRPr b="0" lang="en-US" sz="32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828800" y="609480"/>
            <a:ext cx="4876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7.3</a:t>
            </a:r>
            <a:r>
              <a:rPr b="0" lang="zh-CN" sz="24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支持分子间存在吸引力的据据</a:t>
            </a:r>
            <a:endParaRPr b="0" lang="en-US" sz="24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1981080"/>
            <a:ext cx="129564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猜一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09680" y="1828800"/>
            <a:ext cx="60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-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将两个表面光滑的铅块相互紧压后，它们会粘在一起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609480" y="2971800"/>
            <a:ext cx="1219320" cy="881640"/>
            <a:chOff x="609480" y="2971800"/>
            <a:chExt cx="1219320" cy="881640"/>
          </a:xfrm>
        </p:grpSpPr>
        <p:pic>
          <p:nvPicPr>
            <p:cNvPr id="178" name="" descr=""/>
            <p:cNvPicPr/>
            <p:nvPr/>
          </p:nvPicPr>
          <p:blipFill>
            <a:blip r:embed="rId1"/>
            <a:stretch/>
          </p:blipFill>
          <p:spPr>
            <a:xfrm>
              <a:off x="896400" y="2971800"/>
              <a:ext cx="645480" cy="47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609480" y="3393720"/>
              <a:ext cx="1219320" cy="4597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看一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2286000" y="32004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你观察到了什么现象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4191120"/>
            <a:ext cx="129564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想一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438280" y="419112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一结果可以说明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51814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你知道生活中还有哪些现象也可以说明分子间存在吸引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477120" y="4038480"/>
            <a:ext cx="198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分子之间存在吸引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762120" y="1066680"/>
            <a:ext cx="129528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想一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133720" y="1066680"/>
            <a:ext cx="586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子间存在吸引力，应该很容易压缩任何物体，但为什么固体和液体很难被压缩，这是为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066680" y="327672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大量的事实和研究证明，分子间不仅存在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吸引力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而且还存在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排斥力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90720" y="4724280"/>
            <a:ext cx="129528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读一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514600" y="464832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用分子模型解释固体、液体、气体的性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600200" y="2437920"/>
            <a:ext cx="4299120" cy="32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纳米陶瓷人工髋关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纳米陶瓷骨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3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              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5940360" y="1557360"/>
            <a:ext cx="2111400" cy="48243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 rot="19872000">
            <a:off x="2230200" y="926640"/>
            <a:ext cx="2657520" cy="7524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 txBox="1"/>
          <p:nvPr/>
        </p:nvSpPr>
        <p:spPr>
          <a:xfrm>
            <a:off x="250920" y="0"/>
            <a:ext cx="213336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909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生活　物理　社会</a:t>
            </a:r>
            <a:endParaRPr b="0" lang="en-US" sz="24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 rot="19872000">
            <a:off x="361800" y="2346120"/>
            <a:ext cx="2657520" cy="7617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 txBox="1"/>
          <p:nvPr/>
        </p:nvSpPr>
        <p:spPr>
          <a:xfrm>
            <a:off x="250920" y="0"/>
            <a:ext cx="213336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909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生活　物理　社会</a:t>
            </a:r>
            <a:endParaRPr b="0" lang="en-US" sz="24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3657600" y="914400"/>
          <a:ext cx="5111640" cy="639720"/>
        </p:xfrm>
        <a:graphic>
          <a:graphicData uri="http://schemas.openxmlformats.org/drawingml/2006/table">
            <a:tbl>
              <a:tblPr/>
              <a:tblGrid>
                <a:gridCol w="511164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1a416a"/>
                          </a:solidFill>
                          <a:latin typeface="Times New Roman"/>
                          <a:ea typeface="ˎ̥"/>
                        </a:rPr>
                        <a:t>纳米颗粒 癌细胞爱吃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3492360" y="1844640"/>
            <a:ext cx="511344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2362320" y="1752480"/>
            <a:ext cx="4962240" cy="31910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403280" y="54936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析：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为什么长期堆煤的墙角侧壁上用小刀刮开，会看到里面有黑色的煤粒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676520" y="0"/>
            <a:ext cx="6248160" cy="58579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 txBox="1"/>
          <p:nvPr/>
        </p:nvSpPr>
        <p:spPr>
          <a:xfrm>
            <a:off x="2971800" y="1600200"/>
            <a:ext cx="35053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祝学习进步！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048120" y="5181480"/>
            <a:ext cx="3352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189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宋体"/>
              </a:rPr>
              <a:t>再见！</a:t>
            </a:r>
            <a:endParaRPr b="0" lang="en-US" sz="24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084720" y="907920"/>
            <a:ext cx="2275200" cy="2971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763640" y="134136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观察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：用木炭在纸上画一笔，再用放大镜对笔迹仔细观察，你会看到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495680"/>
            <a:ext cx="19432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现象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说明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446400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会看到木炭形成的笔迹是由一个个小颗粒组成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580536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物质是由小颗粒组成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0" y="0"/>
            <a:ext cx="1944720" cy="14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909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7.1</a:t>
            </a:r>
            <a:r>
              <a:rPr b="0" lang="zh-CN" sz="24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选择一种模型</a:t>
            </a:r>
            <a:endParaRPr b="0" lang="en-US" sz="24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24000" y="1484280"/>
            <a:ext cx="1387440" cy="1371600"/>
            <a:chOff x="324000" y="1484280"/>
            <a:chExt cx="1387440" cy="1371600"/>
          </a:xfrm>
        </p:grpSpPr>
        <p:grpSp>
          <p:nvGrpSpPr>
            <p:cNvPr id="56" name=""/>
            <p:cNvGrpSpPr/>
            <p:nvPr/>
          </p:nvGrpSpPr>
          <p:grpSpPr>
            <a:xfrm>
              <a:off x="324000" y="1484280"/>
              <a:ext cx="609480" cy="1123920"/>
              <a:chOff x="324000" y="1484280"/>
              <a:chExt cx="609480" cy="1123920"/>
            </a:xfrm>
          </p:grpSpPr>
          <p:pic>
            <p:nvPicPr>
              <p:cNvPr id="5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24000" y="1484280"/>
                <a:ext cx="609480" cy="60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00" y="2246400"/>
                <a:ext cx="609480" cy="361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9" name=""/>
            <p:cNvSpPr/>
            <p:nvPr/>
          </p:nvSpPr>
          <p:spPr>
            <a:xfrm>
              <a:off x="799560" y="1484280"/>
              <a:ext cx="911880" cy="1371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663300"/>
                  </a:solidFill>
                  <a:latin typeface="Times New Roman"/>
                </a:rPr>
                <a:t>交流合作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6804000" y="4941720"/>
            <a:ext cx="1387440" cy="1371600"/>
            <a:chOff x="6804000" y="4941720"/>
            <a:chExt cx="1387440" cy="1371600"/>
          </a:xfrm>
        </p:grpSpPr>
        <p:grpSp>
          <p:nvGrpSpPr>
            <p:cNvPr id="61" name=""/>
            <p:cNvGrpSpPr/>
            <p:nvPr/>
          </p:nvGrpSpPr>
          <p:grpSpPr>
            <a:xfrm>
              <a:off x="6804000" y="4941720"/>
              <a:ext cx="609480" cy="1123920"/>
              <a:chOff x="6804000" y="4941720"/>
              <a:chExt cx="609480" cy="1123920"/>
            </a:xfrm>
          </p:grpSpPr>
          <p:pic>
            <p:nvPicPr>
              <p:cNvPr id="6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804000" y="4941720"/>
                <a:ext cx="609480" cy="60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804000" y="5703840"/>
                <a:ext cx="609480" cy="361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4" name=""/>
            <p:cNvSpPr/>
            <p:nvPr/>
          </p:nvSpPr>
          <p:spPr>
            <a:xfrm>
              <a:off x="7279560" y="4941720"/>
              <a:ext cx="911880" cy="1371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663300"/>
                  </a:solidFill>
                  <a:latin typeface="Times New Roman"/>
                </a:rPr>
                <a:t>总结归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1835280" y="476280"/>
            <a:ext cx="1218960" cy="881640"/>
            <a:chOff x="1835280" y="476280"/>
            <a:chExt cx="1218960" cy="881640"/>
          </a:xfrm>
        </p:grpSpPr>
        <p:pic>
          <p:nvPicPr>
            <p:cNvPr id="66" name="" descr=""/>
            <p:cNvPicPr/>
            <p:nvPr/>
          </p:nvPicPr>
          <p:blipFill>
            <a:blip r:embed="rId6"/>
            <a:stretch/>
          </p:blipFill>
          <p:spPr>
            <a:xfrm>
              <a:off x="2122200" y="476280"/>
              <a:ext cx="645120" cy="47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1835280" y="898200"/>
              <a:ext cx="1218960" cy="4597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看一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629400" y="914400"/>
            <a:ext cx="2514600" cy="24908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84360" y="3500280"/>
            <a:ext cx="1439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现象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说明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429000"/>
            <a:ext cx="73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看到</a:t>
            </a:r>
            <a:r>
              <a:rPr b="1" lang="zh-CN" sz="2800" spc="-1" strike="noStrike">
                <a:solidFill>
                  <a:srgbClr val="3333cc"/>
                </a:solidFill>
                <a:latin typeface="华文新魏"/>
              </a:rPr>
              <a:t>高锰酸钾颗粒变小，整杯水变成紫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08000" y="407664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水与水（小颗粒）之间有空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00200" y="1219320"/>
            <a:ext cx="47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观察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：将高锰酸钾颗粒放入水中，你看到的现象是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0" y="0"/>
            <a:ext cx="1944720" cy="14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909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7.1</a:t>
            </a:r>
            <a:r>
              <a:rPr b="0" lang="zh-CN" sz="24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选择一种模型</a:t>
            </a:r>
            <a:endParaRPr b="0" lang="en-US" sz="24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04920" y="1371600"/>
            <a:ext cx="1387440" cy="1371600"/>
            <a:chOff x="304920" y="1371600"/>
            <a:chExt cx="1387440" cy="1371600"/>
          </a:xfrm>
        </p:grpSpPr>
        <p:grpSp>
          <p:nvGrpSpPr>
            <p:cNvPr id="75" name=""/>
            <p:cNvGrpSpPr/>
            <p:nvPr/>
          </p:nvGrpSpPr>
          <p:grpSpPr>
            <a:xfrm>
              <a:off x="304920" y="1371600"/>
              <a:ext cx="609480" cy="1123920"/>
              <a:chOff x="304920" y="1371600"/>
              <a:chExt cx="609480" cy="1123920"/>
            </a:xfrm>
          </p:grpSpPr>
          <p:pic>
            <p:nvPicPr>
              <p:cNvPr id="7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04920" y="1371600"/>
                <a:ext cx="609480" cy="60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04920" y="2133720"/>
                <a:ext cx="609480" cy="361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8" name=""/>
            <p:cNvSpPr/>
            <p:nvPr/>
          </p:nvSpPr>
          <p:spPr>
            <a:xfrm>
              <a:off x="780480" y="1371600"/>
              <a:ext cx="911880" cy="1371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663300"/>
                  </a:solidFill>
                  <a:latin typeface="Times New Roman"/>
                </a:rPr>
                <a:t>交流合作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547640" y="836640"/>
            <a:ext cx="719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观察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：向一端封闭的玻璃管中注水至一半位置，再注入酒精，在液面最高处做一标记，然后封闭管口，并将玻璃管反复翻转，使水和酒精充分混合，观察液面的位置，混合后和混合前相比的总体积有什么变化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00080" y="1371600"/>
            <a:ext cx="1500120" cy="30481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066680" y="4343400"/>
            <a:ext cx="10670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现象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说明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09680" y="545472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水与水（小颗粒）之间有空隙，酒精与酒精之间有空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09680" y="426708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华文新魏"/>
              </a:rPr>
              <a:t>水与酒精混合后的总体积小于混合前的体积之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0" y="0"/>
            <a:ext cx="1944720" cy="14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909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7.1</a:t>
            </a:r>
            <a:r>
              <a:rPr b="0" lang="zh-CN" sz="24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选择一种模型</a:t>
            </a:r>
            <a:endParaRPr b="0" lang="en-US" sz="24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03280" y="443700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上面是关于物质微观结构的三种模型。你认为，哪种模型能够解释上述活动中看到的现象？请选择一种模型，并尝试解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7740720" y="404640"/>
            <a:ext cx="1402920" cy="4221360"/>
            <a:chOff x="7740720" y="404640"/>
            <a:chExt cx="1402920" cy="4221360"/>
          </a:xfrm>
        </p:grpSpPr>
        <p:pic>
          <p:nvPicPr>
            <p:cNvPr id="87" name="" descr=""/>
            <p:cNvPicPr/>
            <p:nvPr/>
          </p:nvPicPr>
          <p:blipFill>
            <a:blip r:embed="rId1"/>
            <a:stretch/>
          </p:blipFill>
          <p:spPr>
            <a:xfrm>
              <a:off x="7740720" y="404640"/>
              <a:ext cx="1221120" cy="131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2"/>
            <a:stretch/>
          </p:blipFill>
          <p:spPr>
            <a:xfrm>
              <a:off x="7804440" y="1776240"/>
              <a:ext cx="1339200" cy="135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3"/>
            <a:stretch/>
          </p:blipFill>
          <p:spPr>
            <a:xfrm>
              <a:off x="7995600" y="3306960"/>
              <a:ext cx="783720" cy="131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" name=""/>
          <p:cNvSpPr/>
          <p:nvPr/>
        </p:nvSpPr>
        <p:spPr>
          <a:xfrm>
            <a:off x="395280" y="907920"/>
            <a:ext cx="7391520" cy="20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00"/>
                </a:solidFill>
                <a:latin typeface="华文新魏"/>
                <a:ea typeface="华文新魏"/>
              </a:rPr>
              <a:t>模型</a:t>
            </a:r>
            <a:r>
              <a:rPr b="0" lang="en-US" sz="3200" spc="-1" strike="noStrike">
                <a:solidFill>
                  <a:srgbClr val="996600"/>
                </a:solidFill>
                <a:latin typeface="华文新魏"/>
                <a:ea typeface="华文新魏"/>
              </a:rPr>
              <a:t>1</a:t>
            </a:r>
            <a:r>
              <a:rPr b="0" lang="zh-CN" sz="3200" spc="-1" strike="noStrike">
                <a:solidFill>
                  <a:srgbClr val="996600"/>
                </a:solidFill>
                <a:latin typeface="华文新魏"/>
                <a:ea typeface="华文新魏"/>
              </a:rPr>
              <a:t>：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物质是由微小的颗粒组成的，各个颗粒紧靠在一起，形成了我们所看到的连续体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模型</a:t>
            </a:r>
            <a:r>
              <a:rPr b="0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：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物质是由微小的颗粒组成的，颗粒之间有空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cc99"/>
                </a:solidFill>
                <a:latin typeface="华文新魏"/>
                <a:ea typeface="华文新魏"/>
              </a:rPr>
              <a:t>模型</a:t>
            </a:r>
            <a:r>
              <a:rPr b="0" lang="en-US" sz="3200" spc="-1" strike="noStrike">
                <a:solidFill>
                  <a:srgbClr val="00cc99"/>
                </a:solidFill>
                <a:latin typeface="华文新魏"/>
                <a:ea typeface="华文新魏"/>
              </a:rPr>
              <a:t>3</a:t>
            </a:r>
            <a:r>
              <a:rPr b="0" lang="zh-CN" sz="3200" spc="-1" strike="noStrike">
                <a:solidFill>
                  <a:srgbClr val="00cc99"/>
                </a:solidFill>
                <a:latin typeface="华文新魏"/>
                <a:ea typeface="华文新魏"/>
              </a:rPr>
              <a:t>：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固体是由微小颗粒组成的，液体是连成一片的，固体微粒可以挤进液体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580536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你选择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68360" y="5805360"/>
            <a:ext cx="42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模型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0" y="0"/>
            <a:ext cx="1944720" cy="14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909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7.1</a:t>
            </a:r>
            <a:r>
              <a:rPr b="0" lang="zh-CN" sz="24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选择一种模型</a:t>
            </a:r>
            <a:endParaRPr b="0" lang="en-US" sz="24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2060640"/>
            <a:ext cx="748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模型</a:t>
            </a:r>
            <a:r>
              <a:rPr b="0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：</a:t>
            </a:r>
            <a:r>
              <a:rPr b="1" lang="zh-CN" sz="2800" spc="-1" strike="noStrike">
                <a:solidFill>
                  <a:srgbClr val="ff33cc"/>
                </a:solidFill>
                <a:latin typeface="宋体"/>
              </a:rPr>
              <a:t>物质是由微小的颗粒组成的，颗粒之间有空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4508640"/>
            <a:ext cx="129528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想一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800" y="45720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分子的定义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1295280"/>
            <a:ext cx="77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把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保持物质化学性质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的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最小颗粒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称分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468360" y="2349360"/>
            <a:ext cx="8207280" cy="4060080"/>
            <a:chOff x="468360" y="2349360"/>
            <a:chExt cx="8207280" cy="4060080"/>
          </a:xfrm>
        </p:grpSpPr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5219640" y="2349360"/>
              <a:ext cx="2933640" cy="3384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" name=""/>
            <p:cNvGrpSpPr/>
            <p:nvPr/>
          </p:nvGrpSpPr>
          <p:grpSpPr>
            <a:xfrm>
              <a:off x="468360" y="2349360"/>
              <a:ext cx="3672000" cy="4060080"/>
              <a:chOff x="468360" y="2349360"/>
              <a:chExt cx="3672000" cy="4060080"/>
            </a:xfrm>
          </p:grpSpPr>
          <p:pic>
            <p:nvPicPr>
              <p:cNvPr id="10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68360" y="2349360"/>
                <a:ext cx="3432240" cy="345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" name=""/>
              <p:cNvSpPr/>
              <p:nvPr/>
            </p:nvSpPr>
            <p:spPr>
              <a:xfrm>
                <a:off x="755640" y="5949720"/>
                <a:ext cx="338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水是由有水分子组成的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>
              <a:off x="5364360" y="5949720"/>
              <a:ext cx="331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氧气是由氧分子组成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04920" y="7650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物质微观结构的模型：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分子模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1700280"/>
            <a:ext cx="85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1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、物质是由大量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分子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组成的，分子间有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空隙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27432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、分子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很小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，分子直径的数量级为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10</a:t>
            </a:r>
            <a:r>
              <a:rPr b="0" lang="zh-CN" sz="3200" spc="-1" strike="noStrike" baseline="30000">
                <a:solidFill>
                  <a:srgbClr val="ff3300"/>
                </a:solidFill>
                <a:latin typeface="Times New Roman"/>
                <a:ea typeface="华文新魏"/>
              </a:rPr>
              <a:t>－</a:t>
            </a:r>
            <a:r>
              <a:rPr b="0" lang="en-US" sz="3200" spc="-1" strike="noStrike" baseline="30000">
                <a:solidFill>
                  <a:srgbClr val="ff3300"/>
                </a:solidFill>
                <a:latin typeface="Times New Roman"/>
                <a:ea typeface="华文新魏"/>
              </a:rPr>
              <a:t>10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  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886200"/>
            <a:ext cx="87631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b0801"/>
                </a:solidFill>
                <a:latin typeface="华文新魏"/>
                <a:ea typeface="华文新魏"/>
              </a:rPr>
              <a:t>例：水分子的直径：</a:t>
            </a:r>
            <a:r>
              <a:rPr b="1" lang="en-US" sz="4400" spc="-1" strike="noStrike">
                <a:solidFill>
                  <a:srgbClr val="0b0801"/>
                </a:solidFill>
                <a:latin typeface="华文新魏"/>
                <a:ea typeface="华文新魏"/>
              </a:rPr>
              <a:t>4╳10</a:t>
            </a:r>
            <a:r>
              <a:rPr b="1" lang="en-US" sz="4400" spc="-1" strike="noStrike" baseline="30000">
                <a:solidFill>
                  <a:srgbClr val="ff0000"/>
                </a:solidFill>
                <a:latin typeface="华文新魏"/>
                <a:ea typeface="华文新魏"/>
              </a:rPr>
              <a:t>-10</a:t>
            </a:r>
            <a:r>
              <a:rPr b="1" lang="en-US" sz="4400" spc="-1" strike="noStrike">
                <a:solidFill>
                  <a:srgbClr val="0b0801"/>
                </a:solidFill>
                <a:latin typeface="华文新魏"/>
                <a:ea typeface="华文新魏"/>
              </a:rPr>
              <a:t>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b0801"/>
                </a:solidFill>
                <a:latin typeface="华文新魏"/>
                <a:ea typeface="华文新魏"/>
              </a:rPr>
              <a:t>　　氢气分子的直径：</a:t>
            </a:r>
            <a:r>
              <a:rPr b="1" lang="en-US" sz="4400" spc="-1" strike="noStrike">
                <a:solidFill>
                  <a:srgbClr val="0b0801"/>
                </a:solidFill>
                <a:latin typeface="华文新魏"/>
                <a:ea typeface="华文新魏"/>
              </a:rPr>
              <a:t>2.3╳10</a:t>
            </a:r>
            <a:r>
              <a:rPr b="1" lang="en-US" sz="4400" spc="-1" strike="noStrike" baseline="30000">
                <a:solidFill>
                  <a:srgbClr val="ff0000"/>
                </a:solidFill>
                <a:latin typeface="华文新魏"/>
                <a:ea typeface="华文新魏"/>
              </a:rPr>
              <a:t>-10</a:t>
            </a:r>
            <a:r>
              <a:rPr b="1" lang="en-US" sz="4400" spc="-1" strike="noStrike">
                <a:solidFill>
                  <a:srgbClr val="0b0801"/>
                </a:solidFill>
                <a:latin typeface="华文新魏"/>
                <a:ea typeface="华文新魏"/>
              </a:rPr>
              <a:t>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80880" y="53352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例：若把水分子与乒乓球相比，他们的比例就好像乒乓球与地球之比。</a:t>
            </a:r>
            <a:r>
              <a:rPr b="1" lang="en-US" sz="3200" spc="-1" strike="noStrike">
                <a:solidFill>
                  <a:srgbClr val="9966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标准大气压下，</a:t>
            </a:r>
            <a:r>
              <a:rPr b="1" lang="en-US" sz="3200" spc="-1" strike="noStrike">
                <a:solidFill>
                  <a:srgbClr val="996600"/>
                </a:solidFill>
                <a:latin typeface="Times New Roman"/>
              </a:rPr>
              <a:t>1cm</a:t>
            </a:r>
            <a:r>
              <a:rPr b="1" lang="en-US" sz="3200" spc="-1" strike="noStrike" baseline="30000">
                <a:solidFill>
                  <a:srgbClr val="9966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的任何气体约有</a:t>
            </a:r>
            <a:r>
              <a:rPr b="1" lang="en-US" sz="3200" spc="-1" strike="noStrike">
                <a:solidFill>
                  <a:srgbClr val="996600"/>
                </a:solidFill>
                <a:latin typeface="Times New Roman"/>
              </a:rPr>
              <a:t>2.7×10</a:t>
            </a:r>
            <a:r>
              <a:rPr b="1" lang="en-US" sz="3200" spc="-1" strike="noStrike" baseline="30000">
                <a:solidFill>
                  <a:srgbClr val="996600"/>
                </a:solidFill>
                <a:latin typeface="Times New Roman"/>
              </a:rPr>
              <a:t>19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个分子，让这些气体分子从容器中跑出，如果</a:t>
            </a:r>
            <a:r>
              <a:rPr b="1" lang="en-US" sz="3200" spc="-1" strike="noStrike">
                <a:solidFill>
                  <a:srgbClr val="996600"/>
                </a:solidFill>
                <a:latin typeface="Times New Roman"/>
              </a:rPr>
              <a:t>1s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跑出</a:t>
            </a:r>
            <a:r>
              <a:rPr b="1" lang="en-US" sz="3200" spc="-1" strike="noStrike">
                <a:solidFill>
                  <a:srgbClr val="9966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亿个，则约需多少年才能跑完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3276720"/>
            <a:ext cx="80773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解：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=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2.7×10</a:t>
            </a:r>
            <a:r>
              <a:rPr b="1" lang="en-US" sz="3200" spc="-1" strike="noStrike" baseline="30000">
                <a:solidFill>
                  <a:srgbClr val="3333cc"/>
                </a:solidFill>
                <a:latin typeface="Times New Roman"/>
              </a:rPr>
              <a:t>19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÷10</a:t>
            </a:r>
            <a:r>
              <a:rPr b="1" lang="en-US" sz="3200" spc="-1" strike="noStrike" baseline="30000">
                <a:solidFill>
                  <a:srgbClr val="3333cc"/>
                </a:solidFill>
                <a:latin typeface="Times New Roman"/>
              </a:rPr>
              <a:t>8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= 2.7×10</a:t>
            </a:r>
            <a:r>
              <a:rPr b="1" lang="en-US" sz="3200" spc="-1" strike="noStrike" baseline="30000">
                <a:solidFill>
                  <a:srgbClr val="3333cc"/>
                </a:solidFill>
                <a:latin typeface="Times New Roman"/>
              </a:rPr>
              <a:t>11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= 2.7×10</a:t>
            </a:r>
            <a:r>
              <a:rPr b="1" lang="en-US" sz="3200" spc="-1" strike="noStrike" baseline="30000">
                <a:solidFill>
                  <a:srgbClr val="3333cc"/>
                </a:solidFill>
                <a:latin typeface="Times New Roman"/>
              </a:rPr>
              <a:t>11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÷(365×24×60×60)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         ≈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9000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56272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00"/>
                </a:solidFill>
                <a:latin typeface="Times New Roman"/>
              </a:rPr>
              <a:t>答：约需</a:t>
            </a:r>
            <a:r>
              <a:rPr b="1" lang="en-US" sz="3200" spc="-1" strike="noStrike">
                <a:solidFill>
                  <a:srgbClr val="808000"/>
                </a:solidFill>
                <a:latin typeface="Times New Roman"/>
              </a:rPr>
              <a:t>9000</a:t>
            </a:r>
            <a:r>
              <a:rPr b="1" lang="zh-CN" sz="3200" spc="-1" strike="noStrike">
                <a:solidFill>
                  <a:srgbClr val="808000"/>
                </a:solidFill>
                <a:latin typeface="Times New Roman"/>
              </a:rPr>
              <a:t>年才能跑完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4-09-02T02:48:00Z</dcterms:modified>
  <cp:revision>1</cp:revision>
  <dc:subject/>
  <dc:title>幻灯片 1</dc:title>
</cp:coreProperties>
</file>