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D516-EE56-49D2-A8BB-D351986D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7D4-49ED-4DFF-8BCB-2140C308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632A-BBC1-4179-B836-08DA91DC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84E-AD2C-4D49-8216-0FDB6AA3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DD3-9D49-4C43-9275-159A1C6B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DC3-DE47-49B8-8F53-21210A7E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F40-3D7C-42FE-907B-67099B9E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C74-68D7-4760-BBA9-8C437FB2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6B8C-95F4-4D6A-AA1B-2EBDB9D1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9E5D-D0F5-4A82-B55C-1307BFFA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D86A-E42A-496A-8A1E-51A444FB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06C9-FA92-41AC-A222-B9BBBF4A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0699-5E62-48AB-89D2-8AB00735A8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4040" y="229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0000"/>
                </a:solidFill>
                <a:latin typeface="Arial"/>
                <a:ea typeface="隶书"/>
              </a:rPr>
              <a:t>静电现象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隶书"/>
              </a:rPr>
              <a:t>1.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隶书"/>
              </a:rPr>
              <a:t>观察到的现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经过摩擦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·····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吸引纸屑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纸屑被吸引后又被弹开；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隶书"/>
              </a:rPr>
              <a:t>2.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隶书"/>
              </a:rPr>
              <a:t>根据现象概括出结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物体经过摩擦能吸引轻小物体，说明它带了电荷；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摩擦的方式使物体带电，叫摩擦起电；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带电体具有吸引轻小物体性质；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以用带电体的性质来简单地判断物体是否带电；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5562720"/>
            <a:ext cx="1752840" cy="914400"/>
          </a:xfrm>
          <a:custGeom>
            <a:avLst/>
            <a:gdLst>
              <a:gd name="textAreaLeft" fmla="*/ 59040 w 1752840"/>
              <a:gd name="textAreaRight" fmla="*/ 1693800 w 1752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98" h="21600">
                <a:moveTo>
                  <a:pt x="0" y="0"/>
                </a:moveTo>
                <a:lnTo>
                  <a:pt x="41398" y="0"/>
                </a:lnTo>
                <a:lnTo>
                  <a:pt x="41398" y="21600"/>
                </a:lnTo>
                <a:lnTo>
                  <a:pt x="0" y="21600"/>
                </a:lnTo>
                <a:close/>
              </a:path>
              <a:path fill="lightenLess" w="41398" h="21600">
                <a:moveTo>
                  <a:pt x="0" y="0"/>
                </a:moveTo>
                <a:lnTo>
                  <a:pt x="41398" y="0"/>
                </a:lnTo>
                <a:lnTo>
                  <a:pt x="39998" y="1400"/>
                </a:lnTo>
                <a:lnTo>
                  <a:pt x="1400" y="1400"/>
                </a:lnTo>
                <a:close/>
              </a:path>
              <a:path fill="darken" w="41398" h="21600">
                <a:moveTo>
                  <a:pt x="41398" y="0"/>
                </a:moveTo>
                <a:lnTo>
                  <a:pt x="41398" y="21600"/>
                </a:lnTo>
                <a:lnTo>
                  <a:pt x="39998" y="20200"/>
                </a:lnTo>
                <a:lnTo>
                  <a:pt x="39998" y="1400"/>
                </a:lnTo>
                <a:close/>
              </a:path>
              <a:path fill="darkenLess" w="41398" h="21600">
                <a:moveTo>
                  <a:pt x="41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98" y="20200"/>
                </a:lnTo>
                <a:close/>
              </a:path>
              <a:path fill="lighten" w="41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98" h="21600">
                <a:moveTo>
                  <a:pt x="17200" y="10800"/>
                </a:moveTo>
                <a:lnTo>
                  <a:pt x="27705" y="3794"/>
                </a:lnTo>
                <a:lnTo>
                  <a:pt x="27705" y="17806"/>
                </a:lnTo>
                <a:close/>
              </a:path>
              <a:path fill="darken" w="41398" h="21600">
                <a:moveTo>
                  <a:pt x="13692" y="3794"/>
                </a:moveTo>
                <a:lnTo>
                  <a:pt x="15355" y="3794"/>
                </a:lnTo>
                <a:lnTo>
                  <a:pt x="15355" y="17806"/>
                </a:lnTo>
                <a:lnTo>
                  <a:pt x="13692" y="17806"/>
                </a:lnTo>
                <a:close/>
              </a:path>
            </a:pathLst>
          </a:custGeom>
          <a:solidFill>
            <a:srgbClr val="cc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1.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观察到的现象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丝绸摩擦过有机玻璃棒之间相互排斥；（或远离、推开等）；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毛皮摩擦过的橡胶棒之间相互吸引；（或远离、推开等） ；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毛皮摩擦过的橡胶棒与用丝绸摩擦过的有机玻璃棒之间相互吸引（或靠近等）： 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隶书"/>
              </a:rPr>
              <a:t>2.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隶书"/>
              </a:rPr>
              <a:t>根据现象概括出的结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根有机玻璃棒带的是同种电荷；两根橡胶棒也带上相同电荷；且同种电荷相互排斥；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机玻璃棒和橡胶棒带的是不同电荷，异种电荷相互吸引；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发现了两种电荷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5562720"/>
            <a:ext cx="1752840" cy="914400"/>
          </a:xfrm>
          <a:custGeom>
            <a:avLst/>
            <a:gdLst>
              <a:gd name="textAreaLeft" fmla="*/ 59040 w 1752840"/>
              <a:gd name="textAreaRight" fmla="*/ 1693800 w 1752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98" h="21600">
                <a:moveTo>
                  <a:pt x="0" y="0"/>
                </a:moveTo>
                <a:lnTo>
                  <a:pt x="41398" y="0"/>
                </a:lnTo>
                <a:lnTo>
                  <a:pt x="41398" y="21600"/>
                </a:lnTo>
                <a:lnTo>
                  <a:pt x="0" y="21600"/>
                </a:lnTo>
                <a:close/>
              </a:path>
              <a:path fill="lightenLess" w="41398" h="21600">
                <a:moveTo>
                  <a:pt x="0" y="0"/>
                </a:moveTo>
                <a:lnTo>
                  <a:pt x="41398" y="0"/>
                </a:lnTo>
                <a:lnTo>
                  <a:pt x="39998" y="1400"/>
                </a:lnTo>
                <a:lnTo>
                  <a:pt x="1400" y="1400"/>
                </a:lnTo>
                <a:close/>
              </a:path>
              <a:path fill="darken" w="41398" h="21600">
                <a:moveTo>
                  <a:pt x="41398" y="0"/>
                </a:moveTo>
                <a:lnTo>
                  <a:pt x="41398" y="21600"/>
                </a:lnTo>
                <a:lnTo>
                  <a:pt x="39998" y="20200"/>
                </a:lnTo>
                <a:lnTo>
                  <a:pt x="39998" y="1400"/>
                </a:lnTo>
                <a:close/>
              </a:path>
              <a:path fill="darkenLess" w="41398" h="21600">
                <a:moveTo>
                  <a:pt x="41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98" y="20200"/>
                </a:lnTo>
                <a:close/>
              </a:path>
              <a:path fill="lighten" w="41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98" h="21600">
                <a:moveTo>
                  <a:pt x="17200" y="10800"/>
                </a:moveTo>
                <a:lnTo>
                  <a:pt x="27705" y="3794"/>
                </a:lnTo>
                <a:lnTo>
                  <a:pt x="27705" y="17806"/>
                </a:lnTo>
                <a:close/>
              </a:path>
              <a:path fill="darken" w="41398" h="21600">
                <a:moveTo>
                  <a:pt x="13692" y="3794"/>
                </a:moveTo>
                <a:lnTo>
                  <a:pt x="15355" y="3794"/>
                </a:lnTo>
                <a:lnTo>
                  <a:pt x="15355" y="17806"/>
                </a:lnTo>
                <a:lnTo>
                  <a:pt x="13692" y="17806"/>
                </a:lnTo>
                <a:close/>
              </a:path>
            </a:pathLst>
          </a:custGeom>
          <a:solidFill>
            <a:srgbClr val="cc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活动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7.4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：摩擦起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63998" t="19500" r="4105" b="62883"/>
          <a:stretch/>
        </p:blipFill>
        <p:spPr>
          <a:xfrm>
            <a:off x="609480" y="1295280"/>
            <a:ext cx="8153640" cy="3048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4419720"/>
            <a:ext cx="883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1.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观察到的现象：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_________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；</a:t>
            </a:r>
            <a:br>
              <a:rPr sz="4400"/>
            </a:b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2.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分析现象得出的结论：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______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隶书"/>
              </a:rPr>
              <a:t>一、摩擦起电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①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隶书"/>
              </a:rPr>
              <a:t>摩擦起电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黑体"/>
                <a:ea typeface="隶书"/>
              </a:rPr>
              <a:t>用摩擦的方式使物体带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隶书"/>
                <a:ea typeface="隶书"/>
              </a:rPr>
              <a:t>②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隶书"/>
              </a:rPr>
              <a:t>带电体性质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黑体"/>
                <a:ea typeface="隶书"/>
              </a:rPr>
              <a:t>能吸引轻小物体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黑体"/>
                <a:ea typeface="隶书"/>
              </a:rPr>
              <a:t>③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隶书"/>
              </a:rPr>
              <a:t>判断物体是否带电的一种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隶书"/>
              </a:rPr>
              <a:t>  </a:t>
            </a:r>
            <a:r>
              <a:rPr b="1" lang="zh-CN" sz="4400" spc="-1" strike="noStrike">
                <a:solidFill>
                  <a:srgbClr val="009999"/>
                </a:solidFill>
                <a:latin typeface="黑体"/>
                <a:ea typeface="隶书"/>
              </a:rPr>
              <a:t>利用带电体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隶书"/>
              </a:rPr>
              <a:t>活动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隶书"/>
              </a:rPr>
              <a:t>7.5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隶书"/>
              </a:rPr>
              <a:t>：探究带电物体间的相互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4754" t="69492" r="8403" b="9871"/>
          <a:stretch/>
        </p:blipFill>
        <p:spPr>
          <a:xfrm>
            <a:off x="685800" y="1447920"/>
            <a:ext cx="8001000" cy="2819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4114800"/>
            <a:ext cx="883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1.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观察到的现象：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_____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；</a:t>
            </a:r>
            <a:br>
              <a:rPr sz="4400"/>
            </a:b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2.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分析现象概括得出结论：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____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隶书"/>
              </a:rPr>
              <a:t>二、两种电荷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隶书"/>
              </a:rPr>
              <a:t>电荷种类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黑体"/>
                <a:ea typeface="隶书"/>
              </a:rPr>
              <a:t>自然界只存在两种电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正电荷：</a:t>
            </a: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与用丝绸摩擦过的玻璃所带的电荷相同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负电荷：</a:t>
            </a:r>
            <a:r>
              <a:rPr b="1" lang="zh-CN" sz="2800" spc="-1" strike="noStrike">
                <a:solidFill>
                  <a:srgbClr val="009999"/>
                </a:solidFill>
                <a:latin typeface="隶书"/>
                <a:ea typeface="隶书"/>
              </a:rPr>
              <a:t>与毛皮摩擦过的橡胶棒所带的电荷相同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隶书"/>
              </a:rPr>
              <a:t>电荷间的相互作用规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黑体"/>
                <a:ea typeface="隶书"/>
              </a:rPr>
              <a:t> </a:t>
            </a:r>
            <a:r>
              <a:rPr b="1" lang="zh-CN" sz="4400" spc="-1" strike="noStrike">
                <a:solidFill>
                  <a:srgbClr val="009999"/>
                </a:solidFill>
                <a:latin typeface="黑体"/>
                <a:ea typeface="隶书"/>
              </a:rPr>
              <a:t>同种电荷相互排斥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黑体"/>
                <a:ea typeface="隶书"/>
              </a:rPr>
              <a:t> </a:t>
            </a:r>
            <a:r>
              <a:rPr b="1" lang="zh-CN" sz="4400" spc="-1" strike="noStrike">
                <a:solidFill>
                  <a:srgbClr val="009999"/>
                </a:solidFill>
                <a:latin typeface="黑体"/>
                <a:ea typeface="隶书"/>
              </a:rPr>
              <a:t>异种电荷相互吸引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自然界和生活中的静电现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阅读课文后，你能用简洁的语言概括出课文的含义吗？试试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2743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四学有所得、学以所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通过本节课的学习，你获得了哪些知识？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1" action="ppaction://hlinksldjump"/>
              </a:rPr>
              <a:t>请你概括一下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现在你应该知道小魔术背后的奥秘了吧？请你来揭秘一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完成检测，看你能不能全做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静电现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隶书"/>
              </a:rPr>
              <a:t>一摩擦起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摩擦起 电；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带电体的性质与判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隶书"/>
              </a:rPr>
              <a:t>二两种电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两种电荷：正电荷与负电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电荷间的相互作用规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隶书"/>
              </a:rPr>
              <a:t>三自然界和生活中的静电现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常见的静电现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静电现象的应用、危害与防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5562720"/>
            <a:ext cx="1752840" cy="914400"/>
          </a:xfrm>
          <a:custGeom>
            <a:avLst/>
            <a:gdLst>
              <a:gd name="textAreaLeft" fmla="*/ 59040 w 1752840"/>
              <a:gd name="textAreaRight" fmla="*/ 1693800 w 1752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98" h="21600">
                <a:moveTo>
                  <a:pt x="0" y="0"/>
                </a:moveTo>
                <a:lnTo>
                  <a:pt x="41398" y="0"/>
                </a:lnTo>
                <a:lnTo>
                  <a:pt x="41398" y="21600"/>
                </a:lnTo>
                <a:lnTo>
                  <a:pt x="0" y="21600"/>
                </a:lnTo>
                <a:close/>
              </a:path>
              <a:path fill="lightenLess" w="41398" h="21600">
                <a:moveTo>
                  <a:pt x="0" y="0"/>
                </a:moveTo>
                <a:lnTo>
                  <a:pt x="41398" y="0"/>
                </a:lnTo>
                <a:lnTo>
                  <a:pt x="39998" y="1400"/>
                </a:lnTo>
                <a:lnTo>
                  <a:pt x="1400" y="1400"/>
                </a:lnTo>
                <a:close/>
              </a:path>
              <a:path fill="darken" w="41398" h="21600">
                <a:moveTo>
                  <a:pt x="41398" y="0"/>
                </a:moveTo>
                <a:lnTo>
                  <a:pt x="41398" y="21600"/>
                </a:lnTo>
                <a:lnTo>
                  <a:pt x="39998" y="20200"/>
                </a:lnTo>
                <a:lnTo>
                  <a:pt x="39998" y="1400"/>
                </a:lnTo>
                <a:close/>
              </a:path>
              <a:path fill="darkenLess" w="41398" h="21600">
                <a:moveTo>
                  <a:pt x="41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98" y="20200"/>
                </a:lnTo>
                <a:close/>
              </a:path>
              <a:path fill="lighten" w="41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98" h="21600">
                <a:moveTo>
                  <a:pt x="17200" y="10800"/>
                </a:moveTo>
                <a:lnTo>
                  <a:pt x="27705" y="3794"/>
                </a:lnTo>
                <a:lnTo>
                  <a:pt x="27705" y="17806"/>
                </a:lnTo>
                <a:close/>
              </a:path>
              <a:path fill="darken" w="41398" h="21600">
                <a:moveTo>
                  <a:pt x="13692" y="3794"/>
                </a:moveTo>
                <a:lnTo>
                  <a:pt x="15355" y="3794"/>
                </a:lnTo>
                <a:lnTo>
                  <a:pt x="15355" y="17806"/>
                </a:lnTo>
                <a:lnTo>
                  <a:pt x="13692" y="17806"/>
                </a:lnTo>
                <a:close/>
              </a:path>
            </a:pathLst>
          </a:custGeom>
          <a:solidFill>
            <a:srgbClr val="cc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05120" y="1066680"/>
            <a:ext cx="51814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隶书"/>
                <a:ea typeface="隶书"/>
              </a:rPr>
              <a:t>谢谢合作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zh-CN" sz="8800" spc="-1" strike="noStrike">
                <a:solidFill>
                  <a:srgbClr val="ff0000"/>
                </a:solidFill>
                <a:latin typeface="隶书"/>
                <a:ea typeface="隶书"/>
              </a:rPr>
              <a:t>再见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14-10-11T03:56:14Z</dcterms:modified>
  <cp:revision>1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