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CED-5EF2-4606-94DA-DD4AC39E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717-BBE3-4C6E-AE46-282BC593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389-50D9-4D5F-A24E-1384BCF3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967-B492-4DDF-9C1E-1D466515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377-1203-4AF0-83D9-1A6650A3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CA9-D93E-493D-A8F8-5D4B8388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A9D7-A95C-463B-847B-5E1959CC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65E1-DF26-454A-8EE0-5A670775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AB1-35E9-46E3-AE94-6F78FE84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D52-D3FF-4351-984C-6F76ECB5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A83-30B7-4FBE-B82A-A837F6E2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5CA-D20E-4AEE-B6F6-8B2F8754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48276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4360" y="0"/>
            <a:ext cx="180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"/>
                <a:ea typeface="迷你简启体"/>
              </a:rPr>
              <a:t>全品中考网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564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k.canpoin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FB67-AF16-4385-B6A3-C495A457C2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76960" cy="4705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276960" cy="470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47640" y="1341360"/>
            <a:ext cx="60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三、探索更小的微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6360" y="4653000"/>
            <a:ext cx="4356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物理组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4053" b="3222"/>
          <a:stretch/>
        </p:blipFill>
        <p:spPr>
          <a:xfrm>
            <a:off x="1371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09480" y="0"/>
            <a:ext cx="1335240" cy="70344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粒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0"/>
            <a:ext cx="2819160" cy="64260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大小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14400"/>
            <a:ext cx="1600200" cy="64260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大分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3809880"/>
            <a:ext cx="2667240" cy="64260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10</a:t>
            </a:r>
            <a:r>
              <a:rPr b="1" lang="en-US" sz="3600" spc="-1" strike="noStrike" baseline="42000">
                <a:solidFill>
                  <a:srgbClr val="0033cc"/>
                </a:solidFill>
                <a:latin typeface="Arial"/>
                <a:ea typeface="黑体"/>
              </a:rPr>
              <a:t>-14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-10</a:t>
            </a:r>
            <a:r>
              <a:rPr b="1" lang="en-US" sz="3600" spc="-1" strike="noStrike" baseline="42000">
                <a:solidFill>
                  <a:srgbClr val="0033cc"/>
                </a:solidFill>
                <a:latin typeface="Arial"/>
                <a:ea typeface="黑体"/>
              </a:rPr>
              <a:t>-15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2362320"/>
            <a:ext cx="4419720" cy="64260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绕核运动的电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362320"/>
            <a:ext cx="1600200" cy="64260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09880" y="2743200"/>
            <a:ext cx="990720" cy="4572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2895480"/>
            <a:ext cx="1600200" cy="64260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原子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286000"/>
            <a:ext cx="609480" cy="380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533520"/>
            <a:ext cx="2590560" cy="64260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每个点表示一个原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3505320"/>
            <a:ext cx="76320" cy="30456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2209680"/>
            <a:ext cx="1600200" cy="64260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en-US" sz="3600" spc="-1" strike="noStrike" baseline="42000">
                <a:solidFill>
                  <a:srgbClr val="000000"/>
                </a:solidFill>
                <a:latin typeface="Arial"/>
                <a:ea typeface="黑体"/>
              </a:rPr>
              <a:t>-1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914400"/>
            <a:ext cx="2362320" cy="64260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10</a:t>
            </a:r>
            <a:r>
              <a:rPr b="1" lang="en-US" sz="3600" spc="-1" strike="noStrike" baseline="42000">
                <a:solidFill>
                  <a:srgbClr val="0000ff"/>
                </a:solidFill>
                <a:latin typeface="Arial"/>
                <a:ea typeface="黑体"/>
              </a:rPr>
              <a:t>-5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-10</a:t>
            </a:r>
            <a:r>
              <a:rPr b="1" lang="en-US" sz="3600" spc="-1" strike="noStrike" baseline="42000">
                <a:solidFill>
                  <a:srgbClr val="0000ff"/>
                </a:solidFill>
                <a:latin typeface="Arial"/>
                <a:ea typeface="黑体"/>
              </a:rPr>
              <a:t>-9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76920"/>
            <a:ext cx="1600200" cy="64260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质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4952880"/>
            <a:ext cx="1600200" cy="64260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en-US" sz="3600" spc="-1" strike="noStrike" baseline="42000">
                <a:solidFill>
                  <a:srgbClr val="000000"/>
                </a:solidFill>
                <a:latin typeface="Arial"/>
                <a:ea typeface="黑体"/>
              </a:rPr>
              <a:t>-1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5943600"/>
            <a:ext cx="1600200" cy="64260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夸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6019920"/>
            <a:ext cx="1828800" cy="64260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&lt;10</a:t>
            </a:r>
            <a:r>
              <a:rPr b="1" lang="en-US" sz="3600" spc="-1" strike="noStrike" baseline="42000">
                <a:solidFill>
                  <a:srgbClr val="0033cc"/>
                </a:solidFill>
                <a:latin typeface="Arial"/>
                <a:ea typeface="黑体"/>
              </a:rPr>
              <a:t>-18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67480"/>
            <a:ext cx="685800" cy="119124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电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5867280"/>
            <a:ext cx="1828800" cy="64260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&lt;10</a:t>
            </a:r>
            <a:r>
              <a:rPr b="1" lang="en-US" sz="3600" spc="-1" strike="noStrike" baseline="42000">
                <a:solidFill>
                  <a:srgbClr val="000000"/>
                </a:solidFill>
                <a:latin typeface="Arial"/>
                <a:ea typeface="黑体"/>
              </a:rPr>
              <a:t>-1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3809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质子和中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962520"/>
            <a:ext cx="2819520" cy="76428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信息快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534520" y="6553080"/>
            <a:ext cx="457200" cy="304920"/>
            <a:chOff x="8534520" y="6553080"/>
            <a:chExt cx="457200" cy="304920"/>
          </a:xfrm>
        </p:grpSpPr>
        <p:sp>
          <p:nvSpPr>
            <p:cNvPr id="162" name="">
              <a:hlinkClick r:id="" action="ppaction://hlinkshowjump?jump=previousslide"/>
            </p:cNvPr>
            <p:cNvSpPr/>
            <p:nvPr/>
          </p:nvSpPr>
          <p:spPr>
            <a:xfrm>
              <a:off x="8534520" y="6553080"/>
              <a:ext cx="228600" cy="304920"/>
            </a:xfrm>
            <a:custGeom>
              <a:avLst/>
              <a:gdLst>
                <a:gd name="textAreaLeft" fmla="*/ 14040 w 228600"/>
                <a:gd name="textAreaRight" fmla="*/ 214560 w 228600"/>
                <a:gd name="textAreaTop" fmla="*/ 14040 h 304920"/>
                <a:gd name="textAreaBottom" fmla="*/ 290880 h 304920"/>
              </a:gdLst>
              <a:ahLst/>
              <a:rect l="textAreaLeft" t="textAreaTop" r="textAreaRight" b="textAreaBottom"/>
              <a:pathLst>
                <a:path w="21600" h="28800">
                  <a:moveTo>
                    <a:pt x="0" y="0"/>
                  </a:moveTo>
                  <a:lnTo>
                    <a:pt x="21600" y="0"/>
                  </a:lnTo>
                  <a:lnTo>
                    <a:pt x="21600" y="28800"/>
                  </a:lnTo>
                  <a:lnTo>
                    <a:pt x="0" y="28800"/>
                  </a:lnTo>
                  <a:close/>
                </a:path>
                <a:path fill="lightenLess" w="21600" h="28800">
                  <a:moveTo>
                    <a:pt x="0" y="0"/>
                  </a:moveTo>
                  <a:lnTo>
                    <a:pt x="21600" y="0"/>
                  </a:lnTo>
                  <a:lnTo>
                    <a:pt x="20250" y="1350"/>
                  </a:lnTo>
                  <a:lnTo>
                    <a:pt x="1350" y="1350"/>
                  </a:lnTo>
                  <a:close/>
                </a:path>
                <a:path fill="darken" w="21600" h="28800">
                  <a:moveTo>
                    <a:pt x="21600" y="0"/>
                  </a:moveTo>
                  <a:lnTo>
                    <a:pt x="21600" y="28800"/>
                  </a:lnTo>
                  <a:lnTo>
                    <a:pt x="20250" y="27450"/>
                  </a:lnTo>
                  <a:lnTo>
                    <a:pt x="20250" y="1350"/>
                  </a:lnTo>
                  <a:close/>
                </a:path>
                <a:path fill="darkenLess" w="21600" h="28800">
                  <a:moveTo>
                    <a:pt x="21600" y="28800"/>
                  </a:moveTo>
                  <a:lnTo>
                    <a:pt x="0" y="28800"/>
                  </a:lnTo>
                  <a:lnTo>
                    <a:pt x="1350" y="27450"/>
                  </a:lnTo>
                  <a:lnTo>
                    <a:pt x="20250" y="27450"/>
                  </a:lnTo>
                  <a:close/>
                </a:path>
                <a:path fill="lighten" w="21600" h="28800">
                  <a:moveTo>
                    <a:pt x="0" y="28800"/>
                  </a:moveTo>
                  <a:lnTo>
                    <a:pt x="0" y="0"/>
                  </a:lnTo>
                  <a:lnTo>
                    <a:pt x="1350" y="1350"/>
                  </a:lnTo>
                  <a:lnTo>
                    <a:pt x="1350" y="27450"/>
                  </a:lnTo>
                  <a:close/>
                </a:path>
                <a:path fill="darken" w="21600" h="28800">
                  <a:moveTo>
                    <a:pt x="3756" y="14400"/>
                  </a:moveTo>
                  <a:lnTo>
                    <a:pt x="17844" y="7356"/>
                  </a:lnTo>
                  <a:lnTo>
                    <a:pt x="17844" y="2144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>
              <a:hlinkClick r:id="" action="ppaction://hlinkshowjump?jump=nextslide"/>
            </p:cNvPr>
            <p:cNvSpPr/>
            <p:nvPr/>
          </p:nvSpPr>
          <p:spPr>
            <a:xfrm>
              <a:off x="8763120" y="6553080"/>
              <a:ext cx="228600" cy="304920"/>
            </a:xfrm>
            <a:custGeom>
              <a:avLst/>
              <a:gdLst>
                <a:gd name="textAreaLeft" fmla="*/ 14040 w 228600"/>
                <a:gd name="textAreaRight" fmla="*/ 214560 w 228600"/>
                <a:gd name="textAreaTop" fmla="*/ 14040 h 304920"/>
                <a:gd name="textAreaBottom" fmla="*/ 290880 h 304920"/>
              </a:gdLst>
              <a:ahLst/>
              <a:rect l="textAreaLeft" t="textAreaTop" r="textAreaRight" b="textAreaBottom"/>
              <a:pathLst>
                <a:path w="21600" h="28800">
                  <a:moveTo>
                    <a:pt x="0" y="0"/>
                  </a:moveTo>
                  <a:lnTo>
                    <a:pt x="21600" y="0"/>
                  </a:lnTo>
                  <a:lnTo>
                    <a:pt x="21600" y="28800"/>
                  </a:lnTo>
                  <a:lnTo>
                    <a:pt x="0" y="28800"/>
                  </a:lnTo>
                  <a:close/>
                </a:path>
                <a:path fill="lightenLess" w="21600" h="28800">
                  <a:moveTo>
                    <a:pt x="0" y="0"/>
                  </a:moveTo>
                  <a:lnTo>
                    <a:pt x="21600" y="0"/>
                  </a:lnTo>
                  <a:lnTo>
                    <a:pt x="20250" y="1350"/>
                  </a:lnTo>
                  <a:lnTo>
                    <a:pt x="1350" y="1350"/>
                  </a:lnTo>
                  <a:close/>
                </a:path>
                <a:path fill="darken" w="21600" h="28800">
                  <a:moveTo>
                    <a:pt x="21600" y="0"/>
                  </a:moveTo>
                  <a:lnTo>
                    <a:pt x="21600" y="28800"/>
                  </a:lnTo>
                  <a:lnTo>
                    <a:pt x="20250" y="27450"/>
                  </a:lnTo>
                  <a:lnTo>
                    <a:pt x="20250" y="1350"/>
                  </a:lnTo>
                  <a:close/>
                </a:path>
                <a:path fill="darkenLess" w="21600" h="28800">
                  <a:moveTo>
                    <a:pt x="21600" y="28800"/>
                  </a:moveTo>
                  <a:lnTo>
                    <a:pt x="0" y="28800"/>
                  </a:lnTo>
                  <a:lnTo>
                    <a:pt x="1350" y="27450"/>
                  </a:lnTo>
                  <a:lnTo>
                    <a:pt x="20250" y="27450"/>
                  </a:lnTo>
                  <a:close/>
                </a:path>
                <a:path fill="lighten" w="21600" h="28800">
                  <a:moveTo>
                    <a:pt x="0" y="28800"/>
                  </a:moveTo>
                  <a:lnTo>
                    <a:pt x="0" y="0"/>
                  </a:lnTo>
                  <a:lnTo>
                    <a:pt x="1350" y="1350"/>
                  </a:lnTo>
                  <a:lnTo>
                    <a:pt x="1350" y="27450"/>
                  </a:lnTo>
                  <a:close/>
                </a:path>
                <a:path fill="darken" w="21600" h="28800">
                  <a:moveTo>
                    <a:pt x="3756" y="7356"/>
                  </a:moveTo>
                  <a:lnTo>
                    <a:pt x="17844" y="14400"/>
                  </a:lnTo>
                  <a:lnTo>
                    <a:pt x="3756" y="2144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8000" y="3213000"/>
            <a:ext cx="952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粒子加速器在生产、生活中有哪些应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“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eV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物理学中     的单位符号，称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356000" y="1440"/>
            <a:ext cx="4789440" cy="3184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898560"/>
            <a:ext cx="3886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加速器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的有力武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5127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探索微小粒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4437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能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8720" y="508644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电子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8534520" y="6553080"/>
            <a:ext cx="457200" cy="304920"/>
            <a:chOff x="8534520" y="6553080"/>
            <a:chExt cx="457200" cy="304920"/>
          </a:xfrm>
        </p:grpSpPr>
        <p:sp>
          <p:nvSpPr>
            <p:cNvPr id="171" name="">
              <a:hlinkClick r:id="" action="ppaction://hlinkshowjump?jump=previousslide"/>
            </p:cNvPr>
            <p:cNvSpPr/>
            <p:nvPr/>
          </p:nvSpPr>
          <p:spPr>
            <a:xfrm>
              <a:off x="8534520" y="6553080"/>
              <a:ext cx="228600" cy="304920"/>
            </a:xfrm>
            <a:custGeom>
              <a:avLst/>
              <a:gdLst>
                <a:gd name="textAreaLeft" fmla="*/ 14040 w 228600"/>
                <a:gd name="textAreaRight" fmla="*/ 214560 w 228600"/>
                <a:gd name="textAreaTop" fmla="*/ 14040 h 304920"/>
                <a:gd name="textAreaBottom" fmla="*/ 290880 h 304920"/>
              </a:gdLst>
              <a:ahLst/>
              <a:rect l="textAreaLeft" t="textAreaTop" r="textAreaRight" b="textAreaBottom"/>
              <a:pathLst>
                <a:path w="21600" h="28800">
                  <a:moveTo>
                    <a:pt x="0" y="0"/>
                  </a:moveTo>
                  <a:lnTo>
                    <a:pt x="21600" y="0"/>
                  </a:lnTo>
                  <a:lnTo>
                    <a:pt x="21600" y="28800"/>
                  </a:lnTo>
                  <a:lnTo>
                    <a:pt x="0" y="28800"/>
                  </a:lnTo>
                  <a:close/>
                </a:path>
                <a:path fill="lightenLess" w="21600" h="28800">
                  <a:moveTo>
                    <a:pt x="0" y="0"/>
                  </a:moveTo>
                  <a:lnTo>
                    <a:pt x="21600" y="0"/>
                  </a:lnTo>
                  <a:lnTo>
                    <a:pt x="20250" y="1350"/>
                  </a:lnTo>
                  <a:lnTo>
                    <a:pt x="1350" y="1350"/>
                  </a:lnTo>
                  <a:close/>
                </a:path>
                <a:path fill="darken" w="21600" h="28800">
                  <a:moveTo>
                    <a:pt x="21600" y="0"/>
                  </a:moveTo>
                  <a:lnTo>
                    <a:pt x="21600" y="28800"/>
                  </a:lnTo>
                  <a:lnTo>
                    <a:pt x="20250" y="27450"/>
                  </a:lnTo>
                  <a:lnTo>
                    <a:pt x="20250" y="1350"/>
                  </a:lnTo>
                  <a:close/>
                </a:path>
                <a:path fill="darkenLess" w="21600" h="28800">
                  <a:moveTo>
                    <a:pt x="21600" y="28800"/>
                  </a:moveTo>
                  <a:lnTo>
                    <a:pt x="0" y="28800"/>
                  </a:lnTo>
                  <a:lnTo>
                    <a:pt x="1350" y="27450"/>
                  </a:lnTo>
                  <a:lnTo>
                    <a:pt x="20250" y="27450"/>
                  </a:lnTo>
                  <a:close/>
                </a:path>
                <a:path fill="lighten" w="21600" h="28800">
                  <a:moveTo>
                    <a:pt x="0" y="28800"/>
                  </a:moveTo>
                  <a:lnTo>
                    <a:pt x="0" y="0"/>
                  </a:lnTo>
                  <a:lnTo>
                    <a:pt x="1350" y="1350"/>
                  </a:lnTo>
                  <a:lnTo>
                    <a:pt x="1350" y="27450"/>
                  </a:lnTo>
                  <a:close/>
                </a:path>
                <a:path fill="darken" w="21600" h="28800">
                  <a:moveTo>
                    <a:pt x="3756" y="14400"/>
                  </a:moveTo>
                  <a:lnTo>
                    <a:pt x="17844" y="7356"/>
                  </a:lnTo>
                  <a:lnTo>
                    <a:pt x="17844" y="2144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>
              <a:hlinkClick r:id="" action="ppaction://hlinkshowjump?jump=nextslide"/>
            </p:cNvPr>
            <p:cNvSpPr/>
            <p:nvPr/>
          </p:nvSpPr>
          <p:spPr>
            <a:xfrm>
              <a:off x="8763120" y="6553080"/>
              <a:ext cx="228600" cy="304920"/>
            </a:xfrm>
            <a:custGeom>
              <a:avLst/>
              <a:gdLst>
                <a:gd name="textAreaLeft" fmla="*/ 14040 w 228600"/>
                <a:gd name="textAreaRight" fmla="*/ 214560 w 228600"/>
                <a:gd name="textAreaTop" fmla="*/ 14040 h 304920"/>
                <a:gd name="textAreaBottom" fmla="*/ 290880 h 304920"/>
              </a:gdLst>
              <a:ahLst/>
              <a:rect l="textAreaLeft" t="textAreaTop" r="textAreaRight" b="textAreaBottom"/>
              <a:pathLst>
                <a:path w="21600" h="28800">
                  <a:moveTo>
                    <a:pt x="0" y="0"/>
                  </a:moveTo>
                  <a:lnTo>
                    <a:pt x="21600" y="0"/>
                  </a:lnTo>
                  <a:lnTo>
                    <a:pt x="21600" y="28800"/>
                  </a:lnTo>
                  <a:lnTo>
                    <a:pt x="0" y="28800"/>
                  </a:lnTo>
                  <a:close/>
                </a:path>
                <a:path fill="lightenLess" w="21600" h="28800">
                  <a:moveTo>
                    <a:pt x="0" y="0"/>
                  </a:moveTo>
                  <a:lnTo>
                    <a:pt x="21600" y="0"/>
                  </a:lnTo>
                  <a:lnTo>
                    <a:pt x="20250" y="1350"/>
                  </a:lnTo>
                  <a:lnTo>
                    <a:pt x="1350" y="1350"/>
                  </a:lnTo>
                  <a:close/>
                </a:path>
                <a:path fill="darken" w="21600" h="28800">
                  <a:moveTo>
                    <a:pt x="21600" y="0"/>
                  </a:moveTo>
                  <a:lnTo>
                    <a:pt x="21600" y="28800"/>
                  </a:lnTo>
                  <a:lnTo>
                    <a:pt x="20250" y="27450"/>
                  </a:lnTo>
                  <a:lnTo>
                    <a:pt x="20250" y="1350"/>
                  </a:lnTo>
                  <a:close/>
                </a:path>
                <a:path fill="darkenLess" w="21600" h="28800">
                  <a:moveTo>
                    <a:pt x="21600" y="28800"/>
                  </a:moveTo>
                  <a:lnTo>
                    <a:pt x="0" y="28800"/>
                  </a:lnTo>
                  <a:lnTo>
                    <a:pt x="1350" y="27450"/>
                  </a:lnTo>
                  <a:lnTo>
                    <a:pt x="20250" y="27450"/>
                  </a:lnTo>
                  <a:close/>
                </a:path>
                <a:path fill="lighten" w="21600" h="28800">
                  <a:moveTo>
                    <a:pt x="0" y="28800"/>
                  </a:moveTo>
                  <a:lnTo>
                    <a:pt x="0" y="0"/>
                  </a:lnTo>
                  <a:lnTo>
                    <a:pt x="1350" y="1350"/>
                  </a:lnTo>
                  <a:lnTo>
                    <a:pt x="1350" y="27450"/>
                  </a:lnTo>
                  <a:close/>
                </a:path>
                <a:path fill="darken" w="21600" h="28800">
                  <a:moveTo>
                    <a:pt x="3756" y="7356"/>
                  </a:moveTo>
                  <a:lnTo>
                    <a:pt x="17844" y="14400"/>
                  </a:lnTo>
                  <a:lnTo>
                    <a:pt x="3756" y="2144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08000" y="11736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黑体"/>
                <a:ea typeface="黑体"/>
              </a:rPr>
              <a:t>自主学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86520" y="27813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加速器可以用来加速中子吗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4920" y="693720"/>
            <a:ext cx="9002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电子的发现说明原子也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原子是由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核外电子组成的，电子带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，原子核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，通常情况下原子是不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9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汤姆生发现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卢瑟福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粒子从氮原子核中打出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3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查德威克发现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6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盖尔曼提出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设想；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立了原子结构的行星模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5160" y="44280"/>
            <a:ext cx="140004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800" y="909720"/>
            <a:ext cx="12963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下列现象不属于摩擦起电的是                         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用干净的梳子梳干燥的头发，头发能竖起且一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根分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在干燥的天气里脱毛衣时，会听到轻微的噼啪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用干燥的毛刷刷毛衣时，会在毛刷上吸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微脏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一阵风吹过后，墙角堆了一些灰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下列粒子中，带正电荷的是  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中子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电子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质子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原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395280" y="1125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行楷"/>
              </a:rPr>
              <a:t>5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行楷"/>
              </a:rPr>
              <a:t>、汤姆生发现电子后，人们开始研究原子的内部结构，提出了许多原子结构模型。由卢瑟福提出的最为大家所接受的模型与下列各图较相似得是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24000" y="2565360"/>
            <a:ext cx="1871640" cy="1593720"/>
            <a:chOff x="324000" y="2565360"/>
            <a:chExt cx="1871640" cy="1593720"/>
          </a:xfrm>
        </p:grpSpPr>
        <p:pic>
          <p:nvPicPr>
            <p:cNvPr id="180" name="Picture 5" descr="0812914259"/>
            <p:cNvPicPr/>
            <p:nvPr/>
          </p:nvPicPr>
          <p:blipFill>
            <a:blip r:embed="rId1"/>
            <a:stretch/>
          </p:blipFill>
          <p:spPr>
            <a:xfrm>
              <a:off x="540000" y="2565360"/>
              <a:ext cx="1368360" cy="12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9"/>
            <p:cNvSpPr/>
            <p:nvPr/>
          </p:nvSpPr>
          <p:spPr>
            <a:xfrm>
              <a:off x="324000" y="379080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A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、西红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627280" y="2565360"/>
            <a:ext cx="1584360" cy="1593720"/>
            <a:chOff x="2627280" y="2565360"/>
            <a:chExt cx="1584360" cy="1593720"/>
          </a:xfrm>
        </p:grpSpPr>
        <p:pic>
          <p:nvPicPr>
            <p:cNvPr id="183" name="Picture 6" descr="1218080226387734231"/>
            <p:cNvPicPr/>
            <p:nvPr/>
          </p:nvPicPr>
          <p:blipFill>
            <a:blip r:embed="rId2"/>
            <a:stretch/>
          </p:blipFill>
          <p:spPr>
            <a:xfrm>
              <a:off x="2771640" y="2565360"/>
              <a:ext cx="129708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0"/>
            <p:cNvSpPr/>
            <p:nvPr/>
          </p:nvSpPr>
          <p:spPr>
            <a:xfrm>
              <a:off x="2627280" y="37908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B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、西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861080" y="2637000"/>
            <a:ext cx="1584000" cy="1520640"/>
            <a:chOff x="4861080" y="2637000"/>
            <a:chExt cx="1584000" cy="1520640"/>
          </a:xfrm>
        </p:grpSpPr>
        <p:pic>
          <p:nvPicPr>
            <p:cNvPr id="186" name="Picture 7" descr="200612129224325991"/>
            <p:cNvPicPr/>
            <p:nvPr/>
          </p:nvPicPr>
          <p:blipFill>
            <a:blip r:embed="rId3"/>
            <a:stretch/>
          </p:blipFill>
          <p:spPr>
            <a:xfrm>
              <a:off x="5005080" y="2637000"/>
              <a:ext cx="136800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11"/>
            <p:cNvSpPr/>
            <p:nvPr/>
          </p:nvSpPr>
          <p:spPr>
            <a:xfrm>
              <a:off x="4861080" y="378936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C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、面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948360" y="2637000"/>
            <a:ext cx="1871640" cy="1520640"/>
            <a:chOff x="6948360" y="2637000"/>
            <a:chExt cx="1871640" cy="1520640"/>
          </a:xfrm>
        </p:grpSpPr>
        <p:pic>
          <p:nvPicPr>
            <p:cNvPr id="189" name="Picture 8" descr="太阳系"/>
            <p:cNvPicPr/>
            <p:nvPr/>
          </p:nvPicPr>
          <p:blipFill>
            <a:blip r:embed="rId4"/>
            <a:stretch/>
          </p:blipFill>
          <p:spPr>
            <a:xfrm>
              <a:off x="7164360" y="2637000"/>
              <a:ext cx="13683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2"/>
            <p:cNvSpPr/>
            <p:nvPr/>
          </p:nvSpPr>
          <p:spPr>
            <a:xfrm>
              <a:off x="6948360" y="378936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D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、太阳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17"/>
          <p:cNvSpPr/>
          <p:nvPr/>
        </p:nvSpPr>
        <p:spPr>
          <a:xfrm>
            <a:off x="378000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华文行楷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395280" y="4221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行楷"/>
              </a:rPr>
              <a:t>6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行楷"/>
              </a:rPr>
              <a:t>、物质是由分子和原子构成的，而原子由带正电的原子核和带负电的核外电子组成，请你试着回答：为什么物体对外不显电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395280" y="5661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答：因为物体内原子核所带的正电荷总数与电子所带的负电荷总数相等，所以，一般情况下物体对外不显电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8748720" y="6597720"/>
            <a:ext cx="216000" cy="216000"/>
          </a:xfrm>
          <a:custGeom>
            <a:avLst/>
            <a:gdLst>
              <a:gd name="textAreaLeft" fmla="*/ 13320 w 216000"/>
              <a:gd name="textAreaRight" fmla="*/ 202680 w 21600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395280" y="328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课堂小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2771640" y="1700280"/>
            <a:ext cx="289080" cy="3889440"/>
          </a:xfrm>
          <a:custGeom>
            <a:avLst/>
            <a:gdLst>
              <a:gd name="textAreaLeft" fmla="*/ 184680 w 289080"/>
              <a:gd name="textAreaRight" fmla="*/ 289080 w 28908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987640" y="1557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物质的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4788000" y="5084640"/>
            <a:ext cx="144360" cy="122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2987640" y="5084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原子的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式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5508720" y="1052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分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5508720" y="2205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原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4861080" y="4797360"/>
            <a:ext cx="31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原子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4789440" y="580536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核外电子（带负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5364000" y="1268280"/>
            <a:ext cx="144720" cy="1224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6443640" y="4508640"/>
            <a:ext cx="144360" cy="12254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6445080" y="4221000"/>
            <a:ext cx="34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质子（带正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6516720" y="544500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中子（不带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012040" y="1341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宇宙是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物质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组成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187280" y="2637000"/>
            <a:ext cx="43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物质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是由分子组成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187280" y="393372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分子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华文行楷"/>
              </a:rPr>
              <a:t>又是由什么组成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6560" y="1054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华文行楷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华文行楷"/>
              </a:rPr>
              <a:t>分子很小，用肉眼都不能见到，只能借助电子显微镜才能看到，那么分子是不是最小的微粒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华文行楷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华文行楷"/>
              </a:rPr>
              <a:t>我们还以分割糖粒为例，倘若分割到分子尺度时，它还保持着糖的性质，也就是说它还甜。如果再分下去，不再有甜味的小微粒就不再是糖了，得到的不再有甜味的小微粒就是原子，说明物质是由分子组成，分子又是由原子组成的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xx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1280" y="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一、原子及其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9"/>
          <p:cNvSpPr/>
          <p:nvPr/>
        </p:nvSpPr>
        <p:spPr>
          <a:xfrm>
            <a:off x="4789440" y="1844640"/>
            <a:ext cx="3311640" cy="331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1"/>
          <p:cNvSpPr/>
          <p:nvPr/>
        </p:nvSpPr>
        <p:spPr>
          <a:xfrm>
            <a:off x="6157800" y="3213000"/>
            <a:ext cx="505080" cy="505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2"/>
          <p:cNvSpPr/>
          <p:nvPr/>
        </p:nvSpPr>
        <p:spPr>
          <a:xfrm rot="19079400">
            <a:off x="5582880" y="1829880"/>
            <a:ext cx="1716120" cy="331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3"/>
          <p:cNvSpPr/>
          <p:nvPr/>
        </p:nvSpPr>
        <p:spPr>
          <a:xfrm rot="2343000">
            <a:off x="5506920" y="1776240"/>
            <a:ext cx="1729080" cy="331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4"/>
          <p:cNvSpPr/>
          <p:nvPr/>
        </p:nvSpPr>
        <p:spPr>
          <a:xfrm>
            <a:off x="5005440" y="2781360"/>
            <a:ext cx="358560" cy="35856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5"/>
          <p:cNvSpPr/>
          <p:nvPr/>
        </p:nvSpPr>
        <p:spPr>
          <a:xfrm>
            <a:off x="6877080" y="3789360"/>
            <a:ext cx="358920" cy="3589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6"/>
          <p:cNvSpPr/>
          <p:nvPr/>
        </p:nvSpPr>
        <p:spPr>
          <a:xfrm>
            <a:off x="6157800" y="4941720"/>
            <a:ext cx="358920" cy="3589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55640" y="1916280"/>
            <a:ext cx="3311640" cy="3311280"/>
            <a:chOff x="755640" y="1916280"/>
            <a:chExt cx="3311640" cy="3311280"/>
          </a:xfrm>
        </p:grpSpPr>
        <p:sp>
          <p:nvSpPr>
            <p:cNvPr id="99" name="Oval 4"/>
            <p:cNvSpPr/>
            <p:nvPr/>
          </p:nvSpPr>
          <p:spPr>
            <a:xfrm>
              <a:off x="755640" y="1916280"/>
              <a:ext cx="3311640" cy="331128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5e767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5"/>
            <p:cNvSpPr/>
            <p:nvPr/>
          </p:nvSpPr>
          <p:spPr>
            <a:xfrm>
              <a:off x="971640" y="3284280"/>
              <a:ext cx="504720" cy="504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"/>
            <p:cNvSpPr/>
            <p:nvPr/>
          </p:nvSpPr>
          <p:spPr>
            <a:xfrm>
              <a:off x="2843280" y="2997000"/>
              <a:ext cx="504720" cy="504360"/>
            </a:xfrm>
            <a:prstGeom prst="ellipse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7"/>
            <p:cNvSpPr/>
            <p:nvPr/>
          </p:nvSpPr>
          <p:spPr>
            <a:xfrm>
              <a:off x="2124000" y="2420640"/>
              <a:ext cx="504720" cy="504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5e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8"/>
            <p:cNvSpPr/>
            <p:nvPr/>
          </p:nvSpPr>
          <p:spPr>
            <a:xfrm>
              <a:off x="2266920" y="4147920"/>
              <a:ext cx="504720" cy="50436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2f76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8"/>
          <p:cNvSpPr/>
          <p:nvPr/>
        </p:nvSpPr>
        <p:spPr>
          <a:xfrm>
            <a:off x="539640" y="76500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汤姆生枣糕式原子结构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5003640" y="836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卢瑟福原子结构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38 0.0044 C -0.10104 -0.00532 -0.17638 -0.12118 -0.16892 -0.2537 C -0.16163 -0.38645 -0.07413 -0.48682 0.02535 -0.47687 C 0.125 -0.46693 0.19983 -0.3506 0.19237 -0.21808 C 0.1849 -0.08534 0.09809 0.01434 -0.00138 0.0044 Z">
                                      <p:cBhvr>
                                        <p:cTn id="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77778E-007 -0.00347 C -0.0599 0.10176 -0.1434 0.15379 -0.1842 0.11101 C -0.22587 0.06869 -0.20972 -0.05111 -0.14896 -0.15657 C -0.08854 -0.26202 -0.0066 -0.31267 0.03472 -0.27104 C 0.07656 -0.22826 0.06094 -0.10962 -2.77778E-007 -0.00347 Z">
                                      <p:cBhvr>
                                        <p:cTn id="7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1736 -0.10476 C 0.0566 -0.14986 0.14167 -0.1043 0.20746 -0.00439 C 0.27309 0.09621 0.29462 0.21554 0.25573 0.26134 C 0.21649 0.30505 0.13177 0.26064 0.0658 0.15958 C 0.000170000000000003 0.05875 -0.02153 -0.05966 0.01736 -0.10476 Z">
                                      <p:cBhvr>
                                        <p:cTn id="7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W00k"/>
          <p:cNvPicPr/>
          <p:nvPr/>
        </p:nvPicPr>
        <p:blipFill>
          <a:blip r:embed="rId1"/>
          <a:stretch/>
        </p:blipFill>
        <p:spPr>
          <a:xfrm>
            <a:off x="611280" y="747720"/>
            <a:ext cx="8064360" cy="6110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684360" y="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原子结构示意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54000" y="1054080"/>
            <a:ext cx="35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不同物质的原子核束缚电子的本领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84520" y="2997360"/>
            <a:ext cx="456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得电子带负电，失电子带正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x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38080" y="22860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二、探索物质微粒的进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4032360" cy="3942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542880" y="914400"/>
            <a:ext cx="23749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91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卢瑟福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粒子从氮原子核中打出了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质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质子是带正电的粒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51055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1932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年，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查德威克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发现了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中子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中子不带电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，和质子一样大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37200" y="152280"/>
            <a:ext cx="3070440" cy="4724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8534520" y="6553080"/>
            <a:ext cx="457200" cy="304920"/>
            <a:chOff x="8534520" y="6553080"/>
            <a:chExt cx="457200" cy="304920"/>
          </a:xfrm>
        </p:grpSpPr>
        <p:sp>
          <p:nvSpPr>
            <p:cNvPr id="116" name="">
              <a:hlinkClick r:id="" action="ppaction://hlinkshowjump?jump=previousslide"/>
            </p:cNvPr>
            <p:cNvSpPr/>
            <p:nvPr/>
          </p:nvSpPr>
          <p:spPr>
            <a:xfrm>
              <a:off x="8534520" y="6553080"/>
              <a:ext cx="228600" cy="304920"/>
            </a:xfrm>
            <a:custGeom>
              <a:avLst/>
              <a:gdLst>
                <a:gd name="textAreaLeft" fmla="*/ 14040 w 228600"/>
                <a:gd name="textAreaRight" fmla="*/ 214560 w 228600"/>
                <a:gd name="textAreaTop" fmla="*/ 14040 h 304920"/>
                <a:gd name="textAreaBottom" fmla="*/ 290880 h 304920"/>
              </a:gdLst>
              <a:ahLst/>
              <a:rect l="textAreaLeft" t="textAreaTop" r="textAreaRight" b="textAreaBottom"/>
              <a:pathLst>
                <a:path w="21600" h="28800">
                  <a:moveTo>
                    <a:pt x="0" y="0"/>
                  </a:moveTo>
                  <a:lnTo>
                    <a:pt x="21600" y="0"/>
                  </a:lnTo>
                  <a:lnTo>
                    <a:pt x="21600" y="28800"/>
                  </a:lnTo>
                  <a:lnTo>
                    <a:pt x="0" y="28800"/>
                  </a:lnTo>
                  <a:close/>
                </a:path>
                <a:path fill="lightenLess" w="21600" h="28800">
                  <a:moveTo>
                    <a:pt x="0" y="0"/>
                  </a:moveTo>
                  <a:lnTo>
                    <a:pt x="21600" y="0"/>
                  </a:lnTo>
                  <a:lnTo>
                    <a:pt x="20250" y="1350"/>
                  </a:lnTo>
                  <a:lnTo>
                    <a:pt x="1350" y="1350"/>
                  </a:lnTo>
                  <a:close/>
                </a:path>
                <a:path fill="darken" w="21600" h="28800">
                  <a:moveTo>
                    <a:pt x="21600" y="0"/>
                  </a:moveTo>
                  <a:lnTo>
                    <a:pt x="21600" y="28800"/>
                  </a:lnTo>
                  <a:lnTo>
                    <a:pt x="20250" y="27450"/>
                  </a:lnTo>
                  <a:lnTo>
                    <a:pt x="20250" y="1350"/>
                  </a:lnTo>
                  <a:close/>
                </a:path>
                <a:path fill="darkenLess" w="21600" h="28800">
                  <a:moveTo>
                    <a:pt x="21600" y="28800"/>
                  </a:moveTo>
                  <a:lnTo>
                    <a:pt x="0" y="28800"/>
                  </a:lnTo>
                  <a:lnTo>
                    <a:pt x="1350" y="27450"/>
                  </a:lnTo>
                  <a:lnTo>
                    <a:pt x="20250" y="27450"/>
                  </a:lnTo>
                  <a:close/>
                </a:path>
                <a:path fill="lighten" w="21600" h="28800">
                  <a:moveTo>
                    <a:pt x="0" y="28800"/>
                  </a:moveTo>
                  <a:lnTo>
                    <a:pt x="0" y="0"/>
                  </a:lnTo>
                  <a:lnTo>
                    <a:pt x="1350" y="1350"/>
                  </a:lnTo>
                  <a:lnTo>
                    <a:pt x="1350" y="27450"/>
                  </a:lnTo>
                  <a:close/>
                </a:path>
                <a:path fill="darken" w="21600" h="28800">
                  <a:moveTo>
                    <a:pt x="3756" y="14400"/>
                  </a:moveTo>
                  <a:lnTo>
                    <a:pt x="17844" y="7356"/>
                  </a:lnTo>
                  <a:lnTo>
                    <a:pt x="17844" y="2144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>
              <a:hlinkClick r:id="" action="ppaction://hlinkshowjump?jump=nextslide"/>
            </p:cNvPr>
            <p:cNvSpPr/>
            <p:nvPr/>
          </p:nvSpPr>
          <p:spPr>
            <a:xfrm>
              <a:off x="8763120" y="6553080"/>
              <a:ext cx="228600" cy="304920"/>
            </a:xfrm>
            <a:custGeom>
              <a:avLst/>
              <a:gdLst>
                <a:gd name="textAreaLeft" fmla="*/ 14040 w 228600"/>
                <a:gd name="textAreaRight" fmla="*/ 214560 w 228600"/>
                <a:gd name="textAreaTop" fmla="*/ 14040 h 304920"/>
                <a:gd name="textAreaBottom" fmla="*/ 290880 h 304920"/>
              </a:gdLst>
              <a:ahLst/>
              <a:rect l="textAreaLeft" t="textAreaTop" r="textAreaRight" b="textAreaBottom"/>
              <a:pathLst>
                <a:path w="21600" h="28800">
                  <a:moveTo>
                    <a:pt x="0" y="0"/>
                  </a:moveTo>
                  <a:lnTo>
                    <a:pt x="21600" y="0"/>
                  </a:lnTo>
                  <a:lnTo>
                    <a:pt x="21600" y="28800"/>
                  </a:lnTo>
                  <a:lnTo>
                    <a:pt x="0" y="28800"/>
                  </a:lnTo>
                  <a:close/>
                </a:path>
                <a:path fill="lightenLess" w="21600" h="28800">
                  <a:moveTo>
                    <a:pt x="0" y="0"/>
                  </a:moveTo>
                  <a:lnTo>
                    <a:pt x="21600" y="0"/>
                  </a:lnTo>
                  <a:lnTo>
                    <a:pt x="20250" y="1350"/>
                  </a:lnTo>
                  <a:lnTo>
                    <a:pt x="1350" y="1350"/>
                  </a:lnTo>
                  <a:close/>
                </a:path>
                <a:path fill="darken" w="21600" h="28800">
                  <a:moveTo>
                    <a:pt x="21600" y="0"/>
                  </a:moveTo>
                  <a:lnTo>
                    <a:pt x="21600" y="28800"/>
                  </a:lnTo>
                  <a:lnTo>
                    <a:pt x="20250" y="27450"/>
                  </a:lnTo>
                  <a:lnTo>
                    <a:pt x="20250" y="1350"/>
                  </a:lnTo>
                  <a:close/>
                </a:path>
                <a:path fill="darkenLess" w="21600" h="28800">
                  <a:moveTo>
                    <a:pt x="21600" y="28800"/>
                  </a:moveTo>
                  <a:lnTo>
                    <a:pt x="0" y="28800"/>
                  </a:lnTo>
                  <a:lnTo>
                    <a:pt x="1350" y="27450"/>
                  </a:lnTo>
                  <a:lnTo>
                    <a:pt x="20250" y="27450"/>
                  </a:lnTo>
                  <a:close/>
                </a:path>
                <a:path fill="lighten" w="21600" h="28800">
                  <a:moveTo>
                    <a:pt x="0" y="28800"/>
                  </a:moveTo>
                  <a:lnTo>
                    <a:pt x="0" y="0"/>
                  </a:lnTo>
                  <a:lnTo>
                    <a:pt x="1350" y="1350"/>
                  </a:lnTo>
                  <a:lnTo>
                    <a:pt x="1350" y="27450"/>
                  </a:lnTo>
                  <a:close/>
                </a:path>
                <a:path fill="darken" w="21600" h="28800">
                  <a:moveTo>
                    <a:pt x="3756" y="7356"/>
                  </a:moveTo>
                  <a:lnTo>
                    <a:pt x="17844" y="14400"/>
                  </a:lnTo>
                  <a:lnTo>
                    <a:pt x="3756" y="2144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75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91320" y="0"/>
            <a:ext cx="3321000" cy="4952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52578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6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盖尔曼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提出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夸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猜想，认为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质子和中子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由更小的粒子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夸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组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534520" y="6553080"/>
            <a:ext cx="457200" cy="304920"/>
            <a:chOff x="8534520" y="6553080"/>
            <a:chExt cx="457200" cy="304920"/>
          </a:xfrm>
        </p:grpSpPr>
        <p:sp>
          <p:nvSpPr>
            <p:cNvPr id="121" name="">
              <a:hlinkClick r:id="" action="ppaction://hlinkshowjump?jump=previousslide"/>
            </p:cNvPr>
            <p:cNvSpPr/>
            <p:nvPr/>
          </p:nvSpPr>
          <p:spPr>
            <a:xfrm>
              <a:off x="8534520" y="6553080"/>
              <a:ext cx="228600" cy="304920"/>
            </a:xfrm>
            <a:custGeom>
              <a:avLst/>
              <a:gdLst>
                <a:gd name="textAreaLeft" fmla="*/ 14040 w 228600"/>
                <a:gd name="textAreaRight" fmla="*/ 214560 w 228600"/>
                <a:gd name="textAreaTop" fmla="*/ 14040 h 304920"/>
                <a:gd name="textAreaBottom" fmla="*/ 290880 h 304920"/>
              </a:gdLst>
              <a:ahLst/>
              <a:rect l="textAreaLeft" t="textAreaTop" r="textAreaRight" b="textAreaBottom"/>
              <a:pathLst>
                <a:path w="21600" h="28800">
                  <a:moveTo>
                    <a:pt x="0" y="0"/>
                  </a:moveTo>
                  <a:lnTo>
                    <a:pt x="21600" y="0"/>
                  </a:lnTo>
                  <a:lnTo>
                    <a:pt x="21600" y="28800"/>
                  </a:lnTo>
                  <a:lnTo>
                    <a:pt x="0" y="28800"/>
                  </a:lnTo>
                  <a:close/>
                </a:path>
                <a:path fill="lightenLess" w="21600" h="28800">
                  <a:moveTo>
                    <a:pt x="0" y="0"/>
                  </a:moveTo>
                  <a:lnTo>
                    <a:pt x="21600" y="0"/>
                  </a:lnTo>
                  <a:lnTo>
                    <a:pt x="20250" y="1350"/>
                  </a:lnTo>
                  <a:lnTo>
                    <a:pt x="1350" y="1350"/>
                  </a:lnTo>
                  <a:close/>
                </a:path>
                <a:path fill="darken" w="21600" h="28800">
                  <a:moveTo>
                    <a:pt x="21600" y="0"/>
                  </a:moveTo>
                  <a:lnTo>
                    <a:pt x="21600" y="28800"/>
                  </a:lnTo>
                  <a:lnTo>
                    <a:pt x="20250" y="27450"/>
                  </a:lnTo>
                  <a:lnTo>
                    <a:pt x="20250" y="1350"/>
                  </a:lnTo>
                  <a:close/>
                </a:path>
                <a:path fill="darkenLess" w="21600" h="28800">
                  <a:moveTo>
                    <a:pt x="21600" y="28800"/>
                  </a:moveTo>
                  <a:lnTo>
                    <a:pt x="0" y="28800"/>
                  </a:lnTo>
                  <a:lnTo>
                    <a:pt x="1350" y="27450"/>
                  </a:lnTo>
                  <a:lnTo>
                    <a:pt x="20250" y="27450"/>
                  </a:lnTo>
                  <a:close/>
                </a:path>
                <a:path fill="lighten" w="21600" h="28800">
                  <a:moveTo>
                    <a:pt x="0" y="28800"/>
                  </a:moveTo>
                  <a:lnTo>
                    <a:pt x="0" y="0"/>
                  </a:lnTo>
                  <a:lnTo>
                    <a:pt x="1350" y="1350"/>
                  </a:lnTo>
                  <a:lnTo>
                    <a:pt x="1350" y="27450"/>
                  </a:lnTo>
                  <a:close/>
                </a:path>
                <a:path fill="darken" w="21600" h="28800">
                  <a:moveTo>
                    <a:pt x="3756" y="14400"/>
                  </a:moveTo>
                  <a:lnTo>
                    <a:pt x="17844" y="7356"/>
                  </a:lnTo>
                  <a:lnTo>
                    <a:pt x="17844" y="2144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>
              <a:hlinkClick r:id="" action="ppaction://hlinkshowjump?jump=nextslide"/>
            </p:cNvPr>
            <p:cNvSpPr/>
            <p:nvPr/>
          </p:nvSpPr>
          <p:spPr>
            <a:xfrm>
              <a:off x="8763120" y="6553080"/>
              <a:ext cx="228600" cy="304920"/>
            </a:xfrm>
            <a:custGeom>
              <a:avLst/>
              <a:gdLst>
                <a:gd name="textAreaLeft" fmla="*/ 14040 w 228600"/>
                <a:gd name="textAreaRight" fmla="*/ 214560 w 228600"/>
                <a:gd name="textAreaTop" fmla="*/ 14040 h 304920"/>
                <a:gd name="textAreaBottom" fmla="*/ 290880 h 304920"/>
              </a:gdLst>
              <a:ahLst/>
              <a:rect l="textAreaLeft" t="textAreaTop" r="textAreaRight" b="textAreaBottom"/>
              <a:pathLst>
                <a:path w="21600" h="28800">
                  <a:moveTo>
                    <a:pt x="0" y="0"/>
                  </a:moveTo>
                  <a:lnTo>
                    <a:pt x="21600" y="0"/>
                  </a:lnTo>
                  <a:lnTo>
                    <a:pt x="21600" y="28800"/>
                  </a:lnTo>
                  <a:lnTo>
                    <a:pt x="0" y="28800"/>
                  </a:lnTo>
                  <a:close/>
                </a:path>
                <a:path fill="lightenLess" w="21600" h="28800">
                  <a:moveTo>
                    <a:pt x="0" y="0"/>
                  </a:moveTo>
                  <a:lnTo>
                    <a:pt x="21600" y="0"/>
                  </a:lnTo>
                  <a:lnTo>
                    <a:pt x="20250" y="1350"/>
                  </a:lnTo>
                  <a:lnTo>
                    <a:pt x="1350" y="1350"/>
                  </a:lnTo>
                  <a:close/>
                </a:path>
                <a:path fill="darken" w="21600" h="28800">
                  <a:moveTo>
                    <a:pt x="21600" y="0"/>
                  </a:moveTo>
                  <a:lnTo>
                    <a:pt x="21600" y="28800"/>
                  </a:lnTo>
                  <a:lnTo>
                    <a:pt x="20250" y="27450"/>
                  </a:lnTo>
                  <a:lnTo>
                    <a:pt x="20250" y="1350"/>
                  </a:lnTo>
                  <a:close/>
                </a:path>
                <a:path fill="darkenLess" w="21600" h="28800">
                  <a:moveTo>
                    <a:pt x="21600" y="28800"/>
                  </a:moveTo>
                  <a:lnTo>
                    <a:pt x="0" y="28800"/>
                  </a:lnTo>
                  <a:lnTo>
                    <a:pt x="1350" y="27450"/>
                  </a:lnTo>
                  <a:lnTo>
                    <a:pt x="20250" y="27450"/>
                  </a:lnTo>
                  <a:close/>
                </a:path>
                <a:path fill="lighten" w="21600" h="28800">
                  <a:moveTo>
                    <a:pt x="0" y="28800"/>
                  </a:moveTo>
                  <a:lnTo>
                    <a:pt x="0" y="0"/>
                  </a:lnTo>
                  <a:lnTo>
                    <a:pt x="1350" y="1350"/>
                  </a:lnTo>
                  <a:lnTo>
                    <a:pt x="1350" y="27450"/>
                  </a:lnTo>
                  <a:close/>
                </a:path>
                <a:path fill="darken" w="21600" h="28800">
                  <a:moveTo>
                    <a:pt x="3756" y="7356"/>
                  </a:moveTo>
                  <a:lnTo>
                    <a:pt x="17844" y="14400"/>
                  </a:lnTo>
                  <a:lnTo>
                    <a:pt x="3756" y="2144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-1091520" y="914400"/>
            <a:ext cx="2923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原子核由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质子和中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构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质子带正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子不带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37322" t="50541" r="45372" b="17202"/>
          <a:stretch/>
        </p:blipFill>
        <p:spPr>
          <a:xfrm>
            <a:off x="1800360" y="1523880"/>
            <a:ext cx="1552320" cy="3581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124080" y="1600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质子和中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335268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每个质子由三个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夸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2860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二、探索物质微粒的进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75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684360" y="190440"/>
            <a:ext cx="55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原子的核式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66560" y="465444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  <a:ea typeface="华文行楷"/>
              </a:rPr>
              <a:t>原子核和电子也不是构成物质的最小微粒，其中原子核是由质子和中子组成的，而质子和中子则是由夸克组成的，它们还能否再分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  <a:ea typeface="华文行楷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11280" y="3357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原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637080" y="2781360"/>
            <a:ext cx="31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宋体"/>
              </a:rPr>
              <a:t>原子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635280" y="371628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核外电子（带负电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1835280" y="3789360"/>
            <a:ext cx="15112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3492360" y="3068640"/>
            <a:ext cx="144720" cy="136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5365800" y="249228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365800" y="242100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质子（带正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5365800" y="328464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中子（不带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8317080" y="4076640"/>
            <a:ext cx="287280" cy="36036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360360"/>
              <a:gd name="textAreaBottom" fmla="*/ 34272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50" y="25738"/>
                </a:lnTo>
                <a:lnTo>
                  <a:pt x="20250" y="135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350" y="25738"/>
                </a:lnTo>
                <a:lnTo>
                  <a:pt x="20250" y="2573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350" y="1350"/>
                </a:lnTo>
                <a:lnTo>
                  <a:pt x="1350" y="25738"/>
                </a:lnTo>
                <a:close/>
              </a:path>
              <a:path fill="darken" w="21600" h="27088">
                <a:moveTo>
                  <a:pt x="3756" y="6500"/>
                </a:moveTo>
                <a:lnTo>
                  <a:pt x="17844" y="13544"/>
                </a:lnTo>
                <a:lnTo>
                  <a:pt x="3756" y="20588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3:40:23Z</dcterms:created>
  <dc:creator/>
  <dc:description/>
  <cp:keywords/>
  <dc:language>en-US</dc:language>
  <cp:lastModifiedBy>lenovo</cp:lastModifiedBy>
  <cp:lastPrinted>1899-12-30T00:00:00Z</cp:lastPrinted>
  <dcterms:modified xsi:type="dcterms:W3CDTF">2014-10-11T03:56:3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