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7BBA-24A4-44F3-9EBB-B1159F1B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FFB1-7A08-4AD0-855D-EC009BEF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B1A5-3E56-4A8E-A1CA-FAAA54BC5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5E2E-30C8-40ED-BF44-FBF830C1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20D7-F38C-4B8B-B167-E51830D68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D0C1-BDC0-4B59-8146-57849DCF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1FC0-7DF3-4887-B346-7024A810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892C-717E-46EA-9A59-4E61E411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FA9D-F31B-4BFD-B33B-1A485686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2EFD-140F-4111-87E7-068CE0CB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E55C-0295-4B50-80C0-9ED3680C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7ABB-45E3-4707-8818-F9438169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6A7A-EF89-4530-BD33-6193CF78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DF4C-AFDB-4E36-BE91-6F592ADC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C466-4C55-4A1F-A354-E5D00A75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86B4-D9A8-4D12-8052-75336032A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4231-E6CC-4BE8-9D93-D165D7355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5920E-317F-4336-9F8D-31464EE0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7EDAA-610B-4ABC-9F0B-B91339AA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4ACAC-AB5A-4F24-ACD5-E1366415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E6230-932B-4858-B28C-7AEBA231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EB5B7-41F9-4D33-9AE2-95B3329B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DD7E-AE0D-4316-BF0F-32B33D4A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34010-94BA-4C9E-AB53-CB7F3A4C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5543A-8366-40A2-9591-FF7A3599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BBE8D-81F5-476A-A0F4-E13FFC8F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49E0C-266C-4266-A723-EC6BD3EC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D86C4-1681-4D8E-90C0-95C1F34E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815E3-C48E-4A96-80D8-6C5A1DAF8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8A21B-7EB2-4966-A35F-1F962F87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5F88D4-9FC6-414E-9FE7-613D4F60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52A488-9787-4BE7-B733-15B41476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432D56-3CF0-4C09-8E41-607C5927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927F-29FC-4C1C-8CD8-BCD9F3FA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00B293-2517-4400-97BC-2F22F0E3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B9A31B-9AB6-4BB8-A6DA-55895663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5FE9F6-8742-4047-AA68-41D2833F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64253A-3C7F-4404-83F4-56A0186F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BA18AF-CA8E-4C77-B37D-624D208B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6D3D16-347E-4F6E-8494-AA8B40A3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F6C439-AFBE-4E2E-8E05-73F97EB6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DD6281-72AC-4229-ACA1-72EC04269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DF41AF-5AEF-4275-A0B5-9352EB246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BE7C-83B0-4030-B3FE-FA3EC5DA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D8DE-7265-4B35-A22B-E0DC391C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CF54-2E97-4ABD-82B8-C20C0862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1DE2-119C-41FC-B0B4-FDB84B10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6FF9-E95A-4CFC-84F8-08BB550F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5120" cy="753840"/>
              <a:chOff x="7566840" y="2500200"/>
              <a:chExt cx="100512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4760" cy="753840"/>
              <a:chOff x="6328800" y="0"/>
              <a:chExt cx="100476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52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320" cy="1104480"/>
                <a:chOff x="6990840" y="402840"/>
                <a:chExt cx="149832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32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720"/>
                <a:chOff x="6273360" y="-21240"/>
                <a:chExt cx="2867400" cy="226872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3960" y="843120"/>
                  <a:ext cx="1064520" cy="1140840"/>
                  <a:chOff x="7833960" y="843120"/>
                  <a:chExt cx="1064520" cy="1140840"/>
                </a:xfrm>
              </p:grpSpPr>
              <p:sp>
                <p:nvSpPr>
                  <p:cNvPr id="16" name="未知"/>
                  <p:cNvSpPr/>
                  <p:nvPr/>
                </p:nvSpPr>
                <p:spPr>
                  <a:xfrm rot="2711400">
                    <a:off x="7760160" y="113328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未知"/>
                  <p:cNvSpPr/>
                  <p:nvPr/>
                </p:nvSpPr>
                <p:spPr>
                  <a:xfrm rot="2711400">
                    <a:off x="8404560" y="1601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6120" cy="1053000"/>
                  <a:chOff x="7844760" y="770760"/>
                  <a:chExt cx="1266120" cy="1053000"/>
                </a:xfrm>
              </p:grpSpPr>
              <p:sp>
                <p:nvSpPr>
                  <p:cNvPr id="19" name="未知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未知"/>
                  <p:cNvSpPr/>
                  <p:nvPr/>
                </p:nvSpPr>
                <p:spPr>
                  <a:xfrm rot="2103600">
                    <a:off x="8575560" y="142560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440" cy="828720"/>
                  <a:chOff x="7840440" y="735480"/>
                  <a:chExt cx="1288440" cy="828720"/>
                </a:xfrm>
              </p:grpSpPr>
              <p:sp>
                <p:nvSpPr>
                  <p:cNvPr id="22" name="未知"/>
                  <p:cNvSpPr/>
                  <p:nvPr/>
                </p:nvSpPr>
                <p:spPr>
                  <a:xfrm rot="1582800">
                    <a:off x="7828200" y="92520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未知"/>
                  <p:cNvSpPr/>
                  <p:nvPr/>
                </p:nvSpPr>
                <p:spPr>
                  <a:xfrm rot="1582800">
                    <a:off x="862128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600"/>
                  <a:chOff x="7837200" y="695880"/>
                  <a:chExt cx="1303560" cy="669600"/>
                </a:xfrm>
              </p:grpSpPr>
              <p:sp>
                <p:nvSpPr>
                  <p:cNvPr id="25" name="未知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未知"/>
                  <p:cNvSpPr/>
                  <p:nvPr/>
                </p:nvSpPr>
                <p:spPr>
                  <a:xfrm rot="1080000">
                    <a:off x="8648280" y="102996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2920" cy="417600"/>
                  <a:chOff x="7852680" y="657720"/>
                  <a:chExt cx="1222920" cy="417600"/>
                </a:xfrm>
              </p:grpSpPr>
              <p:sp>
                <p:nvSpPr>
                  <p:cNvPr id="28" name="未知"/>
                  <p:cNvSpPr/>
                  <p:nvPr/>
                </p:nvSpPr>
                <p:spPr>
                  <a:xfrm rot="463200">
                    <a:off x="7859880" y="70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未知"/>
                  <p:cNvSpPr/>
                  <p:nvPr/>
                </p:nvSpPr>
                <p:spPr>
                  <a:xfrm rot="463200">
                    <a:off x="8634960" y="796680"/>
                    <a:ext cx="42552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400" y="632880"/>
                  <a:ext cx="1107000" cy="184320"/>
                  <a:chOff x="7871400" y="632880"/>
                  <a:chExt cx="1107000" cy="184320"/>
                </a:xfrm>
              </p:grpSpPr>
              <p:sp>
                <p:nvSpPr>
                  <p:cNvPr id="31" name="未知"/>
                  <p:cNvSpPr/>
                  <p:nvPr/>
                </p:nvSpPr>
                <p:spPr>
                  <a:xfrm rot="21515400">
                    <a:off x="787248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未知"/>
                  <p:cNvSpPr/>
                  <p:nvPr/>
                </p:nvSpPr>
                <p:spPr>
                  <a:xfrm rot="21515400">
                    <a:off x="8588880" y="63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160" cy="326880"/>
                  <a:chOff x="7845480" y="419760"/>
                  <a:chExt cx="983160" cy="326880"/>
                </a:xfrm>
              </p:grpSpPr>
              <p:sp>
                <p:nvSpPr>
                  <p:cNvPr id="34" name="未知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未知"/>
                  <p:cNvSpPr/>
                  <p:nvPr/>
                </p:nvSpPr>
                <p:spPr>
                  <a:xfrm rot="20797200">
                    <a:off x="8473680" y="45648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120"/>
                  <a:ext cx="1063800" cy="1141560"/>
                  <a:chOff x="6537960" y="906120"/>
                  <a:chExt cx="1063800" cy="1141560"/>
                </a:xfrm>
              </p:grpSpPr>
              <p:sp>
                <p:nvSpPr>
                  <p:cNvPr id="37" name="未知"/>
                  <p:cNvSpPr/>
                  <p:nvPr/>
                </p:nvSpPr>
                <p:spPr>
                  <a:xfrm flipH="1" rot="18888600">
                    <a:off x="6789960" y="1196280"/>
                    <a:ext cx="8852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未知"/>
                  <p:cNvSpPr/>
                  <p:nvPr/>
                </p:nvSpPr>
                <p:spPr>
                  <a:xfrm flipH="1" rot="18888600">
                    <a:off x="6557040" y="1664280"/>
                    <a:ext cx="47484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未知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未知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未知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未知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680"/>
                  <a:ext cx="1303200" cy="668160"/>
                  <a:chOff x="6273360" y="787680"/>
                  <a:chExt cx="1303200" cy="668160"/>
                </a:xfrm>
              </p:grpSpPr>
              <p:sp>
                <p:nvSpPr>
                  <p:cNvPr id="46" name="未知"/>
                  <p:cNvSpPr/>
                  <p:nvPr/>
                </p:nvSpPr>
                <p:spPr>
                  <a:xfrm flipH="1" rot="20520000">
                    <a:off x="6710400" y="916200"/>
                    <a:ext cx="86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未知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未知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未知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未知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未知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未知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未知"/>
                  <p:cNvSpPr/>
                  <p:nvPr/>
                </p:nvSpPr>
                <p:spPr>
                  <a:xfrm flipH="1" rot="802800">
                    <a:off x="6600600" y="54684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未知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未知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120"/>
                  <a:ext cx="902520" cy="627480"/>
                  <a:chOff x="6751800" y="222120"/>
                  <a:chExt cx="902520" cy="627480"/>
                </a:xfrm>
              </p:grpSpPr>
              <p:sp>
                <p:nvSpPr>
                  <p:cNvPr id="61" name="未知"/>
                  <p:cNvSpPr/>
                  <p:nvPr/>
                </p:nvSpPr>
                <p:spPr>
                  <a:xfrm flipH="1" rot="2028600">
                    <a:off x="7043400" y="572760"/>
                    <a:ext cx="6336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未知"/>
                  <p:cNvSpPr/>
                  <p:nvPr/>
                </p:nvSpPr>
                <p:spPr>
                  <a:xfrm flipH="1" rot="2028600">
                    <a:off x="6770880" y="302040"/>
                    <a:ext cx="34020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未知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未知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2160" y="15840"/>
                  <a:ext cx="607680" cy="785520"/>
                  <a:chOff x="7112160" y="15840"/>
                  <a:chExt cx="607680" cy="785520"/>
                </a:xfrm>
              </p:grpSpPr>
              <p:sp>
                <p:nvSpPr>
                  <p:cNvPr id="67" name="未知"/>
                  <p:cNvSpPr/>
                  <p:nvPr/>
                </p:nvSpPr>
                <p:spPr>
                  <a:xfrm flipH="1" rot="3474000">
                    <a:off x="7240320" y="477000"/>
                    <a:ext cx="56520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未知"/>
                  <p:cNvSpPr/>
                  <p:nvPr/>
                </p:nvSpPr>
                <p:spPr>
                  <a:xfrm flipH="1" rot="3474000">
                    <a:off x="7114320" y="103680"/>
                    <a:ext cx="303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240"/>
                  <a:ext cx="466200" cy="808560"/>
                  <a:chOff x="7287840" y="-21240"/>
                  <a:chExt cx="466200" cy="808560"/>
                </a:xfrm>
              </p:grpSpPr>
              <p:sp>
                <p:nvSpPr>
                  <p:cNvPr id="70" name="未知"/>
                  <p:cNvSpPr/>
                  <p:nvPr/>
                </p:nvSpPr>
                <p:spPr>
                  <a:xfrm flipH="1" rot="4126800">
                    <a:off x="7332120" y="45900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未知"/>
                  <p:cNvSpPr/>
                  <p:nvPr/>
                </p:nvSpPr>
                <p:spPr>
                  <a:xfrm flipH="1" rot="4126800">
                    <a:off x="7275240" y="59760"/>
                    <a:ext cx="2923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2920" y="272160"/>
                  <a:ext cx="964080" cy="462960"/>
                  <a:chOff x="7792920" y="272160"/>
                  <a:chExt cx="964080" cy="462960"/>
                </a:xfrm>
              </p:grpSpPr>
              <p:sp>
                <p:nvSpPr>
                  <p:cNvPr id="73" name="未知"/>
                  <p:cNvSpPr/>
                  <p:nvPr/>
                </p:nvSpPr>
                <p:spPr>
                  <a:xfrm rot="20274000">
                    <a:off x="7790400" y="509760"/>
                    <a:ext cx="63252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未知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480" cy="604800"/>
                  <a:chOff x="7737840" y="136080"/>
                  <a:chExt cx="915480" cy="604800"/>
                </a:xfrm>
              </p:grpSpPr>
              <p:sp>
                <p:nvSpPr>
                  <p:cNvPr id="76" name="未知"/>
                  <p:cNvSpPr/>
                  <p:nvPr/>
                </p:nvSpPr>
                <p:spPr>
                  <a:xfrm rot="19678800">
                    <a:off x="7718760" y="470880"/>
                    <a:ext cx="63288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未知"/>
                  <p:cNvSpPr/>
                  <p:nvPr/>
                </p:nvSpPr>
                <p:spPr>
                  <a:xfrm rot="19678800">
                    <a:off x="8292960" y="213120"/>
                    <a:ext cx="339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未知"/>
                <p:cNvSpPr/>
                <p:nvPr/>
              </p:nvSpPr>
              <p:spPr>
                <a:xfrm flipH="1" rot="4578600">
                  <a:off x="7418160" y="48492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未知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520"/>
                  <a:ext cx="497520" cy="790920"/>
                  <a:chOff x="7665480" y="-11520"/>
                  <a:chExt cx="497520" cy="790920"/>
                </a:xfrm>
              </p:grpSpPr>
              <p:sp>
                <p:nvSpPr>
                  <p:cNvPr id="81" name="未知"/>
                  <p:cNvSpPr/>
                  <p:nvPr/>
                </p:nvSpPr>
                <p:spPr>
                  <a:xfrm rot="17742000">
                    <a:off x="7553520" y="466200"/>
                    <a:ext cx="5443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未知"/>
                  <p:cNvSpPr/>
                  <p:nvPr/>
                </p:nvSpPr>
                <p:spPr>
                  <a:xfrm rot="17742000">
                    <a:off x="7886520" y="77760"/>
                    <a:ext cx="29196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160"/>
                  <a:ext cx="786240" cy="747360"/>
                  <a:chOff x="7662600" y="38160"/>
                  <a:chExt cx="786240" cy="747360"/>
                </a:xfrm>
              </p:grpSpPr>
              <p:sp>
                <p:nvSpPr>
                  <p:cNvPr id="84" name="未知"/>
                  <p:cNvSpPr/>
                  <p:nvPr/>
                </p:nvSpPr>
                <p:spPr>
                  <a:xfrm rot="18822600">
                    <a:off x="762084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未知"/>
                  <p:cNvSpPr/>
                  <p:nvPr/>
                </p:nvSpPr>
                <p:spPr>
                  <a:xfrm rot="18822600">
                    <a:off x="8101800" y="119160"/>
                    <a:ext cx="317880" cy="21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080"/>
                  <a:ext cx="177840" cy="745920"/>
                  <a:chOff x="7708680" y="-1080"/>
                  <a:chExt cx="177840" cy="745920"/>
                </a:xfrm>
              </p:grpSpPr>
              <p:sp>
                <p:nvSpPr>
                  <p:cNvPr id="87" name="未知"/>
                  <p:cNvSpPr/>
                  <p:nvPr/>
                </p:nvSpPr>
                <p:spPr>
                  <a:xfrm rot="16696200">
                    <a:off x="7521120" y="477720"/>
                    <a:ext cx="48852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未知"/>
                  <p:cNvSpPr/>
                  <p:nvPr/>
                </p:nvSpPr>
                <p:spPr>
                  <a:xfrm rot="16696200">
                    <a:off x="7702200" y="98640"/>
                    <a:ext cx="26208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760" y="929880"/>
                  <a:ext cx="913680" cy="1249200"/>
                  <a:chOff x="6710760" y="929880"/>
                  <a:chExt cx="913680" cy="1249200"/>
                </a:xfrm>
              </p:grpSpPr>
              <p:sp>
                <p:nvSpPr>
                  <p:cNvPr id="90" name="未知"/>
                  <p:cNvSpPr/>
                  <p:nvPr/>
                </p:nvSpPr>
                <p:spPr>
                  <a:xfrm flipH="1" rot="18336000">
                    <a:off x="6859080" y="125604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未知"/>
                  <p:cNvSpPr/>
                  <p:nvPr/>
                </p:nvSpPr>
                <p:spPr>
                  <a:xfrm flipH="1" rot="18336000">
                    <a:off x="6713280" y="178740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未知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未知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2680" y="1001160"/>
                  <a:ext cx="363240" cy="1217520"/>
                  <a:chOff x="7312680" y="1001160"/>
                  <a:chExt cx="363240" cy="1217520"/>
                </a:xfrm>
              </p:grpSpPr>
              <p:sp>
                <p:nvSpPr>
                  <p:cNvPr id="96" name="未知"/>
                  <p:cNvSpPr/>
                  <p:nvPr/>
                </p:nvSpPr>
                <p:spPr>
                  <a:xfrm flipH="1" rot="16870800">
                    <a:off x="713592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未知"/>
                  <p:cNvSpPr/>
                  <p:nvPr/>
                </p:nvSpPr>
                <p:spPr>
                  <a:xfrm flipH="1" rot="16870800">
                    <a:off x="7253640" y="1876320"/>
                    <a:ext cx="421200" cy="22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320" y="909360"/>
                  <a:ext cx="950760" cy="1229040"/>
                  <a:chOff x="7798320" y="909360"/>
                  <a:chExt cx="950760" cy="1229040"/>
                </a:xfrm>
              </p:grpSpPr>
              <p:sp>
                <p:nvSpPr>
                  <p:cNvPr id="99" name="未知"/>
                  <p:cNvSpPr/>
                  <p:nvPr/>
                </p:nvSpPr>
                <p:spPr>
                  <a:xfrm rot="3144000">
                    <a:off x="768924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未知"/>
                  <p:cNvSpPr/>
                  <p:nvPr/>
                </p:nvSpPr>
                <p:spPr>
                  <a:xfrm rot="3144000">
                    <a:off x="8266680" y="1747440"/>
                    <a:ext cx="47484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600" cy="1261800"/>
                  <a:chOff x="7786440" y="956160"/>
                  <a:chExt cx="732600" cy="1261800"/>
                </a:xfrm>
              </p:grpSpPr>
              <p:sp>
                <p:nvSpPr>
                  <p:cNvPr id="102" name="未知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未知"/>
                  <p:cNvSpPr/>
                  <p:nvPr/>
                </p:nvSpPr>
                <p:spPr>
                  <a:xfrm rot="3745200">
                    <a:off x="807984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480" cy="1242360"/>
                  <a:chOff x="7756920" y="1005120"/>
                  <a:chExt cx="510480" cy="1242360"/>
                </a:xfrm>
              </p:grpSpPr>
              <p:sp>
                <p:nvSpPr>
                  <p:cNvPr id="105" name="未知"/>
                  <p:cNvSpPr/>
                  <p:nvPr/>
                </p:nvSpPr>
                <p:spPr>
                  <a:xfrm rot="4286400">
                    <a:off x="7536600" y="1351440"/>
                    <a:ext cx="82152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未知"/>
                  <p:cNvSpPr/>
                  <p:nvPr/>
                </p:nvSpPr>
                <p:spPr>
                  <a:xfrm rot="4286400">
                    <a:off x="7882560" y="1907640"/>
                    <a:ext cx="4406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未知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未知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5400" cy="1131840"/>
                  <a:chOff x="7500960" y="1077480"/>
                  <a:chExt cx="275400" cy="1131840"/>
                </a:xfrm>
              </p:grpSpPr>
              <p:sp>
                <p:nvSpPr>
                  <p:cNvPr id="111" name="未知"/>
                  <p:cNvSpPr/>
                  <p:nvPr/>
                </p:nvSpPr>
                <p:spPr>
                  <a:xfrm rot="5755200">
                    <a:off x="7321320" y="1401480"/>
                    <a:ext cx="73800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未知"/>
                  <p:cNvSpPr/>
                  <p:nvPr/>
                </p:nvSpPr>
                <p:spPr>
                  <a:xfrm rot="5755200">
                    <a:off x="7398360" y="1928880"/>
                    <a:ext cx="39600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未知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600" y="911880"/>
                <a:ext cx="218052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68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0520" y="5994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480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52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未知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未知"/>
              <p:cNvSpPr/>
              <p:nvPr/>
            </p:nvSpPr>
            <p:spPr>
              <a:xfrm flipV="1" rot="19660800">
                <a:off x="7610760" y="1101960"/>
                <a:ext cx="22644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未知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未知"/>
              <p:cNvSpPr/>
              <p:nvPr/>
            </p:nvSpPr>
            <p:spPr>
              <a:xfrm flipH="1">
                <a:off x="6816240" y="457920"/>
                <a:ext cx="3567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未知"/>
              <p:cNvSpPr/>
              <p:nvPr/>
            </p:nvSpPr>
            <p:spPr>
              <a:xfrm flipH="1">
                <a:off x="722772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未知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未知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未知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未知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85F4-AF81-4AF0-A3D4-5B7949DB2EC4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160"/>
            <a:ext cx="7128000" cy="7923600"/>
            <a:chOff x="2010960" y="24516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200"/>
              <a:chOff x="3483000" y="954000"/>
              <a:chExt cx="946080" cy="70920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960"/>
                <a:ext cx="227880" cy="1328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160"/>
              <a:ext cx="7128000" cy="7706520"/>
              <a:chOff x="2010960" y="245160"/>
              <a:chExt cx="7128000" cy="770652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187" name="未知"/>
                    <p:cNvSpPr/>
                    <p:nvPr/>
                  </p:nvSpPr>
                  <p:spPr>
                    <a:xfrm rot="2711400">
                      <a:off x="5584320" y="3019680"/>
                      <a:ext cx="212652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未知"/>
                    <p:cNvSpPr/>
                    <p:nvPr/>
                  </p:nvSpPr>
                  <p:spPr>
                    <a:xfrm rot="2711400">
                      <a:off x="7133400" y="4145040"/>
                      <a:ext cx="11408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920" cy="2529720"/>
                    <a:chOff x="5787720" y="2148480"/>
                    <a:chExt cx="3040920" cy="2529720"/>
                  </a:xfrm>
                </p:grpSpPr>
                <p:sp>
                  <p:nvSpPr>
                    <p:cNvPr id="190" name="未知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未知"/>
                    <p:cNvSpPr/>
                    <p:nvPr/>
                  </p:nvSpPr>
                  <p:spPr>
                    <a:xfrm rot="2103600">
                      <a:off x="7543440" y="3721680"/>
                      <a:ext cx="120096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5840" y="2065320"/>
                    <a:ext cx="3096720" cy="1992600"/>
                    <a:chOff x="5775840" y="2065320"/>
                    <a:chExt cx="3096720" cy="1992600"/>
                  </a:xfrm>
                </p:grpSpPr>
                <p:sp>
                  <p:nvSpPr>
                    <p:cNvPr id="193" name="未知"/>
                    <p:cNvSpPr/>
                    <p:nvPr/>
                  </p:nvSpPr>
                  <p:spPr>
                    <a:xfrm rot="1582800">
                      <a:off x="5747760" y="2521080"/>
                      <a:ext cx="2140560" cy="37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未知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7760"/>
                    <a:chOff x="5768280" y="1970280"/>
                    <a:chExt cx="3133800" cy="1607760"/>
                  </a:xfrm>
                </p:grpSpPr>
                <p:sp>
                  <p:nvSpPr>
                    <p:cNvPr id="196" name="未知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未知"/>
                    <p:cNvSpPr/>
                    <p:nvPr/>
                  </p:nvSpPr>
                  <p:spPr>
                    <a:xfrm rot="1080000">
                      <a:off x="7718400" y="277380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未知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未知"/>
                    <p:cNvSpPr/>
                    <p:nvPr/>
                  </p:nvSpPr>
                  <p:spPr>
                    <a:xfrm rot="463200">
                      <a:off x="7687080" y="221292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未知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未知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3760" cy="787320"/>
                    <a:chOff x="5788440" y="1303920"/>
                    <a:chExt cx="2363760" cy="787320"/>
                  </a:xfrm>
                </p:grpSpPr>
                <p:sp>
                  <p:nvSpPr>
                    <p:cNvPr id="205" name="未知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未知"/>
                    <p:cNvSpPr/>
                    <p:nvPr/>
                  </p:nvSpPr>
                  <p:spPr>
                    <a:xfrm rot="20797200">
                      <a:off x="7299000" y="139248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4280"/>
                    <a:ext cx="2557080" cy="2741400"/>
                    <a:chOff x="2646720" y="2474280"/>
                    <a:chExt cx="2557080" cy="2741400"/>
                  </a:xfrm>
                </p:grpSpPr>
                <p:sp>
                  <p:nvSpPr>
                    <p:cNvPr id="208" name="未知"/>
                    <p:cNvSpPr/>
                    <p:nvPr/>
                  </p:nvSpPr>
                  <p:spPr>
                    <a:xfrm flipH="1" rot="18888600">
                      <a:off x="3254400" y="3171600"/>
                      <a:ext cx="21265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未知"/>
                    <p:cNvSpPr/>
                    <p:nvPr/>
                  </p:nvSpPr>
                  <p:spPr>
                    <a:xfrm flipH="1" rot="18888600">
                      <a:off x="2692440" y="429588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未知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未知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720" cy="1992600"/>
                    <a:chOff x="2040840" y="2283480"/>
                    <a:chExt cx="3096720" cy="1992600"/>
                  </a:xfrm>
                </p:grpSpPr>
                <p:sp>
                  <p:nvSpPr>
                    <p:cNvPr id="214" name="未知"/>
                    <p:cNvSpPr/>
                    <p:nvPr/>
                  </p:nvSpPr>
                  <p:spPr>
                    <a:xfrm flipH="1" rot="20017200">
                      <a:off x="3024720" y="273924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未知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520" cy="1607760"/>
                    <a:chOff x="2010960" y="2188440"/>
                    <a:chExt cx="3134520" cy="1607760"/>
                  </a:xfrm>
                </p:grpSpPr>
                <p:sp>
                  <p:nvSpPr>
                    <p:cNvPr id="217" name="未知"/>
                    <p:cNvSpPr/>
                    <p:nvPr/>
                  </p:nvSpPr>
                  <p:spPr>
                    <a:xfrm flipH="1" rot="20520000">
                      <a:off x="3064680" y="249768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未知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未知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未知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未知"/>
                    <p:cNvSpPr/>
                    <p:nvPr/>
                  </p:nvSpPr>
                  <p:spPr>
                    <a:xfrm flipH="1" rot="84600">
                      <a:off x="3327840" y="2069280"/>
                      <a:ext cx="173088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未知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未知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未知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960"/>
                    <a:ext cx="2325240" cy="1083960"/>
                    <a:chOff x="2887200" y="1236960"/>
                    <a:chExt cx="2325240" cy="1083960"/>
                  </a:xfrm>
                </p:grpSpPr>
                <p:sp>
                  <p:nvSpPr>
                    <p:cNvPr id="229" name="未知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未知"/>
                    <p:cNvSpPr/>
                    <p:nvPr/>
                  </p:nvSpPr>
                  <p:spPr>
                    <a:xfrm flipH="1" rot="1278000">
                      <a:off x="2934720" y="1370520"/>
                      <a:ext cx="81612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未知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未知"/>
                    <p:cNvSpPr/>
                    <p:nvPr/>
                  </p:nvSpPr>
                  <p:spPr>
                    <a:xfrm flipH="1" rot="2028600">
                      <a:off x="3206520" y="1022760"/>
                      <a:ext cx="81612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未知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未知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7320" y="335520"/>
                    <a:ext cx="1461240" cy="1886040"/>
                    <a:chOff x="4027320" y="335520"/>
                    <a:chExt cx="1461240" cy="1886040"/>
                  </a:xfrm>
                </p:grpSpPr>
                <p:sp>
                  <p:nvSpPr>
                    <p:cNvPr id="238" name="未知"/>
                    <p:cNvSpPr/>
                    <p:nvPr/>
                  </p:nvSpPr>
                  <p:spPr>
                    <a:xfrm flipH="1" rot="3474000">
                      <a:off x="4336920" y="1443240"/>
                      <a:ext cx="135720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未知"/>
                    <p:cNvSpPr/>
                    <p:nvPr/>
                  </p:nvSpPr>
                  <p:spPr>
                    <a:xfrm flipH="1" rot="3474000">
                      <a:off x="4033080" y="546120"/>
                      <a:ext cx="72900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520" y="245160"/>
                    <a:ext cx="1121760" cy="1946880"/>
                    <a:chOff x="4448520" y="245160"/>
                    <a:chExt cx="1121760" cy="1946880"/>
                  </a:xfrm>
                </p:grpSpPr>
                <p:sp>
                  <p:nvSpPr>
                    <p:cNvPr id="241" name="未知"/>
                    <p:cNvSpPr/>
                    <p:nvPr/>
                  </p:nvSpPr>
                  <p:spPr>
                    <a:xfrm flipH="1" rot="4126800">
                      <a:off x="4554720" y="1401120"/>
                      <a:ext cx="130896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未知"/>
                    <p:cNvSpPr/>
                    <p:nvPr/>
                  </p:nvSpPr>
                  <p:spPr>
                    <a:xfrm flipH="1" rot="4126800">
                      <a:off x="4418640" y="439920"/>
                      <a:ext cx="70344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未知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未知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未知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未知"/>
                    <p:cNvSpPr/>
                    <p:nvPr/>
                  </p:nvSpPr>
                  <p:spPr>
                    <a:xfrm rot="19678800">
                      <a:off x="6863760" y="81072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未知"/>
                  <p:cNvSpPr/>
                  <p:nvPr/>
                </p:nvSpPr>
                <p:spPr>
                  <a:xfrm flipH="1" rot="4578600">
                    <a:off x="4764240" y="1464840"/>
                    <a:ext cx="1266120" cy="17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未知"/>
                  <p:cNvSpPr/>
                  <p:nvPr/>
                </p:nvSpPr>
                <p:spPr>
                  <a:xfrm flipH="1" rot="4578600">
                    <a:off x="4794120" y="537840"/>
                    <a:ext cx="68040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6080" y="270360"/>
                    <a:ext cx="1195920" cy="1900800"/>
                    <a:chOff x="5356080" y="270360"/>
                    <a:chExt cx="1195920" cy="1900800"/>
                  </a:xfrm>
                </p:grpSpPr>
                <p:sp>
                  <p:nvSpPr>
                    <p:cNvPr id="252" name="未知"/>
                    <p:cNvSpPr/>
                    <p:nvPr/>
                  </p:nvSpPr>
                  <p:spPr>
                    <a:xfrm rot="17742000">
                      <a:off x="5087520" y="1418760"/>
                      <a:ext cx="130860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未知"/>
                    <p:cNvSpPr/>
                    <p:nvPr/>
                  </p:nvSpPr>
                  <p:spPr>
                    <a:xfrm rot="17742000">
                      <a:off x="5887800" y="485280"/>
                      <a:ext cx="702000" cy="35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800" y="388440"/>
                    <a:ext cx="1891440" cy="1797480"/>
                    <a:chOff x="5347800" y="388440"/>
                    <a:chExt cx="1891440" cy="1797480"/>
                  </a:xfrm>
                </p:grpSpPr>
                <p:sp>
                  <p:nvSpPr>
                    <p:cNvPr id="255" name="未知"/>
                    <p:cNvSpPr/>
                    <p:nvPr/>
                  </p:nvSpPr>
                  <p:spPr>
                    <a:xfrm rot="18822600">
                      <a:off x="5248080" y="13892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未知"/>
                    <p:cNvSpPr/>
                    <p:nvPr/>
                  </p:nvSpPr>
                  <p:spPr>
                    <a:xfrm rot="18822600">
                      <a:off x="6404400" y="583920"/>
                      <a:ext cx="764280" cy="52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7680" cy="1794960"/>
                    <a:chOff x="5458320" y="292680"/>
                    <a:chExt cx="427680" cy="1794960"/>
                  </a:xfrm>
                </p:grpSpPr>
                <p:sp>
                  <p:nvSpPr>
                    <p:cNvPr id="258" name="未知"/>
                    <p:cNvSpPr/>
                    <p:nvPr/>
                  </p:nvSpPr>
                  <p:spPr>
                    <a:xfrm rot="16696200">
                      <a:off x="5007240" y="1445760"/>
                      <a:ext cx="117540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未知"/>
                    <p:cNvSpPr/>
                    <p:nvPr/>
                  </p:nvSpPr>
                  <p:spPr>
                    <a:xfrm rot="16696200">
                      <a:off x="5443200" y="533160"/>
                      <a:ext cx="63036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0440"/>
                    <a:ext cx="2196360" cy="3003120"/>
                    <a:chOff x="3062520" y="2530440"/>
                    <a:chExt cx="2196360" cy="3003120"/>
                  </a:xfrm>
                </p:grpSpPr>
                <p:sp>
                  <p:nvSpPr>
                    <p:cNvPr id="261" name="未知"/>
                    <p:cNvSpPr/>
                    <p:nvPr/>
                  </p:nvSpPr>
                  <p:spPr>
                    <a:xfrm flipH="1" rot="18336000">
                      <a:off x="3420000" y="3314520"/>
                      <a:ext cx="212652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未知"/>
                    <p:cNvSpPr/>
                    <p:nvPr/>
                  </p:nvSpPr>
                  <p:spPr>
                    <a:xfrm flipH="1" rot="18336000">
                      <a:off x="3069720" y="4591440"/>
                      <a:ext cx="11408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未知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未知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8280" y="2703240"/>
                    <a:ext cx="875160" cy="2926800"/>
                    <a:chOff x="4508280" y="2703240"/>
                    <a:chExt cx="875160" cy="2926800"/>
                  </a:xfrm>
                </p:grpSpPr>
                <p:sp>
                  <p:nvSpPr>
                    <p:cNvPr id="267" name="未知"/>
                    <p:cNvSpPr/>
                    <p:nvPr/>
                  </p:nvSpPr>
                  <p:spPr>
                    <a:xfrm flipH="1" rot="16870800">
                      <a:off x="4086000" y="3489120"/>
                      <a:ext cx="1887480" cy="34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未知"/>
                    <p:cNvSpPr/>
                    <p:nvPr/>
                  </p:nvSpPr>
                  <p:spPr>
                    <a:xfrm flipH="1" rot="16870800">
                      <a:off x="4366800" y="4807800"/>
                      <a:ext cx="101268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7560" y="2483280"/>
                    <a:ext cx="2280960" cy="2953080"/>
                    <a:chOff x="5677560" y="2483280"/>
                    <a:chExt cx="2280960" cy="2953080"/>
                  </a:xfrm>
                </p:grpSpPr>
                <p:sp>
                  <p:nvSpPr>
                    <p:cNvPr id="270" name="未知"/>
                    <p:cNvSpPr/>
                    <p:nvPr/>
                  </p:nvSpPr>
                  <p:spPr>
                    <a:xfrm rot="3144000">
                      <a:off x="5415480" y="3250440"/>
                      <a:ext cx="21261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未知"/>
                    <p:cNvSpPr/>
                    <p:nvPr/>
                  </p:nvSpPr>
                  <p:spPr>
                    <a:xfrm rot="3144000">
                      <a:off x="6800400" y="4497840"/>
                      <a:ext cx="11408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040" y="2593440"/>
                    <a:ext cx="1758600" cy="3032640"/>
                    <a:chOff x="5648040" y="2593440"/>
                    <a:chExt cx="1758600" cy="3032640"/>
                  </a:xfrm>
                </p:grpSpPr>
                <p:sp>
                  <p:nvSpPr>
                    <p:cNvPr id="273" name="未知"/>
                    <p:cNvSpPr/>
                    <p:nvPr/>
                  </p:nvSpPr>
                  <p:spPr>
                    <a:xfrm rot="3745200">
                      <a:off x="5265360" y="3395880"/>
                      <a:ext cx="203436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未知"/>
                    <p:cNvSpPr/>
                    <p:nvPr/>
                  </p:nvSpPr>
                  <p:spPr>
                    <a:xfrm rot="3745200">
                      <a:off x="6351840" y="4718880"/>
                      <a:ext cx="1091160" cy="57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276" name="未知"/>
                    <p:cNvSpPr/>
                    <p:nvPr/>
                  </p:nvSpPr>
                  <p:spPr>
                    <a:xfrm rot="4286400">
                      <a:off x="5046480" y="354312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未知"/>
                    <p:cNvSpPr/>
                    <p:nvPr/>
                  </p:nvSpPr>
                  <p:spPr>
                    <a:xfrm rot="4286400">
                      <a:off x="5877360" y="4881240"/>
                      <a:ext cx="105948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未知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未知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7560"/>
                    <a:ext cx="663120" cy="2717640"/>
                    <a:chOff x="4961160" y="2887560"/>
                    <a:chExt cx="663120" cy="2717640"/>
                  </a:xfrm>
                </p:grpSpPr>
                <p:sp>
                  <p:nvSpPr>
                    <p:cNvPr id="282" name="未知"/>
                    <p:cNvSpPr/>
                    <p:nvPr/>
                  </p:nvSpPr>
                  <p:spPr>
                    <a:xfrm rot="5755200">
                      <a:off x="4531320" y="3665160"/>
                      <a:ext cx="177264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未知"/>
                    <p:cNvSpPr/>
                    <p:nvPr/>
                  </p:nvSpPr>
                  <p:spPr>
                    <a:xfrm rot="5755200">
                      <a:off x="4714920" y="4931640"/>
                      <a:ext cx="95112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9120"/>
                <a:chOff x="2175120" y="682560"/>
                <a:chExt cx="6963840" cy="726912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9120"/>
                  <a:chOff x="2175120" y="682560"/>
                  <a:chExt cx="6963840" cy="72691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88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40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未知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未知"/>
                <p:cNvSpPr/>
                <p:nvPr/>
              </p:nvSpPr>
              <p:spPr>
                <a:xfrm rot="20253000">
                  <a:off x="6128640" y="2181240"/>
                  <a:ext cx="54468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440"/>
              <a:ext cx="6410160" cy="7456320"/>
              <a:chOff x="2342880" y="712440"/>
              <a:chExt cx="6410160" cy="7456320"/>
            </a:xfrm>
          </p:grpSpPr>
          <p:sp>
            <p:nvSpPr>
              <p:cNvPr id="295" name="未知"/>
              <p:cNvSpPr/>
              <p:nvPr/>
            </p:nvSpPr>
            <p:spPr>
              <a:xfrm flipH="1">
                <a:off x="4468320" y="323424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24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184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000"/>
                <a:ext cx="36730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280"/>
                <a:ext cx="5824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60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未知"/>
              <p:cNvSpPr/>
              <p:nvPr/>
            </p:nvSpPr>
            <p:spPr>
              <a:xfrm>
                <a:off x="6154920" y="354636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未知"/>
              <p:cNvSpPr/>
              <p:nvPr/>
            </p:nvSpPr>
            <p:spPr>
              <a:xfrm flipV="1" rot="19660800">
                <a:off x="5223600" y="294768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未知"/>
              <p:cNvSpPr/>
              <p:nvPr/>
            </p:nvSpPr>
            <p:spPr>
              <a:xfrm flipH="1">
                <a:off x="2686320" y="338472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未知"/>
              <p:cNvSpPr/>
              <p:nvPr/>
            </p:nvSpPr>
            <p:spPr>
              <a:xfrm flipH="1">
                <a:off x="3317400" y="139788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未知"/>
              <p:cNvSpPr/>
              <p:nvPr/>
            </p:nvSpPr>
            <p:spPr>
              <a:xfrm>
                <a:off x="7511400" y="310860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未知"/>
              <p:cNvSpPr/>
              <p:nvPr/>
            </p:nvSpPr>
            <p:spPr>
              <a:xfrm>
                <a:off x="6866640" y="210960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未知"/>
              <p:cNvSpPr/>
              <p:nvPr/>
            </p:nvSpPr>
            <p:spPr>
              <a:xfrm>
                <a:off x="6935400" y="71244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未知"/>
              <p:cNvSpPr/>
              <p:nvPr/>
            </p:nvSpPr>
            <p:spPr>
              <a:xfrm flipH="1" rot="1347000">
                <a:off x="4182840" y="215388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F8C4-2F9F-4398-9233-A4C914268DFD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5E08-8261-4B45-9CC5-023FAF5837C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8656-5536-4F81-836C-DBBF7F62EBB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3.iecool.com/show/106/8051.htm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11970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华文中宋"/>
              </a:rPr>
              <a:t>密度知识的应用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6732720" y="4292640"/>
            <a:ext cx="2144520" cy="217944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0" y="5048280"/>
            <a:ext cx="17240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华文中宋"/>
              </a:rPr>
              <a:t>测等质量水的体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611280" y="549360"/>
            <a:ext cx="1728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ahoma"/>
                <a:ea typeface="华文中宋"/>
              </a:rPr>
              <a:t>小结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2">
            <a:lum contrast="6000"/>
          </a:blip>
          <a:srcRect l="26377" t="10252" r="52530" b="0"/>
          <a:stretch/>
        </p:blipFill>
        <p:spPr>
          <a:xfrm>
            <a:off x="7308720" y="5273640"/>
            <a:ext cx="10861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4.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小明想在</a:t>
            </a: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没有量筒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的情况下测出一块纪念币的密度，现有器材：天平、砝码、烧杯、足量水、滴管、细线、纪念币、黑色水彩笔。你能帮助他吗？谈谈思路和方案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6" name="" descr="t2.gif (12294 bytes)"/>
          <p:cNvPicPr/>
          <p:nvPr/>
        </p:nvPicPr>
        <p:blipFill>
          <a:blip r:embed="rId2"/>
          <a:stretch/>
        </p:blipFill>
        <p:spPr>
          <a:xfrm>
            <a:off x="0" y="0"/>
            <a:ext cx="266688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华文中宋"/>
              </a:rPr>
              <a:t>①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华文中宋"/>
              </a:rPr>
              <a:t>步骤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称出纪念币质量</a:t>
            </a:r>
            <a:r>
              <a:rPr b="1" lang="en-US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m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中宋"/>
                <a:ea typeface="华文中宋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在烧杯中装入适量的水，用天平称出质量</a:t>
            </a:r>
            <a:r>
              <a:rPr b="1" lang="en-US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m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用细线系住纪念币放入烧杯中，用水笔记下水面此时的位置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取出纪念币，向烧杯中加水，通过滴管使水到达标记的位置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E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用天平称出此时烧杯和水的质量</a:t>
            </a:r>
            <a:r>
              <a:rPr b="1" lang="en-US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m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中宋"/>
                <a:ea typeface="华文中宋"/>
              </a:rPr>
              <a:t>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华文中宋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华文中宋"/>
              </a:rPr>
              <a:t>金币的密度表达式：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华文中宋"/>
              </a:rPr>
              <a:t>______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"/>
          <p:cNvSpPr/>
          <p:nvPr/>
        </p:nvSpPr>
        <p:spPr>
          <a:xfrm>
            <a:off x="4570560" y="4638600"/>
            <a:ext cx="468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Tahoma"/>
                <a:ea typeface="Tahoma"/>
              </a:rPr>
              <a:t>ρ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Tahoma"/>
              </a:rPr>
              <a:t>=</a:t>
            </a:r>
            <a:r>
              <a:rPr b="1" lang="el-GR" sz="2800" spc="-1" strike="noStrike">
                <a:solidFill>
                  <a:srgbClr val="ffff00"/>
                </a:solidFill>
                <a:latin typeface="Tahoma"/>
                <a:ea typeface="Tahoma"/>
              </a:rPr>
              <a:t>ρ</a:t>
            </a:r>
            <a:r>
              <a:rPr b="1" lang="zh-CN" sz="28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水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/(m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-   m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)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611280" y="549360"/>
            <a:ext cx="1728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ahoma"/>
                <a:ea typeface="华文中宋"/>
              </a:rPr>
              <a:t>小结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>
            <a:lum contrast="6000"/>
          </a:blip>
          <a:srcRect l="26377" t="10252" r="52530" b="0"/>
          <a:stretch/>
        </p:blipFill>
        <p:spPr>
          <a:xfrm>
            <a:off x="324000" y="4653000"/>
            <a:ext cx="1085760" cy="158436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971280" y="2453760"/>
            <a:ext cx="67690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华文中宋"/>
              </a:rPr>
              <a:t>测等体积水的质量</a:t>
            </a:r>
            <a:r>
              <a:rPr b="0" lang="en-US" sz="1000" spc="-1" strike="noStrike">
                <a:solidFill>
                  <a:srgbClr val="0000ff"/>
                </a:solidFill>
                <a:latin typeface="Tahoma"/>
              </a:rPr>
              <a:t>z</a:t>
            </a:r>
            <a:r>
              <a:rPr b="0" lang="zh-CN" sz="1000" spc="-1" strike="noStrike">
                <a:solidFill>
                  <a:srgbClr val="0000ff"/>
                </a:solidFill>
                <a:latin typeface="Tahoma"/>
              </a:rPr>
              <a:t>，</a:t>
            </a:r>
            <a:r>
              <a:rPr b="0" lang="en-US" sz="1000" spc="-1" strike="noStrike">
                <a:solidFill>
                  <a:srgbClr val="0000ff"/>
                </a:solidFill>
                <a:latin typeface="Tahoma"/>
              </a:rPr>
              <a:t>xxk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 Black"/>
                <a:ea typeface="华文行楷"/>
              </a:rPr>
              <a:t>经验和方法</a:t>
            </a:r>
            <a:r>
              <a:rPr b="0" lang="zh-CN" sz="6600" spc="-1" strike="noStrike">
                <a:solidFill>
                  <a:srgbClr val="ff3399"/>
                </a:solidFill>
                <a:latin typeface="Arial Black"/>
                <a:ea typeface="华文行楷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7345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设计实验时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，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最重要的是根据实验原理公式选择相应的＿＿＿＿＿</a:t>
            </a:r>
            <a:r>
              <a:rPr b="0" lang="en-US" sz="3200" spc="-1" strike="noStrike">
                <a:solidFill>
                  <a:srgbClr val="ffcc00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并考虑实验器材选择的</a:t>
            </a:r>
            <a:r>
              <a:rPr b="0" lang="en-US" sz="3200" spc="-1" strike="noStrike">
                <a:solidFill>
                  <a:srgbClr val="ffcc00"/>
                </a:solidFill>
                <a:latin typeface="黑体"/>
                <a:ea typeface="黑体"/>
              </a:rPr>
              <a:t>________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性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描述实验步骤时应条理清楚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，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讲清所用的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_____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、所测量的＿＿＿和记录物理量的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___        _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6732720" y="33336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684360" y="260280"/>
            <a:ext cx="45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e103"/>
                </a:solidFill>
                <a:latin typeface="Arial"/>
                <a:ea typeface="楷体_GB2312"/>
              </a:rPr>
              <a:t>总结：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楷体_GB2312"/>
              </a:rPr>
              <a:t>设计实验的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211640" y="2492280"/>
            <a:ext cx="23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实验器材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763640" y="450864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器材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786200" y="45086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物理量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95640" y="501012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字母符号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468360" y="6021360"/>
            <a:ext cx="7705800" cy="576360"/>
            <a:chOff x="468360" y="6021360"/>
            <a:chExt cx="7705800" cy="576360"/>
          </a:xfrm>
        </p:grpSpPr>
        <p:sp>
          <p:nvSpPr>
            <p:cNvPr id="491" name=""/>
            <p:cNvSpPr/>
            <p:nvPr/>
          </p:nvSpPr>
          <p:spPr>
            <a:xfrm>
              <a:off x="468360" y="6021360"/>
              <a:ext cx="770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cc00"/>
                  </a:solidFill>
                  <a:latin typeface="华文中宋"/>
                  <a:ea typeface="华文中宋"/>
                </a:rPr>
                <a:t>即：</a:t>
              </a:r>
              <a:r>
                <a:rPr b="1" lang="zh-CN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“</a:t>
              </a:r>
              <a:r>
                <a:rPr b="1" lang="zh-CN" sz="28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　　</a:t>
              </a:r>
              <a:r>
                <a:rPr b="1" lang="en-US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××</a:t>
              </a:r>
              <a:r>
                <a:rPr b="1" lang="zh-CN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器材</a:t>
              </a:r>
              <a:r>
                <a:rPr b="1" lang="zh-CN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，</a:t>
              </a:r>
              <a:r>
                <a:rPr b="1" lang="zh-CN" sz="28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　　</a:t>
              </a:r>
              <a:r>
                <a:rPr b="1" lang="zh-CN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出</a:t>
              </a:r>
              <a:r>
                <a:rPr b="1" lang="en-US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×× </a:t>
              </a:r>
              <a:r>
                <a:rPr b="1" lang="zh-CN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，</a:t>
              </a:r>
              <a:r>
                <a:rPr b="1" lang="zh-CN" sz="28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 　</a:t>
              </a:r>
              <a:r>
                <a:rPr b="1" lang="zh-CN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做</a:t>
              </a:r>
              <a:r>
                <a:rPr b="1" lang="en-US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×”</a:t>
              </a:r>
              <a:endParaRPr b="0" lang="en-US" sz="2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2" name=""/>
            <p:cNvSpPr txBox="1"/>
            <p:nvPr/>
          </p:nvSpPr>
          <p:spPr>
            <a:xfrm>
              <a:off x="1692360" y="6021360"/>
              <a:ext cx="466560" cy="48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行楷"/>
                </a:rPr>
                <a:t>用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  <a:ea typeface="华文行楷"/>
              </a:endParaRPr>
            </a:p>
          </p:txBody>
        </p:sp>
        <p:sp>
          <p:nvSpPr>
            <p:cNvPr id="493" name=""/>
            <p:cNvSpPr txBox="1"/>
            <p:nvPr/>
          </p:nvSpPr>
          <p:spPr>
            <a:xfrm>
              <a:off x="4068720" y="6021360"/>
              <a:ext cx="57636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行楷"/>
                </a:rPr>
                <a:t>测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  <a:ea typeface="华文行楷"/>
              </a:endParaRPr>
            </a:p>
          </p:txBody>
        </p:sp>
        <p:sp>
          <p:nvSpPr>
            <p:cNvPr id="494" name=""/>
            <p:cNvSpPr txBox="1"/>
            <p:nvPr/>
          </p:nvSpPr>
          <p:spPr>
            <a:xfrm>
              <a:off x="6156360" y="6021360"/>
              <a:ext cx="574560" cy="48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行楷"/>
                </a:rPr>
                <a:t>记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  <a:ea typeface="华文行楷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4067280" y="299736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精确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108000" y="2133720"/>
            <a:ext cx="7416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３</a:t>
            </a:r>
            <a:r>
              <a:rPr b="1" lang="en-US" sz="3200" spc="-1" strike="noStrike">
                <a:solidFill>
                  <a:srgbClr val="ffcc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测量密度时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，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基本测量工具是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_____ 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和 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_____  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４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一些物理量不能直接测量的时候，我们可以用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_________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的方法。测物质密度时， 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_____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是最常用的替代物质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012000" y="20606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天平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041480" y="2565360"/>
            <a:ext cx="237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量筒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050920" y="4005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等效替代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124000" y="4508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水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 Black"/>
                <a:ea typeface="华文行楷"/>
              </a:rPr>
              <a:t>经验和方法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6732720" y="33336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684360" y="260280"/>
            <a:ext cx="45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楷体_GB2312"/>
              </a:rPr>
              <a:t>总结：设计实验的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229600" cy="28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练习</a:t>
            </a:r>
            <a:r>
              <a:rPr b="1" lang="en-US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小红在测量一个石块密度时，由于体积较大，不能放进量筒，她该怎么办呢</a:t>
            </a:r>
            <a:r>
              <a:rPr b="1" lang="en-US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? 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现有器材：天平（含砝码）、量筒、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烧杯、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足量水、水彩笔、细线，选择器材，你能替她设计一个合理的方案吗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7380360" y="4876920"/>
            <a:ext cx="1595520" cy="198108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-34920" y="-25560"/>
            <a:ext cx="2478240" cy="936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-106200" y="475920"/>
            <a:ext cx="88912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练习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：某中学课外物理兴趣小组的同学，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应用所学的知识测量瓷器的密度。他们所用的器材有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若干小碎瓷片、足够的水、一个质量为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ahoma"/>
              </a:rPr>
              <a:t>0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容积为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ahoma"/>
              </a:rPr>
              <a:t>0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有密封盖的瓶子（如图示）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问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）他们还需要选择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______ ,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才能测出小瓷器的密度。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CN" sz="3200" spc="-1" strike="noStrike">
                <a:solidFill>
                  <a:srgbClr val="00ffff"/>
                </a:solidFill>
                <a:latin typeface="Tahoma"/>
              </a:rPr>
              <a:t>只选一种器材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）请简要写出测量过程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）小碎瓷片密度的表达式是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_______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8244000" y="1628640"/>
            <a:ext cx="647640" cy="1585800"/>
            <a:chOff x="8244000" y="1628640"/>
            <a:chExt cx="647640" cy="1585800"/>
          </a:xfrm>
        </p:grpSpPr>
        <p:sp>
          <p:nvSpPr>
            <p:cNvPr id="509" name=""/>
            <p:cNvSpPr/>
            <p:nvPr/>
          </p:nvSpPr>
          <p:spPr>
            <a:xfrm>
              <a:off x="8244000" y="1846080"/>
              <a:ext cx="647640" cy="1368360"/>
            </a:xfrm>
            <a:custGeom>
              <a:avLst/>
              <a:gdLst>
                <a:gd name="textAreaLeft" fmla="*/ 31320 w 647640"/>
                <a:gd name="textAreaRight" fmla="*/ 616320 w 647640"/>
                <a:gd name="textAreaTop" fmla="*/ 31320 h 1368360"/>
                <a:gd name="textAreaBottom" fmla="*/ 1337040 h 1368360"/>
              </a:gdLst>
              <a:ahLst/>
              <a:rect l="textAreaLeft" t="textAreaTop" r="textAreaRight" b="textAreaBottom"/>
              <a:pathLst>
                <a:path w="21600" h="45624">
                  <a:moveTo>
                    <a:pt x="3600" y="0"/>
                  </a:moveTo>
                  <a:arcTo wR="3600" hR="3600" stAng="16200000" swAng="-5400000"/>
                  <a:lnTo>
                    <a:pt x="0" y="42024"/>
                  </a:lnTo>
                  <a:arcTo wR="3600" hR="3600" stAng="10800000" swAng="-5400000"/>
                  <a:lnTo>
                    <a:pt x="18000" y="456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ff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388360" y="1628640"/>
              <a:ext cx="360360" cy="21744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90400" y="1928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100" spc="-1" strike="noStrike">
                <a:solidFill>
                  <a:srgbClr val="ffffff"/>
                </a:solidFill>
                <a:latin typeface="Tahoma"/>
              </a:rPr>
              <a:t>谢谢！</a:t>
            </a:r>
            <a:endParaRPr b="0" lang="en-US" sz="10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0" y="115920"/>
            <a:ext cx="5904000" cy="2089080"/>
          </a:xfrm>
          <a:prstGeom prst="cloudCallout">
            <a:avLst>
              <a:gd name="adj1" fmla="val -13106"/>
              <a:gd name="adj2" fmla="val 88222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你能帮小明设计一个实验测量出纪念币的密度吗？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36" name="" descr="">
            <a:hlinkClick r:id="rId2"/>
          </p:cNvPr>
          <p:cNvPicPr/>
          <p:nvPr/>
        </p:nvPicPr>
        <p:blipFill>
          <a:blip r:embed="rId3"/>
          <a:srcRect l="19499" t="6339" r="23590" b="17574"/>
          <a:stretch/>
        </p:blipFill>
        <p:spPr>
          <a:xfrm>
            <a:off x="1403280" y="3284640"/>
            <a:ext cx="1871640" cy="177480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4"/>
          <a:stretch/>
        </p:blipFill>
        <p:spPr>
          <a:xfrm>
            <a:off x="4572000" y="2924280"/>
            <a:ext cx="4572000" cy="374940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5"/>
          <a:srcRect l="6548" t="3552" r="5480" b="6034"/>
          <a:stretch/>
        </p:blipFill>
        <p:spPr>
          <a:xfrm>
            <a:off x="6084720" y="115920"/>
            <a:ext cx="2880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4963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提供给你天平、砝码、量筒、足量的水，请帮助小明设计出实验步骤，并写出纪念币密度的数字表达式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1600200"/>
            <a:ext cx="853272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步骤：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用调节好的天平测量出一块纪念币的质量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m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选择合适的量筒，在量筒中倒入</a:t>
            </a: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适量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的水，并读出水的体积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V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C</a:t>
            </a:r>
            <a:r>
              <a:rPr b="0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将纪念币放入量筒中，读出此时水的体积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V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84360" y="4724280"/>
            <a:ext cx="76327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中宋"/>
              </a:rPr>
              <a:t>表达式：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ff"/>
                </a:solidFill>
                <a:latin typeface="Tahoma"/>
                <a:ea typeface="华文中宋"/>
              </a:rPr>
              <a:t>ρ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中宋"/>
              </a:rPr>
              <a:t>=m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ahoma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中宋"/>
              </a:rPr>
              <a:t>/(V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ahoma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中宋"/>
              </a:rPr>
              <a:t>-V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ahoma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中宋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70567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cc00"/>
                </a:solidFill>
                <a:latin typeface="Tahoma"/>
                <a:ea typeface="华文中宋"/>
              </a:rPr>
              <a:t>小结：密度测定的一般方法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"/>
          <p:cNvSpPr/>
          <p:nvPr/>
        </p:nvSpPr>
        <p:spPr>
          <a:xfrm>
            <a:off x="5435640" y="2565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ff"/>
                </a:solidFill>
                <a:latin typeface="바탕"/>
                <a:ea typeface="바탕"/>
              </a:rPr>
              <a:t>ρ</a:t>
            </a:r>
            <a:r>
              <a:rPr b="1" lang="zh-CN" sz="3200" spc="-1" strike="noStrike">
                <a:solidFill>
                  <a:srgbClr val="ffffff"/>
                </a:solidFill>
                <a:latin typeface="바탕"/>
                <a:ea typeface="바탕"/>
              </a:rPr>
              <a:t>= m / V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2">
            <a:lum contrast="6000"/>
          </a:blip>
          <a:srcRect l="26377" t="10252" r="52530" b="0"/>
          <a:stretch/>
        </p:blipFill>
        <p:spPr>
          <a:xfrm>
            <a:off x="324000" y="4724280"/>
            <a:ext cx="1085760" cy="158436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3564000" y="206064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华文中宋"/>
              </a:rPr>
              <a:t>天平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919800" y="2057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华文中宋"/>
              </a:rPr>
              <a:t>质量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564000" y="321300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华文中宋"/>
              </a:rPr>
              <a:t>量筒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919800" y="3213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华文中宋"/>
              </a:rPr>
              <a:t>体积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979640" y="2349360"/>
            <a:ext cx="1512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979640" y="3500280"/>
            <a:ext cx="1512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859280" y="2276640"/>
            <a:ext cx="217440" cy="1368360"/>
          </a:xfrm>
          <a:custGeom>
            <a:avLst/>
            <a:gdLst>
              <a:gd name="textAreaLeft" fmla="*/ 0 w 217440"/>
              <a:gd name="textAreaRight" fmla="*/ 78480 w 2174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34920" y="189000"/>
            <a:ext cx="83534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如果小明已经测量出一枚金币的质量为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8g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经查阅资料知，制作金币所用材料的类别及密度如下表所示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79280" y="1773360"/>
          <a:ext cx="7488360" cy="1333440"/>
        </p:xfrm>
        <a:graphic>
          <a:graphicData uri="http://schemas.openxmlformats.org/drawingml/2006/table">
            <a:tbl>
              <a:tblPr/>
              <a:tblGrid>
                <a:gridCol w="2406600"/>
                <a:gridCol w="1638360"/>
                <a:gridCol w="1704960"/>
                <a:gridCol w="173844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华文中宋"/>
                          <a:ea typeface="华文中宋"/>
                        </a:rPr>
                        <a:t>黄金类别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中宋"/>
                          <a:ea typeface="华文中宋"/>
                        </a:rPr>
                        <a:t>24K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华文中宋"/>
                          <a:ea typeface="华文中宋"/>
                        </a:rPr>
                        <a:t>黄金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中宋"/>
                          <a:ea typeface="华文中宋"/>
                        </a:rPr>
                        <a:t>22K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华文中宋"/>
                          <a:ea typeface="华文中宋"/>
                        </a:rPr>
                        <a:t>黄金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中宋"/>
                          <a:ea typeface="华文中宋"/>
                        </a:rPr>
                        <a:t>18K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华文中宋"/>
                          <a:ea typeface="华文中宋"/>
                        </a:rPr>
                        <a:t>黄金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ahoma"/>
                          <a:ea typeface="华文中宋"/>
                        </a:rPr>
                        <a:t>密度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/cm</a:t>
                      </a:r>
                      <a:r>
                        <a:rPr b="1" lang="en-US" sz="20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）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.26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.6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.4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4" name=""/>
          <p:cNvSpPr/>
          <p:nvPr/>
        </p:nvSpPr>
        <p:spPr>
          <a:xfrm>
            <a:off x="0" y="3500280"/>
            <a:ext cx="788508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小明准备用量筒测出该金币的体积，计算出其密度，从而鉴别它的黄金类别，其规格如图所示。你认为：通过上述实验，小明能否鉴别该金币的黄金类别？为什么？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zxxk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24000" y="3500280"/>
            <a:ext cx="73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如果，金币是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18K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金制成的，那么该金币的体积是多少？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2"/>
          <a:srcRect l="1909" t="1880" r="85041" b="17088"/>
          <a:stretch/>
        </p:blipFill>
        <p:spPr>
          <a:xfrm>
            <a:off x="7812000" y="1268280"/>
            <a:ext cx="115272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611280" y="549360"/>
            <a:ext cx="1728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ahoma"/>
                <a:ea typeface="华文中宋"/>
              </a:rPr>
              <a:t>小结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"/>
          <p:cNvSpPr/>
          <p:nvPr/>
        </p:nvSpPr>
        <p:spPr>
          <a:xfrm>
            <a:off x="900000" y="19890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华文中宋"/>
              </a:rPr>
              <a:t>实验器材选择的</a:t>
            </a:r>
            <a:r>
              <a:rPr b="1" lang="zh-CN" sz="3600" spc="-1" strike="noStrike">
                <a:solidFill>
                  <a:srgbClr val="ffcc00"/>
                </a:solidFill>
                <a:latin typeface="Tahoma"/>
                <a:ea typeface="华文中宋"/>
              </a:rPr>
              <a:t>精确性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2">
            <a:lum contrast="6000"/>
          </a:blip>
          <a:srcRect l="26377" t="10252" r="52530" b="0"/>
          <a:stretch/>
        </p:blipFill>
        <p:spPr>
          <a:xfrm>
            <a:off x="6588000" y="4508640"/>
            <a:ext cx="10861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250560" y="981000"/>
            <a:ext cx="81723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老师鼓励小明在</a:t>
            </a: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缺少砝码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的条件下测出一枚质量较大纪念币的密度。现有器材：天平、一只合适的量筒、足量的水、两个相同的烧杯、细线、滴管、纪念币。你能帮助小明完成这个实验吗？请谈谈你的</a:t>
            </a: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设计思路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和</a:t>
            </a: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实验过程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6732720" y="4292640"/>
            <a:ext cx="1595160" cy="19810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t2.gif (12294 bytes)"/>
          <p:cNvPicPr/>
          <p:nvPr/>
        </p:nvPicPr>
        <p:blipFill>
          <a:blip r:embed="rId3"/>
          <a:stretch/>
        </p:blipFill>
        <p:spPr>
          <a:xfrm>
            <a:off x="0" y="0"/>
            <a:ext cx="266688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79280" y="115920"/>
            <a:ext cx="8569440" cy="61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①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中宋"/>
              </a:rPr>
              <a:t>请将实验步骤补充完整：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中宋"/>
              </a:rPr>
              <a:t>、将天平放在水平台上，并将游码移至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华文中宋"/>
              </a:rPr>
              <a:t>__________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中宋"/>
              </a:rPr>
              <a:t>，调节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华文中宋"/>
              </a:rPr>
              <a:t>_________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中宋"/>
              </a:rPr>
              <a:t>使天平平衡；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中宋"/>
              </a:rPr>
              <a:t>、将一只空烧杯和纪念币放在左盘，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华文中宋"/>
              </a:rPr>
              <a:t>_________________________________________________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中宋"/>
              </a:rPr>
              <a:t>；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华文中宋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中宋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华文中宋"/>
              </a:rPr>
              <a:t>___________________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中宋"/>
              </a:rPr>
              <a:t>，记下量筒中水的体积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华文中宋"/>
              </a:rPr>
              <a:t>V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  <a:ea typeface="华文中宋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中宋"/>
              </a:rPr>
              <a:t>；（忽略水倒不尽造成的误差）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华文中宋"/>
              </a:rPr>
              <a:t>D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中宋"/>
              </a:rPr>
              <a:t>、在量筒中盛适量水，记下水的体积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华文中宋"/>
              </a:rPr>
              <a:t>V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中宋"/>
              </a:rPr>
              <a:t>；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华文中宋"/>
              </a:rPr>
              <a:t>E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中宋"/>
              </a:rPr>
              <a:t>、用细线系住纪念币，使其浸没在量筒的水中，读出体积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华文中宋"/>
              </a:rPr>
              <a:t>V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华文中宋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华文中宋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中宋"/>
              </a:rPr>
              <a:t>密度表达式：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华文中宋"/>
              </a:rPr>
              <a:t>____________________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68360" y="112392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零刻度线处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780000" y="11239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平衡螺母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52360" y="220500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将另一只空烧杯放右盘并向其中加水，利用滴管使天平平衡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8720" y="321300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将烧杯里的水倒入量筒中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771640" y="5877000"/>
            <a:ext cx="482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Tahoma"/>
                <a:ea typeface="Tahoma"/>
              </a:rPr>
              <a:t>ρ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Tahoma"/>
              </a:rPr>
              <a:t>=</a:t>
            </a:r>
            <a:r>
              <a:rPr b="1" lang="el-GR" sz="2800" spc="-1" strike="noStrike">
                <a:solidFill>
                  <a:srgbClr val="ffff00"/>
                </a:solidFill>
                <a:latin typeface="Tahoma"/>
                <a:ea typeface="Tahoma"/>
              </a:rPr>
              <a:t>ρ</a:t>
            </a:r>
            <a:r>
              <a:rPr b="1" lang="zh-CN" sz="28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水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/(V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-   V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)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755640" y="184464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  <a:ea typeface="华文中宋"/>
              </a:rPr>
              <a:t>如果此时两个烧杯质量不相等，那么又该如何解决呢？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3095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  <a:ea typeface="华文中宋"/>
              </a:rPr>
              <a:t>思考：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6659640" y="4437000"/>
            <a:ext cx="15955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1T12:49:23Z</dcterms:created>
  <dc:creator/>
  <dc:description/>
  <cp:keywords/>
  <dc:language>en-US</dc:language>
  <cp:lastModifiedBy>User</cp:lastModifiedBy>
  <cp:lastPrinted>1899-12-30T00:00:00Z</cp:lastPrinted>
  <dcterms:modified xsi:type="dcterms:W3CDTF">2014-04-28T09:20:19Z</dcterms:modified>
  <cp:revision>46</cp:revision>
  <dc:subject/>
  <dc:title>  密度知识的应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