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CC5-F4CA-4AE6-992A-057E2931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E47-DD62-4F98-903B-FE9FCE78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F82-E89A-4C4B-AD88-DA05C515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47E-8426-4B82-B88C-DD85DF5C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CEA9-FEAE-4FBF-B497-68C022F6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7FC9-7E2A-4E60-BC88-7558A1C5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0979-A375-415A-A62C-F738BD38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0CBA-28BD-408D-8139-F5884B8F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A8D9-4C24-44EC-B037-A6117AAB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9CBE-8787-48C0-A5DE-45DD257E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7BF1-5D69-47EA-BFDA-6D4DBDFC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7F7-5D1B-4DC6-80EE-2D1261B1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B451-701F-402B-88DB-19D5DD65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A1D9-372B-4A36-9883-D33F5FA6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1203-01ED-4F5D-8203-DEBFDF45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3FC1-55EE-47AC-B06F-B4B40B6F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FE4B-C7B0-471B-A1F9-15756770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60758-D6A0-4A78-AE24-A4481975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FFCC8-B81E-4F4B-A2C8-1953E409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C4C37-5915-4801-89B1-BD34546A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BEAE8-B43F-4F35-A426-EB179CEE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36819-9AD2-4DE1-8D20-D1109681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F9E-37BF-41A2-89AC-8B40D98D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E9E51-7FC8-41D2-97E0-65F3EBA1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6603-B61F-4086-95B5-98F98FBC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70B5A-BA30-4D02-8B1B-A652E53D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7118B-97B2-4C7C-B814-078A27A1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4BE8-3DFE-4761-BF48-B249EC10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2F3FC-D731-49CD-AA15-76E6C27B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033A1-5019-44D2-BB80-75BCBC2C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E0CF5-4B8F-47ED-B97E-F1DF4506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3C0BD-958A-488F-AA42-FDFAABF6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E2BFA-46AB-4E59-87C1-7818BC2E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159-5F80-4636-84FE-6B67ACEF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5BFE1-71F8-4299-B85D-37EC0ADB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83F6D-ED73-495C-9C54-F6D5ABEC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BF0B7-1A20-4901-B2C2-A1CADDF7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41652-F251-4916-BF2E-BFCA1A04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89C6E-6AA3-4AE2-80AA-2D1F0295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BC116-F4C3-49B2-9B48-D43B67EC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B7D76-E0D6-4BCB-9A3D-E5E9BAB4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6BF99-F57D-44D4-A51F-FAEAEB8C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32E86-E016-4E3D-850D-6D339FDC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D35990-69FD-4E66-B8C7-41CBEF38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425D-12BB-4D4D-9357-09C23EE4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977BD5-0E59-4673-B18A-8EE76BAC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D2E43-E209-4585-8094-9E1317BB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B0608-1C7B-4345-BB11-DB893924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5491A-52E5-47B9-8114-8AE824C7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3B7FA-DEFF-470C-B50C-DE4389EB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23881-EAC8-4FEF-812B-5E73FCB1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019745-04B3-4069-B546-6F483AD8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A8DC0-10FC-4871-BEF6-F425C1FE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FB704-0748-40F8-BFF7-AE21F245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D70067-861A-4339-831B-6946A02E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C20-1523-4420-908C-CA05D090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802EFE-A4D1-46AA-82C4-B911047A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A9204-EFC8-424F-9D9B-EBE65B88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3C501-5B84-430C-A749-156BE99E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D4BA6-CE36-49EA-A76F-63C47932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871D8-E2C7-45B6-9291-0F7A35BE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CD578-E9C1-4B83-8E29-B679D0AF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EA1B5-E1D7-45DB-A9D6-D4C2F6C1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ED4F8-9D37-4E77-9952-E1263322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4E16C-D47C-44A1-8D81-1A7FB100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CE516-3DB5-466B-BB61-207A13AD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A62-7FC2-4163-BB79-8310A856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FB71C-9FBA-48C3-A1DB-C7C6DC2E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7E728-BF8F-43CE-925E-1C35494C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06B90-53B5-42A2-956D-782CC9BB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2D811-53C7-46C9-B681-61F43767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EB9A4-7CF0-427B-99C2-FBD172E8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4D05F-327F-41BF-866A-D46C42F5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84F50-5447-4728-8F16-EA99F56D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09438-3BB1-473A-89F4-BADBA6B3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D9DB8-BD4A-4C36-923D-A051249E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51BA2-231F-4501-805F-0B20BD77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A285-79BB-4D47-8A9A-2E441869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A3BE2-2877-4BFF-827C-2276366C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C420C-14A1-41B0-99E8-E184AAB5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97CCB-0E1C-4620-8849-2BD78536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34CFA-EA15-4C3D-BED9-308885D1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B10C4-32A4-4690-9D10-0AB17D0B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6C86-89E1-49D7-AA86-5CC0DB43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1BBB-70AF-489A-8FE8-33492B3AE9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F3D0-5109-4FC3-A33B-9F1EB5BFBD6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8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BD5A-2396-44D8-91B7-571D8769F40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D851-2732-4D2B-90C4-DB24AAEF6D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FF80-DB42-4C1A-8C23-4F575588D6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7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5A9C-3AD8-4DBE-A825-8FFE6A50CFF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1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2996-10B3-457D-B285-7D9D7BA8BA3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20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26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971640" y="1773360"/>
            <a:ext cx="88390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第六章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物质的物理属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836640"/>
            <a:ext cx="2349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0920" y="54936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单元复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68360" y="404640"/>
            <a:ext cx="8675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明用托盘天平测量铁块的质量，所用天平的标尺如图所示，最小砝码的质量与标尺最大刻度值相同．测量前，将天平放在水平桌面上，移动游码到标尺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刻度处，调节平衡螺母，使天平平衡．测量时右盘加入一定量的砝码后，天平的指针偏向左侧，这时铁块的质量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小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于）右盘中砝码的总质量．再加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砝码后，指针偏向右侧．接下来的操作是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直至天平平衡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0920" y="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df0b"/>
                </a:solidFill>
                <a:latin typeface="Times New Roman"/>
                <a:ea typeface="隶书"/>
              </a:rPr>
              <a:t>物体的质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33960" y="5826240"/>
            <a:ext cx="454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案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或“零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大于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镊子取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g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砝码放回砝码盒，再移动游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859280" y="5157720"/>
            <a:ext cx="4284720" cy="11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79520" y="639360"/>
            <a:ext cx="7927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托盘天平的使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使用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测量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平衡（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空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衡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把它放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桌面上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放在标尺左端的零刻度线处，调节横梁上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使横梁平衡 （注意左偏右调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067280" y="2781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水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84360" y="3357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游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00720" y="3789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平衡螺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．测量时调平衡（载物平衡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将被测物体轻放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盘上，估测物体的质量，将适当的砝码轻放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盘上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从大到小增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并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直到横梁恢复平衡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物体的质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右盘中砝码的总质量和游码所对的刻度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注意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用天平不能超出它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夹取砝码时要轻拿轻放，另外要保持天平的干燥、清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51640" y="6206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9640" y="1628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43280" y="2133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砝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55640" y="2708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游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19640" y="3789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示数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292720" y="4941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量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0920" y="5445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镊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035000" y="253080"/>
            <a:ext cx="7256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拓展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津）台秤是一种称量质量的工具。使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前，将台秤放在水平面上，游码置于零刻度，调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使秤杆水平平衡。某次称量情况如图所示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被称货物的质量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 k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360360" y="2421000"/>
            <a:ext cx="8783640" cy="36766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042920" y="633816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案：调零螺丝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1447920"/>
            <a:ext cx="9448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定义：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某种物质的物体，其质量与体积的比值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公式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       </a:t>
            </a:r>
            <a:r>
              <a:rPr b="1" lang="el-GR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ρ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m / V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单位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kg/m</a:t>
            </a:r>
            <a:r>
              <a:rPr b="1" lang="zh-CN" sz="6000" spc="-1" strike="noStrike" baseline="30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71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物质的密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38760" y="3645000"/>
            <a:ext cx="196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/cm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219640" y="5788080"/>
            <a:ext cx="1843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08000" y="4724280"/>
            <a:ext cx="8136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g/cm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009999"/>
                </a:solidFill>
                <a:latin typeface="Times New Roman"/>
              </a:rPr>
              <a:t>1.0×10</a:t>
            </a:r>
            <a:r>
              <a:rPr b="1" lang="en-US" sz="4400" spc="-1" strike="noStrike" baseline="30000">
                <a:solidFill>
                  <a:srgbClr val="009999"/>
                </a:solidFill>
                <a:latin typeface="Times New Roman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kg/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887840" y="475200"/>
            <a:ext cx="331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 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明同学阅读了下表后，归纳了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些结论，其中正确的是（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468360" y="1844640"/>
          <a:ext cx="8316720" cy="2631960"/>
        </p:xfrm>
        <a:graphic>
          <a:graphicData uri="http://schemas.openxmlformats.org/drawingml/2006/table">
            <a:tbl>
              <a:tblPr/>
              <a:tblGrid>
                <a:gridCol w="1596960"/>
                <a:gridCol w="1990800"/>
                <a:gridCol w="2238480"/>
                <a:gridCol w="2490480"/>
              </a:tblGrid>
              <a:tr h="525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℃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标准大气压下部分物质的密度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k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1" lang="zh-CN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.0×10</a:t>
                      </a:r>
                      <a:r>
                        <a:rPr b="1" lang="en-US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.9×10</a:t>
                      </a:r>
                      <a:r>
                        <a:rPr b="1" lang="en-US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6×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干松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×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酒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0.8×10</a:t>
                      </a:r>
                      <a:r>
                        <a:rPr b="1" lang="en-US" sz="2800" spc="-1" strike="noStrike" baseline="30000">
                          <a:solidFill>
                            <a:srgbClr val="009999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9×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煤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0.8×10</a:t>
                      </a:r>
                      <a:r>
                        <a:rPr b="1" lang="en-US" sz="2800" spc="-1" strike="noStrike" baseline="30000">
                          <a:solidFill>
                            <a:srgbClr val="009999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×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"/>
          <p:cNvSpPr/>
          <p:nvPr/>
        </p:nvSpPr>
        <p:spPr>
          <a:xfrm>
            <a:off x="324000" y="4724280"/>
            <a:ext cx="1321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不同物质的密度一定不同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固体物质的密度一定比液体物质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同种物质的密度一定相同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质量相同的实心铜块和铝块，铜块的体积较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35720" y="189000"/>
            <a:ext cx="549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58160" y="10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09480" y="82224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个敞口的盆中装满水，水的密度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_________kg/m</a:t>
            </a:r>
            <a:r>
              <a:rPr b="1" lang="zh-CN" sz="40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它表示的意思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__________________________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将它放在太阳下晒，水蒸发一部分后，剩余水的密度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______(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选择“变大”、“变小”、“不变”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58920" y="14986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1.0×10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87280" y="20750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每立方米水的质量为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1.0×10</a:t>
            </a:r>
            <a:r>
              <a:rPr b="1" lang="zh-CN" sz="36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千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00600" y="32288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不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" y="71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物质的密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46530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Times New Roman"/>
              </a:rPr>
              <a:t>密度是物质的一种物理属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28600" y="669960"/>
            <a:ext cx="89917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关于密度公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ρ=m/V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说法中正确的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物质的密度跟它的质量成正比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物质的密度跟它的体积成反比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物质的密度跟它的质量成正比，且跟它的体积成反比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物质密度跟它的质量、体积大小无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8600" y="71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物质的密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53341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物质的密度可以用质量除以体积进行计算，但物质的密度与质量和体积无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20920" y="13399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33520" y="990720"/>
            <a:ext cx="8145360" cy="42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密度的测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99cc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99cc00"/>
                </a:solidFill>
                <a:latin typeface="宋体"/>
              </a:rPr>
              <a:t>）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宋体"/>
                <a:hlinkClick r:id="rId1" action="ppaction://hlinksldjump"/>
              </a:rPr>
              <a:t>固体密度的测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99cc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99cc00"/>
                </a:solidFill>
                <a:latin typeface="宋体"/>
              </a:rPr>
              <a:t>）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宋体"/>
                <a:hlinkClick r:id="rId2" action="ppaction://hlinksldjump"/>
              </a:rPr>
              <a:t>液体密度的测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71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物质的密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429000" y="4572000"/>
            <a:ext cx="9907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1008000" cy="29541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3887640" cy="242244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240" y="-367200"/>
            <a:ext cx="8915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实验一、如何测固体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如小石块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密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43400" y="1981080"/>
            <a:ext cx="785880" cy="360360"/>
          </a:xfrm>
          <a:prstGeom prst="rightArrow">
            <a:avLst>
              <a:gd name="adj1" fmla="val 49778"/>
              <a:gd name="adj2" fmla="val 947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2280" y="4038480"/>
            <a:ext cx="768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用调好的天平测出石块的质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280" y="4572000"/>
            <a:ext cx="8915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量筒内倒入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宋体"/>
                <a:hlinkClick r:id="rId3" action="ppaction://hlinksldjump"/>
              </a:rPr>
              <a:t>适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水，测出水的体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52280" y="5105520"/>
            <a:ext cx="89154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将石块放入量筒中，读出水面到达刻度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477120" y="1925640"/>
            <a:ext cx="785520" cy="360360"/>
          </a:xfrm>
          <a:prstGeom prst="rightArrow">
            <a:avLst>
              <a:gd name="adj1" fmla="val 49778"/>
              <a:gd name="adj2" fmla="val 946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7391520" y="609480"/>
            <a:ext cx="1152360" cy="30243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280" y="3429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验步骤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" y="5943600"/>
            <a:ext cx="4114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石块的密度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" action="ppaction://hlinkshowjump?jump=previousslide"/>
          </p:cNvPr>
          <p:cNvSpPr/>
          <p:nvPr/>
        </p:nvSpPr>
        <p:spPr>
          <a:xfrm>
            <a:off x="7772400" y="61722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37800" y="5400"/>
                </a:lnTo>
                <a:lnTo>
                  <a:pt x="5400" y="5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37800" y="16200"/>
                </a:lnTo>
                <a:lnTo>
                  <a:pt x="37800" y="5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7800" y="16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43200" h="21600">
                <a:moveTo>
                  <a:pt x="17575" y="10800"/>
                </a:moveTo>
                <a:lnTo>
                  <a:pt x="25625" y="6775"/>
                </a:lnTo>
                <a:lnTo>
                  <a:pt x="25625" y="1482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35280" y="5807160"/>
            <a:ext cx="2432160" cy="10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35280" y="5807160"/>
            <a:ext cx="2432160" cy="10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376440" y="5796000"/>
            <a:ext cx="2617920" cy="1062720"/>
            <a:chOff x="3376440" y="5796000"/>
            <a:chExt cx="2617920" cy="1062720"/>
          </a:xfrm>
        </p:grpSpPr>
        <p:sp>
          <p:nvSpPr>
            <p:cNvPr id="478" name=""/>
            <p:cNvSpPr/>
            <p:nvPr/>
          </p:nvSpPr>
          <p:spPr>
            <a:xfrm>
              <a:off x="4292640" y="6299280"/>
              <a:ext cx="311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08680" y="6299280"/>
              <a:ext cx="98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44600" y="6599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1360" y="6599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64240" y="6383160"/>
              <a:ext cx="226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07240" y="6383160"/>
              <a:ext cx="226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71560" y="5796000"/>
              <a:ext cx="267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07040" y="6383160"/>
              <a:ext cx="226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18920" y="5796000"/>
              <a:ext cx="267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455080" y="6386400"/>
              <a:ext cx="1195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94400" y="607392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9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76440" y="6021360"/>
              <a:ext cx="979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000000"/>
                  </a:solidFill>
                  <a:latin typeface="Arial"/>
                </a:rPr>
                <a:t>ρ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708360" y="6093000"/>
            <a:ext cx="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84360" y="907920"/>
            <a:ext cx="845964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考试要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知道质量的概念、单位，质量不随温度、形状、状态、位置而变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知道常见物体的大致质量和数量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能使用托盘天平测物体（液体和固体）的质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理解密度的概念，单位，知道密度是物质的一种属性，不随体积和质量而改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能测量固体和液体的密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872640" y="6271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适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19652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注入量筒的水至少能浸没放入其中的待测固体，且待测固体浸没在水中后，液面位置应低于量筒的最大刻度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5724360" y="914400"/>
            <a:ext cx="3311640" cy="23590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73080" y="838080"/>
            <a:ext cx="3635280" cy="24782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3780000" y="1752480"/>
            <a:ext cx="504720" cy="366840"/>
          </a:xfrm>
          <a:prstGeom prst="rightArrow">
            <a:avLst>
              <a:gd name="adj1" fmla="val 50000"/>
              <a:gd name="adj2" fmla="val 3439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57800" y="1828800"/>
            <a:ext cx="390600" cy="290520"/>
          </a:xfrm>
          <a:prstGeom prst="rightArrow">
            <a:avLst>
              <a:gd name="adj1" fmla="val 50000"/>
              <a:gd name="adj2" fmla="val 3361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4356000" y="609480"/>
            <a:ext cx="868320" cy="30243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228600" y="33480"/>
            <a:ext cx="8381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实验一、如何测液体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牛奶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密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52280" y="4038480"/>
            <a:ext cx="8991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用调好的天平测出烧杯和牛奶的总质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280" y="4572000"/>
            <a:ext cx="8991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将部分牛奶倒入量筒，测出牛奶的体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280" y="5105520"/>
            <a:ext cx="89154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用天平测出烧杯和剩余牛奶的质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2280" y="3429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验步骤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5943600"/>
            <a:ext cx="4114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牛奶的密度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33920" y="5791320"/>
            <a:ext cx="3657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08480" y="6141960"/>
            <a:ext cx="56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6093000"/>
            <a:ext cx="433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555000" y="5911920"/>
            <a:ext cx="3609000" cy="926640"/>
            <a:chOff x="3555000" y="5911920"/>
            <a:chExt cx="3609000" cy="926640"/>
          </a:xfrm>
        </p:grpSpPr>
        <p:grpSp>
          <p:nvGrpSpPr>
            <p:cNvPr id="508" name=""/>
            <p:cNvGrpSpPr/>
            <p:nvPr/>
          </p:nvGrpSpPr>
          <p:grpSpPr>
            <a:xfrm>
              <a:off x="3709440" y="5911920"/>
              <a:ext cx="3454560" cy="926640"/>
              <a:chOff x="3709440" y="5911920"/>
              <a:chExt cx="3454560" cy="92664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3709440" y="5911920"/>
                <a:ext cx="3348360" cy="926640"/>
                <a:chOff x="3709440" y="5911920"/>
                <a:chExt cx="3348360" cy="92664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6224760" y="6396480"/>
                  <a:ext cx="20484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900" spc="-1" strike="noStrike">
                      <a:solidFill>
                        <a:srgbClr val="000000"/>
                      </a:solidFill>
                      <a:latin typeface="宋体"/>
                    </a:rPr>
                    <a:t>V</a:t>
                  </a:r>
                  <a:endParaRPr b="0" lang="en-US" sz="2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582880" y="5919120"/>
                  <a:ext cx="666360" cy="50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900" spc="-1" strike="noStrike">
                      <a:solidFill>
                        <a:srgbClr val="000000"/>
                      </a:solidFill>
                      <a:latin typeface="宋体"/>
                    </a:rPr>
                    <a:t>m</a:t>
                  </a:r>
                  <a:r>
                    <a:rPr b="0" i="1" lang="en-US" sz="2900" spc="-1" strike="noStrike" baseline="-25000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r>
                    <a:rPr b="0" i="1" lang="zh-CN" sz="1800" spc="-1" strike="noStrike">
                      <a:solidFill>
                        <a:srgbClr val="000000"/>
                      </a:solidFill>
                      <a:latin typeface="宋体"/>
                    </a:rPr>
                    <a:t>－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557960" y="6396480"/>
                  <a:ext cx="20484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900" spc="-1" strike="noStrike">
                      <a:solidFill>
                        <a:srgbClr val="000000"/>
                      </a:solidFill>
                      <a:latin typeface="宋体"/>
                    </a:rPr>
                    <a:t>V</a:t>
                  </a:r>
                  <a:endParaRPr b="0" lang="en-US" sz="2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4534560" y="5919120"/>
                  <a:ext cx="32364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900" spc="-1" strike="noStrike">
                      <a:solidFill>
                        <a:srgbClr val="000000"/>
                      </a:solidFill>
                      <a:latin typeface="宋体"/>
                    </a:rPr>
                    <a:t>m</a:t>
                  </a:r>
                  <a:endParaRPr b="0" lang="en-US" sz="2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047840" y="6142320"/>
                  <a:ext cx="22176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900" spc="-1" strike="noStrike">
                      <a:solidFill>
                        <a:srgbClr val="000000"/>
                      </a:solidFill>
                      <a:latin typeface="宋体"/>
                    </a:rPr>
                    <a:t>＝</a:t>
                  </a:r>
                  <a:endParaRPr b="0" lang="en-US" sz="2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709440" y="6093000"/>
                  <a:ext cx="142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616800" y="5911920"/>
                  <a:ext cx="441000" cy="50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900" spc="-1" strike="noStrike">
                      <a:solidFill>
                        <a:srgbClr val="000000"/>
                      </a:solidFill>
                      <a:latin typeface="宋体"/>
                    </a:rPr>
                    <a:t>m</a:t>
                  </a:r>
                  <a:r>
                    <a:rPr b="0" i="1" lang="en-US" sz="2900" spc="-1" strike="noStrike" baseline="-25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2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7" name=""/>
              <p:cNvSpPr/>
              <p:nvPr/>
            </p:nvSpPr>
            <p:spPr>
              <a:xfrm>
                <a:off x="4565880" y="6350040"/>
                <a:ext cx="4716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654160" y="6350040"/>
                <a:ext cx="1509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3555000" y="602136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000000"/>
                  </a:solidFill>
                  <a:latin typeface="宋体"/>
                </a:rPr>
                <a:t>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353240" y="1080"/>
            <a:ext cx="6307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 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红同学用天平和量杯测石块的密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首先她将天平放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工作台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将游码对准零刻度线，然后调节天平横粱平衡时发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针偏向分度盘的右侧如图（甲），此时应将平衡螺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选填“左”或“右”）调节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调好的天平测出小石块的质量，天平平衡时右盘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砝码质量和游码示数如图（乙），则小石块质量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再用量杯和水测出石块体积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c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计算出小石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密度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kg/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xjh2011-6-2516:43:04"/>
          <p:cNvGrpSpPr/>
          <p:nvPr/>
        </p:nvGrpSpPr>
        <p:grpSpPr>
          <a:xfrm>
            <a:off x="2916360" y="4005360"/>
            <a:ext cx="6048360" cy="2231640"/>
            <a:chOff x="2916360" y="4005360"/>
            <a:chExt cx="6048360" cy="2231640"/>
          </a:xfrm>
        </p:grpSpPr>
        <p:grpSp>
          <p:nvGrpSpPr>
            <p:cNvPr id="522" name="xjh2011-6-2516:42:34"/>
            <p:cNvGrpSpPr/>
            <p:nvPr/>
          </p:nvGrpSpPr>
          <p:grpSpPr>
            <a:xfrm>
              <a:off x="3560040" y="5775840"/>
              <a:ext cx="3808440" cy="461160"/>
              <a:chOff x="3560040" y="5775840"/>
              <a:chExt cx="3808440" cy="461160"/>
            </a:xfrm>
          </p:grpSpPr>
          <p:sp>
            <p:nvSpPr>
              <p:cNvPr id="523" name=""/>
              <p:cNvSpPr/>
              <p:nvPr/>
            </p:nvSpPr>
            <p:spPr>
              <a:xfrm>
                <a:off x="3560040" y="5794560"/>
                <a:ext cx="48276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86080" y="5775840"/>
                <a:ext cx="4824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5" name="" descr=""/>
            <p:cNvPicPr/>
            <p:nvPr/>
          </p:nvPicPr>
          <p:blipFill>
            <a:blip r:embed="rId1"/>
            <a:stretch/>
          </p:blipFill>
          <p:spPr>
            <a:xfrm>
              <a:off x="2916360" y="4005360"/>
              <a:ext cx="6048360" cy="178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6" name=""/>
          <p:cNvSpPr/>
          <p:nvPr/>
        </p:nvSpPr>
        <p:spPr>
          <a:xfrm>
            <a:off x="1069920" y="5875560"/>
            <a:ext cx="567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答案：（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水平   （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左   （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2.4   2.62×10</a:t>
            </a:r>
            <a:r>
              <a:rPr b="0" lang="zh-CN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492360" y="3027240"/>
            <a:ext cx="5651640" cy="38307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276480" y="5227920"/>
            <a:ext cx="353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水平  零刻度线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2)106.4    (3)30    (4)1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 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天平和量筒测量酱油的密度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将天平放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桌面上，把游码放在标尺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调节天平平衡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用天平测得烧杯和酱油的总质量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0 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显示的是将烧杯中一部分酱油倒入量筒后，烧杯和剩余酱油的总质量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显示的是从烧杯中倒入量筒内的酱油的体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V=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m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酱油的密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m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87280" y="404640"/>
            <a:ext cx="88567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拓展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天平和量筒测量酱油的密度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将天平放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水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桌面上，把游码放在标尺的零刻度处，调节天平平衡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用天平测得空烧杯质量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用天平测出烧杯和酱油的总质量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将烧杯酱油全部倒入量筒后，测出酱油的体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酱油的密度为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m2-m1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/v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39640" y="486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分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由于量筒内壁会沾有酱油，会导致酱油的体积偏小，酱油的密度偏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549360"/>
            <a:ext cx="91090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拓展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天平和量筒测量酱油的密度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将天平放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水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桌面上，把游码放在标尺的零刻度处，调节天平平衡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将烧杯酱油倒入量筒后，测出酱油的体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用天平测得空烧杯质量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将酱油倒入烧杯中，用天平测出烧杯和酱油的总质量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酱油的密度为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m2-m1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/v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640" y="486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分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由于量筒内壁会沾有酱油，会导致酱油的质量偏小，酱油的密度偏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2760" y="529920"/>
            <a:ext cx="75531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物质的其他物理属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23640" y="16761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硬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物质软硬程度的特性称为硬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物质的物理属性包括：状态，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硬度，密度，比热，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透明度，导电性，导热性，磁性，弹性，范性，颜色，气味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2050920" y="1125360"/>
            <a:ext cx="4959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再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-181080" y="4819680"/>
            <a:ext cx="972180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2280" y="304812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物质的物理属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56000" y="1700280"/>
            <a:ext cx="2971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物质的密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7680" y="4495680"/>
            <a:ext cx="4832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物质的其他物理属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1913040"/>
            <a:ext cx="380880" cy="3047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3" action="ppaction://hlinksldjump"/>
          </p:cNvPr>
          <p:cNvSpPr/>
          <p:nvPr/>
        </p:nvSpPr>
        <p:spPr>
          <a:xfrm>
            <a:off x="304920" y="91440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物体的质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08040" y="558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83240" y="-1176840"/>
            <a:ext cx="6247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一块铁块的质量会发生变化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情况是（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将它熔化成铁水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磨掉铁块一个角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把它轧成薄铁片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从地球运到月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65080" y="9079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1840" y="1687680"/>
            <a:ext cx="49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什么是物体的质量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" action="ppaction://hlinkshowjump?jump=nextslide"/>
          </p:cNvPr>
          <p:cNvSpPr/>
          <p:nvPr/>
        </p:nvSpPr>
        <p:spPr>
          <a:xfrm>
            <a:off x="4788000" y="162864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" w="21600" h="27024">
                <a:moveTo>
                  <a:pt x="3794" y="6505"/>
                </a:moveTo>
                <a:lnTo>
                  <a:pt x="17806" y="13512"/>
                </a:lnTo>
                <a:lnTo>
                  <a:pt x="3794" y="205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1" action="ppaction://hlinksldjump"/>
          </p:cNvPr>
          <p:cNvSpPr/>
          <p:nvPr/>
        </p:nvSpPr>
        <p:spPr>
          <a:xfrm>
            <a:off x="7380360" y="5157720"/>
            <a:ext cx="720720" cy="7542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54200"/>
              <a:gd name="textAreaBottom" fmla="*/ 707760 h 754200"/>
            </a:gdLst>
            <a:ahLst/>
            <a:rect l="textAreaLeft" t="textAreaTop" r="textAreaRight" b="textAreaBottom"/>
            <a:pathLst>
              <a:path w="21600" h="22603">
                <a:moveTo>
                  <a:pt x="0" y="0"/>
                </a:moveTo>
                <a:lnTo>
                  <a:pt x="21600" y="0"/>
                </a:lnTo>
                <a:lnTo>
                  <a:pt x="21600" y="22603"/>
                </a:lnTo>
                <a:lnTo>
                  <a:pt x="0" y="22603"/>
                </a:lnTo>
                <a:close/>
              </a:path>
              <a:path fill="lightenLess" w="21600" h="226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3">
                <a:moveTo>
                  <a:pt x="21600" y="0"/>
                </a:moveTo>
                <a:lnTo>
                  <a:pt x="21600" y="22603"/>
                </a:lnTo>
                <a:lnTo>
                  <a:pt x="20200" y="21203"/>
                </a:lnTo>
                <a:lnTo>
                  <a:pt x="20200" y="1400"/>
                </a:lnTo>
                <a:close/>
              </a:path>
              <a:path fill="darkenLess" w="21600" h="22603">
                <a:moveTo>
                  <a:pt x="21600" y="22603"/>
                </a:moveTo>
                <a:lnTo>
                  <a:pt x="0" y="22603"/>
                </a:lnTo>
                <a:lnTo>
                  <a:pt x="1400" y="21203"/>
                </a:lnTo>
                <a:lnTo>
                  <a:pt x="20200" y="21203"/>
                </a:lnTo>
                <a:close/>
              </a:path>
              <a:path fill="lighten" w="21600" h="22603">
                <a:moveTo>
                  <a:pt x="0" y="226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3"/>
                </a:lnTo>
                <a:close/>
              </a:path>
              <a:path fill="darken" w="21600" h="22603">
                <a:moveTo>
                  <a:pt x="3794" y="4295"/>
                </a:moveTo>
                <a:lnTo>
                  <a:pt x="17806" y="11301"/>
                </a:lnTo>
                <a:lnTo>
                  <a:pt x="3794" y="183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91560" y="71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df0b"/>
                </a:solidFill>
                <a:latin typeface="Times New Roman"/>
                <a:ea typeface="隶书"/>
              </a:rPr>
              <a:t>物体的质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838080"/>
            <a:ext cx="843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质量：物体所含物质的多少</a:t>
            </a:r>
            <a:r>
              <a:rPr b="0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4572000"/>
            <a:ext cx="719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质量是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物体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一种物理属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0120" y="26827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随物体的＿＿．＿＿．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_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改变而改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324480" y="259092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地理位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25909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状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25909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形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previousslide"/>
          </p:cNvPr>
          <p:cNvSpPr/>
          <p:nvPr/>
        </p:nvSpPr>
        <p:spPr>
          <a:xfrm>
            <a:off x="7812000" y="580536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10806"/>
                </a:moveTo>
                <a:lnTo>
                  <a:pt x="17806" y="3800"/>
                </a:lnTo>
                <a:lnTo>
                  <a:pt x="17806" y="178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523880" y="2666880"/>
            <a:ext cx="495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t     =    10</a:t>
            </a:r>
            <a:r>
              <a:rPr b="1" lang="en-US" sz="5400" spc="-1" strike="noStrike" baseline="24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kg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kg  =    10</a:t>
            </a:r>
            <a:r>
              <a:rPr b="1" lang="en-US" sz="5400" spc="-1" strike="noStrike" baseline="24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g    =    10</a:t>
            </a:r>
            <a:r>
              <a:rPr b="1" lang="en-US" sz="5400" spc="-1" strike="noStrike" baseline="24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13716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国际单位：千克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(k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71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df0b"/>
                </a:solidFill>
                <a:latin typeface="Times New Roman"/>
                <a:ea typeface="隶书"/>
              </a:rPr>
              <a:t>物体的质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438920" y="1279440"/>
            <a:ext cx="5619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.2kg   =   _______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0 g     =    ________k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  t       =    __________k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3200400"/>
            <a:ext cx="8142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拓展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质量为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5×10</a:t>
            </a:r>
            <a:r>
              <a:rPr b="1" lang="zh-CN" sz="4000" spc="-1" strike="noStrike" baseline="30000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m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物体，可能是下列中的  （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头大象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只苹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台电视机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D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只蚂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物体的质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85440" y="11253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38000" y="188928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10200" y="2498760"/>
            <a:ext cx="20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×1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30040" y="5715000"/>
            <a:ext cx="530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939"/>
                </a:solidFill>
                <a:latin typeface="宋体"/>
              </a:rPr>
              <a:t>1.5×10</a:t>
            </a:r>
            <a:r>
              <a:rPr b="1" lang="zh-CN" sz="3200" spc="-1" strike="noStrike" baseline="30000">
                <a:solidFill>
                  <a:srgbClr val="ff3939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3939"/>
                </a:solidFill>
                <a:latin typeface="宋体"/>
              </a:rPr>
              <a:t>mg</a:t>
            </a:r>
            <a:r>
              <a:rPr b="0" lang="zh-CN" sz="1800" spc="-1" strike="noStrike">
                <a:solidFill>
                  <a:srgbClr val="ff393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939"/>
                </a:solidFill>
                <a:latin typeface="Times New Roman"/>
              </a:rPr>
              <a:t>=150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939"/>
                </a:solidFill>
                <a:latin typeface="Times New Roman"/>
              </a:rPr>
              <a:t>换算到我们所熟悉的单位，再做质量大小的估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49720" y="374796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3720" y="501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㈠单位的换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28600" y="71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df0b"/>
                </a:solidFill>
                <a:latin typeface="Times New Roman"/>
                <a:ea typeface="隶书"/>
              </a:rPr>
              <a:t>物体的质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22240" y="85392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估测物体的质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11960" y="1542960"/>
            <a:ext cx="33976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张邮票的质量大约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50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个苹果的质量大约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50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本物理书的质量大约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0.25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枚大头针的质量 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80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元硬币的质量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0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条鲸鱼的质量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20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659200" y="2057400"/>
            <a:ext cx="2833920" cy="4056120"/>
            <a:chOff x="5659200" y="2057400"/>
            <a:chExt cx="2833920" cy="4056120"/>
          </a:xfrm>
        </p:grpSpPr>
        <p:sp>
          <p:nvSpPr>
            <p:cNvPr id="404" name=""/>
            <p:cNvSpPr/>
            <p:nvPr/>
          </p:nvSpPr>
          <p:spPr>
            <a:xfrm>
              <a:off x="6783840" y="2057400"/>
              <a:ext cx="857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m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316640" y="2743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72400" y="35053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k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26640" y="541008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59200" y="4724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50680" y="4175280"/>
              <a:ext cx="857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m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-76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df0b"/>
                </a:solidFill>
                <a:latin typeface="Times New Roman"/>
                <a:ea typeface="隶书"/>
              </a:rPr>
              <a:t>物体的质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66480" y="457200"/>
            <a:ext cx="196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实验室测量工具—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92160" y="404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托盘天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5105520" y="3046320"/>
            <a:ext cx="3962160" cy="35816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304920" y="106524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测量前调节天平平衡时，指针如图所示，则我们应该如何调节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2205000"/>
            <a:ext cx="4648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在测量过程中出现这种情况那又该如何处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259240" y="1773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将平衡螺母向左调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85080" y="350028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减砝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或将游码向左移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08360" y="4437000"/>
            <a:ext cx="31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加上最小砝码后，发现指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终静止在如图甲所示的位置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接下去的操作应是 ？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62640" y="5952600"/>
            <a:ext cx="26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拿去最小砝码并移动游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两点均答到位可得分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4:59:03Z</dcterms:created>
  <dc:creator/>
  <dc:description/>
  <dc:language>en-US</dc:language>
  <cp:lastModifiedBy>lenovo</cp:lastModifiedBy>
  <dcterms:modified xsi:type="dcterms:W3CDTF">2014-10-11T03:55:23Z</dcterms:modified>
  <cp:revision>71</cp:revision>
  <dc:subject/>
  <dc:title>PowerPoint 演示文稿</dc:title>
</cp:coreProperties>
</file>