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D91-57C0-41EA-90A2-4ED8445B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F0A-9B89-41A7-B5B8-78769EA9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A6E-BF66-479A-811A-DA64F10C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A42-720C-41B0-A0E5-C374D09B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8C8-3C4C-462B-98EA-A962174D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C4D-93BC-4664-96E4-502F110B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A7B-9522-459D-BE44-0D27D5F5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7DF-482F-460F-9CDD-664ED4A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DEF-0204-46C5-B509-894FA8FA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167-06E3-48FF-8A04-6B586360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65D-E819-412F-912D-3FCAF5A0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EB4-AD4B-4DAC-BE2D-BF7BFDF4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EB5B-8996-4090-9FF5-A79691792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6-&#35270;&#39057;-04-&#27979;&#37327;&#19968;&#26522;&#22238;&#24418;&#38024;&#30340;&#36136;&#37327;.fl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二节、用天平测物体的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测量一枚大头针的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2421000"/>
          <a:ext cx="8229600" cy="3744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头针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质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枚大头针的质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708360" y="1628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ShockwaveFlash1"/>
          <p:cNvGraphicFramePr/>
          <p:nvPr/>
        </p:nvGraphicFramePr>
        <p:xfrm>
          <a:off x="250920" y="907920"/>
          <a:ext cx="84247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424720" cy="424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测量一枚大头针的质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测量水的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ShockwaveFlash1"/>
          <p:cNvGraphicFramePr/>
          <p:nvPr/>
        </p:nvGraphicFramePr>
        <p:xfrm>
          <a:off x="539640" y="1197000"/>
          <a:ext cx="79930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7993080" cy="417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用天平测量液体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ShockwaveFlash1"/>
          <p:cNvGraphicFramePr/>
          <p:nvPr/>
        </p:nvGraphicFramePr>
        <p:xfrm>
          <a:off x="395280" y="907920"/>
          <a:ext cx="83534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7920"/>
                    <a:ext cx="8353440" cy="439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8428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测量一枚回形针的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64040" y="3260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6:52:37Z</dcterms:created>
  <dc:creator/>
  <dc:description/>
  <dc:language>en-US</dc:language>
  <cp:lastModifiedBy>lenovo</cp:lastModifiedBy>
  <dcterms:modified xsi:type="dcterms:W3CDTF">2014-10-11T03:55:45Z</dcterms:modified>
  <cp:revision>21</cp:revision>
  <dc:subject/>
  <dc:title>二、用天平测物体的质量</dc:title>
</cp:coreProperties>
</file>