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0.gif" ContentType="image/gif"/>
  <Override PartName="/ppt/media/image13.png" ContentType="image/png"/>
  <Override PartName="/ppt/media/image54.jpeg" ContentType="image/jpeg"/>
  <Override PartName="/ppt/media/image19.jpeg" ContentType="image/jpeg"/>
  <Override PartName="/ppt/media/image25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gif" ContentType="image/gif"/>
  <Override PartName="/ppt/media/image41.png" ContentType="image/png"/>
  <Override PartName="/ppt/media/image53.jpeg" ContentType="image/jpeg"/>
  <Override PartName="/ppt/media/image43.png" ContentType="image/png"/>
  <Override PartName="/ppt/media/image47.jpeg" ContentType="image/jpeg"/>
  <Override PartName="/ppt/media/image52.jpeg" ContentType="image/jpeg"/>
  <Override PartName="/ppt/media/image33.png" ContentType="image/png"/>
  <Override PartName="/ppt/media/image55.png" ContentType="image/png"/>
  <Override PartName="/ppt/media/image35.png" ContentType="image/png"/>
  <Override PartName="/ppt/media/image34.png" ContentType="image/png"/>
  <Override PartName="/ppt/media/image32.png" ContentType="image/png"/>
  <Override PartName="/ppt/media/image31.png" ContentType="image/png"/>
  <Override PartName="/ppt/media/image49.png" ContentType="image/png"/>
  <Override PartName="/ppt/media/image12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51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7.jpeg" ContentType="image/jpeg"/>
  <Override PartName="/ppt/media/image50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2B4-3EA9-42C0-8319-70E36826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9FA-825B-429C-8609-892B6168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23A7C-6CF5-4650-8067-6986F37E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1BDE1-37D4-4057-B1F5-EED26C07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4A3DC-18FB-456B-98AE-45F10DD3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F2C4A-C92E-45A6-9156-42609188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0EF51-DA06-48E7-889D-6392A727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D9577-97C5-4D1C-A34A-4DF72B67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5B227-B36A-4499-B728-6E0052AA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D6F3D-D91F-4EC8-8809-FA0BADF3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818F8-7C79-4871-9E12-91016EA5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45A6F-CC7B-428B-B9DA-DE37DA56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F48-A510-4832-892A-8B4CF52F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FF63E-EEF4-4715-9B34-F6B5DA5C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8F34F-BD37-491A-A045-CB95E57A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1F7D7-B6AF-491A-BF3F-CA5868A8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59661-D93C-4794-8363-1E116033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EFAD5-C015-4DB9-AC96-BCBD24A6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28624-7414-4199-9FA2-DB9C8590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5BE61-47E7-4D66-9032-EB1DD3B8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DA254-28A0-45EF-BD13-8C3F9665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8597B-0374-4B94-AC81-3389718B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F57A3-4E2D-46AD-96A9-D1462049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332-5169-467A-B3E8-CC81FD4C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CFA4E-1ECF-4D0E-A3AA-FF0707FC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F072D-BEA8-43D9-B875-2BEB7297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98A33-114B-4AAE-99A7-A323BDFA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4BB02-53C4-43A6-A85E-2FCDD46B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953B0-2289-4104-B6F6-3573A0D7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9CDB7-5D15-40B3-BBFB-75F43608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3339F-F082-4722-B605-D98D378C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17B41-226A-4DAC-BDC7-7C8BBBF5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A7D02-E0AE-425A-BD77-F268D87B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217E0-ABD6-47BB-ADD6-8BD0B5EF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7EBC-19A1-4C50-B190-7F5F36DB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5A0DE-7F80-4EE6-AC3C-543C8B7C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76709-2C74-4072-9758-F4E24EE4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1546D-A6BE-4178-8010-D3FB40B3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AB43B-168E-4F4E-AB89-CD101D5E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1A7F5-9C73-455D-9500-31C6E9D9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03403-48F3-40A6-8372-6B03C159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2EA13-819C-4560-B4BF-10B86190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6D53D-EA11-4DB3-A708-94EC2ED9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14CD6-DA60-4A45-8938-56752521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02FB3-9901-4B4D-99F6-1E0B085B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B9AF-783D-45C2-9E11-525017BA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C71C3-9E21-4271-A678-582AAF1B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84E64-247D-4B38-A7F1-44F584A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86D17-E5C8-4889-BADC-443EC35D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119D5-C9AC-49DB-B76C-6E0B1617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704C5-C9BD-4D5E-9313-A45CC14D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98B89-4890-4813-B533-98A45E87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B096D-521D-4C03-888B-5070D3B8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C4CDC-5FEA-4946-BC53-17FABD1A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CC829-2B63-4440-A7E3-3EDA7A15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C3404-502D-4692-A491-300D6198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09F1-632C-4EEE-95BF-8D79B7B1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7AD02-C286-4BDB-8A3C-6877F6D9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976DC-493A-4325-A824-ECCDBC26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1C14F-73B3-4D84-9B55-20A8CE18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7244F-9AB3-4DFC-810B-4C618EC8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F5071-46EC-4407-B3F5-65C661EF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819CE-03C7-4B0B-9C96-EA7F6B3D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26706-0B9D-41EE-B93B-D3E699A3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D7BC0-6E19-4403-AC3B-8C2D91E8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0BC41-49A2-47DB-BA21-DEC90E8D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BE62E-73CB-474D-9709-C3246509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7A4D-849E-40CA-8718-89268474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A0227-7D10-46AC-A539-A17C8968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9816B-A197-4CD4-B2E8-3F7F25A9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46CDF-E2A2-4B48-B09F-30E896D1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EC300-E35C-41E0-9540-60BBF679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9DDA1-9DF7-403E-9F3E-17A19516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E71D2-F621-4636-90F3-2E6B2636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60392-92D6-48F3-933E-C2357256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734C5-7D5F-4ED9-BC06-637C7AC6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94C99-842D-4D2B-BE61-78CB950C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8CF04-66CE-4A62-BE33-04248707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A35D-64D7-409E-859D-77CE3F3B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5DC91-38AE-4307-AFC9-CF4ADFCA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B0E10-28ED-45FF-98BC-D2208551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486DDB-22CC-46E6-835B-8B95F070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1CA56-A7E5-4A2C-9D55-413BCFBD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8692F5-8D82-4539-A8C7-4AD90BDA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9128D4-A069-453D-B47C-94318E03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2BE44-BD76-4AAB-8BE1-9C5920FB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536BE-5209-4712-BA9D-967B0276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2D45A-DDA2-44F4-BA6E-DE48EE64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44ECC1-E27F-4419-A0DF-EFCFD994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5CC5-6697-4EC8-B278-4DF14171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32DCB-90C7-4463-9524-53FDFF68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22E2A5-6455-44C7-9950-831AA06F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8E5DEF-F35B-4232-9275-6DC91B9B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9EA2F-0896-4D36-BFBA-DF548B0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556E5-47DA-4695-B9CE-0CD6F91E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352CA9-4C8B-4DEF-BD9B-C42FAC04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76BE6-DC8E-47DD-A299-E93CFDD7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42BE7-BF30-4A26-8983-04BB75D4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E6E332-29A7-421A-8674-D8AB7C95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DEA05-C6CB-4278-A35C-C4B7BFE7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72AE-FE8C-42C8-8791-12CEE668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4E890-53E1-49D0-A004-9063F7D1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DA25C-B09B-4B56-B7AB-50DF10CC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951C7-BEDC-41F8-805B-F1B5C7E5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644D4-EB18-4476-9C33-0A890F2C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7E915D-3F62-4B28-84AA-91642383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1E2FE1-B729-405F-B7E0-542EEEF5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90E5B0-6BEF-44FD-B11E-78B7C1DD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8D960-4450-44DE-A132-CDEB1EDE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A20D7-EEDD-4522-B911-E5351ABC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F801E-F61A-4E27-A0B9-BACD12F9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487-F96D-4E14-8016-85FD58A9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76C9-39D4-4E50-A286-8285C982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0F91D8-F433-4544-AC06-4A73840F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CE580-FC0C-495D-A1E6-87B20618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8936D-5081-471F-88DF-EBB33DC3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BCB1F0-0810-4E18-9A09-3E09A02D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41D2D-4886-4B2A-8DC5-FA15A5A1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12549-44A2-4A5D-BD1C-2A68CA97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58DD0-4B98-433F-9BA4-ACAA7D4E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8E365-2A8B-4F7B-B757-E8FF8221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3405E1-DF8B-40DB-BC07-FB001D4D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62E32-12A7-44AC-B5A2-C660E3FE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C20A-C742-4A02-9347-F327761B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69F6F-7789-4637-A6A0-A255AB8B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6F399-9A2D-4D94-A405-30684B7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38247E-72F2-49F3-8211-281E72EE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3178EC-A04B-4F44-987B-0327D55B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FCEFBE-B0D0-4EBD-81EA-6C1281DC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68A0F1-E36D-4D30-A227-A70DB2E8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45302B-A604-4F45-9F05-3D429623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4338D6-990F-47E8-80FA-9820AEB8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77CEC-1BDA-418F-AAD1-18BC33D2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3AEC06-137C-425F-9127-01E196DD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6798-2177-4864-B3F9-54FB59C2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5FA87A-EF1F-4CF4-8B3E-FB773771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898734-4E1D-4DFE-B6DB-F656C415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079E42-DAE5-4392-893B-F7F10FC8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10AB37-BEDC-4172-8E98-1A954C4A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58639C-0ED3-4227-805A-515D6D36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FCAEC-64C1-4638-AA2E-D33C3F64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6A0021-86D0-43CC-98C2-F97A6976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C6B5F-BD13-41FA-B486-A1BE4FCD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0C909-432B-4521-846E-1B2A6294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DDF7E4-C84B-4017-95E3-71BB3D7F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E7E5-F58D-4D6D-A691-5F67C82E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44287-AADA-4939-9A48-B518D15B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A517D-8F08-4765-8B24-01615876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1FB2B7-142A-43B6-A15E-F4701E6F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26909D-DA83-4BEE-B4BA-E16F00B0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F658D-60EB-4C8E-8B73-71ED101C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77A092-5291-4455-9B29-159D9917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9C944D-76FD-4D63-81FB-3ED679B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46B118-4059-476F-9C76-02CDB659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305759-1BFF-4DD7-ABE8-1046AF3A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9CA3AC-0825-4F47-9C23-DFF265E2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E308-E8AE-4314-9AFC-D2C775AF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13C927-FEF2-424C-8A71-DB9B59EC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D1754-F8FD-4B64-9798-3023CEF7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B4123-B226-4E4E-B778-73DA28D1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90D2-CA0F-4141-B8D4-075E727A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8EDDD-604E-4D5C-B6EC-3282BC00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A2E7-F2A6-407B-AD0D-FFB41DBD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F4F-F8F6-46B8-9F96-499A7F35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1D8D-6D5B-4E16-A2C8-E88CB000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0E35-2605-4E69-9E11-B8B8025B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8FEA-F3E9-4D1C-BA08-F1040E83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8A3A-FBDA-4106-86C6-E20B4D08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90D1-F7AB-447F-9A98-43D0DF2D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100F-9B58-47EF-A3F3-B872E373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02BD-B83E-4A91-B69E-A336426A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04AF-70E9-49A7-A30A-AA83EA71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3398-6F7A-44A8-9F91-9FD1CFE9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76F3F-C37E-4548-8D62-F7413A48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383-376D-4BFB-87A3-22BC9824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3ACA4-C3CD-4546-BBDA-0E73BBCD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CB6DA-E9E3-4DB0-81F2-D5B1CBB4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A134A-DAED-4B86-8976-D468DB29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8F13E-54F6-4B85-923E-2AE2C4E8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6BD95-CE81-40C3-B6CC-43423841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3219-6849-43C7-A98C-A5F7141D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876F1-89E2-4B53-98A1-388D53FD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6300-E21B-46DC-8A9F-A0FB58EF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84E60-4394-498D-ACD7-66C1D7D7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3EE20-4A9A-479F-A54E-102B7D99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DE0-3F94-4C08-86CC-81DBD841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80AFE-C30C-4249-8E5D-D88E7B3D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81B1B-B893-4EC1-8F06-36E5A8C6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18ABA-7B09-4E6F-AC6E-70752748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7D671-1668-40A3-9B1B-DFFFA715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4D2AE-C085-437F-8096-5766237F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FF0A3-DBBF-4395-A0F9-A5C497F2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ECD4C-2DED-453D-A6F4-98464941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59AE8-0EFF-4CAC-B139-4CBDF9BB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851B0-2989-4CAD-B607-F44D1321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7FC3B-B8DC-44CA-8025-A7A6689E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24D-BABA-4C38-8D91-336D1703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83715-0AC9-401C-91F5-82AEDAE3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F6EA7-2DCE-4F6E-BC23-44751A1F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8C674-30E2-4464-B44C-9653EEBF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4C37A-F372-44BF-B926-8314F27B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E0E56-3D9F-447D-BBA2-99382BA4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F1497-C2DF-4FCE-A8D9-2E899889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C30F0-1806-47DE-9A03-F5737C31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38207-049D-49E5-9B20-2F33269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9E274-EA63-49D9-9101-77264B6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C8554-3046-4C8B-A378-4FAF2CA8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E8B-8F96-42F5-B273-293A8A41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1BB3A-8391-4C30-87EC-2E28A8A8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7227A-A8EA-4121-9DD2-943C1994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BDE2C-6EA7-4F6F-942D-884EDF5A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B9EA2-A03C-4EE2-B862-EDC7C258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6A3B6-4189-4B8B-A982-07A9343E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EE9C8-956E-4E72-BB20-E44C76F1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81EFF-240A-4173-AA09-3DDE120F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9AA4E-3DBB-4486-AE32-531AA86C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12597-8D5A-4233-B146-5D8710B3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CCD63-647A-4066-9807-3DD7E45B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C82-0474-45C4-9FCA-D0C54DA6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BD91D-CBDC-4271-AC84-4E5D65EF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A91C8-9A0A-4917-898D-F4DB272A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EAE24-B082-45B0-BFC5-C76FEE27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78A43-F452-40B2-90FB-7B27F07B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D1A52-3A87-4FAC-A579-8BF55B69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6B183-7F54-4448-A0B4-E145C5B5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51243-5940-4F3B-B4EE-EF6DA303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56FB4-F316-4AED-AC8B-8C8920B9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81D27-3B81-4845-B9DA-D6EA5D2E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9E5F0-7441-4330-86AD-7DBA9814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007-86AD-497A-BE9E-9B9DA958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96520-58B2-4952-BA16-A67F856E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064BA-A5BF-4F1F-84E8-6AE943C3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8C149-1F4D-4440-9B38-3CDB5D0E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5413C-7FEE-4BF1-A75B-FE799449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F6AD4-3E1B-406E-A5FC-98EEC16D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DADBC-7610-4D7B-8D34-E31C00C2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EB8B4-03E7-43B4-B7E3-C66BE603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2FED4-4174-4F52-AA58-FD9E1751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72227-7DAE-47EE-9768-B4CF79C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2C224-7C9B-463C-9B1E-3DE1BB01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62BA-874E-45A2-BEAD-9CD279D0C2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2A05-C16E-4851-832E-F94B52330D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57EB-3960-4D10-BEDB-9C591A7ACF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5160-FC91-40CF-A407-EBE46976EA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5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B71C-5C5A-42B3-92E0-ADF0EA0B98A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3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001B-EFD6-4142-9D73-2F4B77B9D6F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7503-1CAC-41BE-9DA1-71A30CA004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dt" idx="4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6DFB-5769-4490-A945-23F042EA28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9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0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BFFF-5CB7-4C3F-AFD1-1319EB565557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7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8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F5F5-CCB9-458B-91B4-559DC1F86678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5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5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5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5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6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6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4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4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6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EE54-8FD7-4074-A232-542883343AF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1A92-FA39-46E6-9A49-F8F94A1AE9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12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12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13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13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13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3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13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4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4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5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6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7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8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8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8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9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9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9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0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20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20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0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1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1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21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21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22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22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22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23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3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23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24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BA17-4D24-412F-BECC-B7BFBF9386ED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F1E7-E945-4AB8-AC83-36F9633032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C07A-DF55-483C-87D5-90BA15F17A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4337-06F3-46D3-A4FD-8E340C8B62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9D7D-4EFF-4E39-9921-12F5BA5DF6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9F57-BE75-4CC6-8434-1D724DE844E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0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3AA1-E043-4CE8-86EE-5EB4E1683A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23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9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89C9-8246-499F-8C02-6C25D5DEBDE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7.jpeg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9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2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2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8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laser.wav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wmf"/><Relationship Id="rId6" Type="http://schemas.openxmlformats.org/officeDocument/2006/relationships/hyperlink" Target="http://china.alibaba.com/buyer/turbine/template/buyer%2CProductDetail?product_id=5388497&amp;action_type=view" TargetMode="External"/><Relationship Id="rId7" Type="http://schemas.openxmlformats.org/officeDocument/2006/relationships/image" Target="../media/image2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5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6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1692360" y="260280"/>
            <a:ext cx="72007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华文宋体"/>
                <a:ea typeface="华文宋体"/>
              </a:rPr>
              <a:t>从生活走向物理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华文宋体"/>
                <a:ea typeface="华文宋体"/>
              </a:rPr>
              <a:t>从物理走向社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84360" y="26028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学会学习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900000" y="2924280"/>
            <a:ext cx="741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ahoma"/>
                <a:ea typeface="楷体_GB2312"/>
              </a:rPr>
              <a:t>一、物体的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质量</a:t>
            </a:r>
            <a:r>
              <a:rPr b="1" lang="zh-CN" sz="800" spc="-1" strike="noStrike">
                <a:solidFill>
                  <a:srgbClr val="dbbd71"/>
                </a:solidFill>
                <a:latin typeface="Verdana"/>
              </a:rPr>
              <a:t>zxxk</a:t>
            </a:r>
            <a:endParaRPr b="0" lang="en-US" sz="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1484280"/>
            <a:ext cx="957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cc99"/>
                </a:solidFill>
                <a:latin typeface="Tahoma"/>
                <a:ea typeface="楷体_GB2312"/>
              </a:rPr>
              <a:t>第六章 物质的物理属性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" descr=""/>
          <p:cNvPicPr/>
          <p:nvPr/>
        </p:nvPicPr>
        <p:blipFill>
          <a:blip r:embed="rId2"/>
          <a:srcRect l="7999" t="8669" r="30467" b="28671"/>
          <a:stretch/>
        </p:blipFill>
        <p:spPr>
          <a:xfrm>
            <a:off x="1908000" y="907920"/>
            <a:ext cx="5899320" cy="321948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826920" y="4365720"/>
            <a:ext cx="7705800" cy="10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971640" y="465300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、使用天平时，应将天平放在水平台面上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79280" y="260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Times New Roman"/>
                <a:ea typeface="黑体"/>
              </a:rPr>
              <a:t>使用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" descr=""/>
          <p:cNvPicPr/>
          <p:nvPr/>
        </p:nvPicPr>
        <p:blipFill>
          <a:blip r:embed="rId2"/>
          <a:srcRect l="8973" t="8669" r="29489" b="27336"/>
          <a:stretch/>
        </p:blipFill>
        <p:spPr>
          <a:xfrm>
            <a:off x="684360" y="114480"/>
            <a:ext cx="7127640" cy="434952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395280" y="4481640"/>
            <a:ext cx="8137440" cy="187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68360" y="4724280"/>
            <a:ext cx="82072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、把游码移至标尺左端的“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0”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刻线处，再调节横梁上的平衡螺母，使指针对准分度盘中央的刻度线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" descr=""/>
          <p:cNvPicPr/>
          <p:nvPr/>
        </p:nvPicPr>
        <p:blipFill>
          <a:blip r:embed="rId2"/>
          <a:srcRect l="8973" t="8669" r="22653" b="27336"/>
          <a:stretch/>
        </p:blipFill>
        <p:spPr>
          <a:xfrm>
            <a:off x="914400" y="685800"/>
            <a:ext cx="7543800" cy="4343400"/>
          </a:xfrm>
          <a:prstGeom prst="rect">
            <a:avLst/>
          </a:prstGeom>
          <a:ln w="0">
            <a:noFill/>
          </a:ln>
        </p:spPr>
      </p:pic>
      <p:sp>
        <p:nvSpPr>
          <p:cNvPr id="1377" name=""/>
          <p:cNvSpPr/>
          <p:nvPr/>
        </p:nvSpPr>
        <p:spPr>
          <a:xfrm>
            <a:off x="250920" y="5229360"/>
            <a:ext cx="7921440" cy="89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95280" y="5445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、测量物体质量时，应将物体放在天平的左盘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9" name="" descr=""/>
          <p:cNvPicPr/>
          <p:nvPr/>
        </p:nvPicPr>
        <p:blipFill>
          <a:blip r:embed="rId2"/>
          <a:srcRect l="8936" t="8669" r="22653" b="27336"/>
          <a:stretch/>
        </p:blipFill>
        <p:spPr>
          <a:xfrm>
            <a:off x="0" y="0"/>
            <a:ext cx="4356000" cy="3029040"/>
          </a:xfrm>
          <a:prstGeom prst="rect">
            <a:avLst/>
          </a:prstGeom>
          <a:ln w="0">
            <a:noFill/>
          </a:ln>
        </p:spPr>
      </p:pic>
      <p:pic>
        <p:nvPicPr>
          <p:cNvPr id="1380" name="" descr=""/>
          <p:cNvPicPr/>
          <p:nvPr/>
        </p:nvPicPr>
        <p:blipFill>
          <a:blip r:embed="rId3"/>
          <a:srcRect l="7020" t="8669" r="22653" b="28671"/>
          <a:stretch/>
        </p:blipFill>
        <p:spPr>
          <a:xfrm>
            <a:off x="4788000" y="0"/>
            <a:ext cx="4032000" cy="3087720"/>
          </a:xfrm>
          <a:prstGeom prst="rect">
            <a:avLst/>
          </a:prstGeom>
          <a:ln w="0">
            <a:noFill/>
          </a:ln>
        </p:spPr>
      </p:pic>
      <p:pic>
        <p:nvPicPr>
          <p:cNvPr id="1381" name="" descr=""/>
          <p:cNvPicPr/>
          <p:nvPr/>
        </p:nvPicPr>
        <p:blipFill>
          <a:blip r:embed="rId4"/>
          <a:srcRect l="7999" t="8669" r="22653" b="28671"/>
          <a:stretch/>
        </p:blipFill>
        <p:spPr>
          <a:xfrm>
            <a:off x="0" y="3357720"/>
            <a:ext cx="4500720" cy="3305160"/>
          </a:xfrm>
          <a:prstGeom prst="rect">
            <a:avLst/>
          </a:prstGeom>
          <a:ln w="0">
            <a:noFill/>
          </a:ln>
        </p:spPr>
      </p:pic>
      <p:sp>
        <p:nvSpPr>
          <p:cNvPr id="1382" name=""/>
          <p:cNvSpPr/>
          <p:nvPr/>
        </p:nvSpPr>
        <p:spPr>
          <a:xfrm>
            <a:off x="1258920" y="22766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940360" y="22766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1332000" y="59500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932360" y="3716280"/>
            <a:ext cx="3838680" cy="20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932360" y="3789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用镊子向右盘加减砝码；移动游码在标尺上的位置，使指针对准分度盘的中线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1547640" y="5877000"/>
            <a:ext cx="5688360" cy="71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042920" y="4365720"/>
            <a:ext cx="7201080" cy="143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004360" y="587700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4.7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187280" y="4581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此时，右盘中砝码的总质量与标尺示数值之和，即等于所测物体质量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391" name=""/>
          <p:cNvGraphicFramePr/>
          <p:nvPr/>
        </p:nvGraphicFramePr>
        <p:xfrm>
          <a:off x="1116000" y="333360"/>
          <a:ext cx="6408720" cy="402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33360"/>
                    <a:ext cx="640872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3" name=""/>
          <p:cNvSpPr/>
          <p:nvPr/>
        </p:nvSpPr>
        <p:spPr>
          <a:xfrm>
            <a:off x="5715000" y="3200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黑体"/>
                <a:ea typeface="黑体"/>
              </a:rPr>
              <a:t>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050920" y="59500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所测物体质量为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_______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0" y="0"/>
            <a:ext cx="331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黑体"/>
              </a:rPr>
              <a:t>使用方法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24000" y="907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）使用天平时，应把天平放在水平工作台上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24000" y="17002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）把游码移至标尺左端的“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0”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刻线处，再调节横梁上的平衡螺母，使指针对准分度盘中央的刻度线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24000" y="3357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）测量物体质量时，应将物体放在天平的左盘，用镊子向右盘加减砝码；移动游码在标尺上的位置，使指针对准分度盘的中线。此时，右盘中砝码的总质量与标尺示数值之和，即等于所测物体质量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9" name="ShockwaveFlash1"/>
          <p:cNvGraphicFramePr/>
          <p:nvPr/>
        </p:nvGraphicFramePr>
        <p:xfrm>
          <a:off x="250920" y="260280"/>
          <a:ext cx="8642160" cy="547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8642160" cy="5473800"/>
                  </a:xfrm>
                  <a:prstGeom prst="rect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8c0039"/>
                </a:solidFill>
                <a:latin typeface="Arial"/>
                <a:ea typeface="华文行楷"/>
              </a:rPr>
              <a:t>赛一赛，看哪一组又快又好！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2268000" y="3789000"/>
            <a:ext cx="65516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把一块冰放入烧杯中，用天平测量它们的质量。待冰熔化为水再测一测，质量改变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484360" y="134136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华文新魏"/>
              </a:rPr>
              <a:t>、用天平测量一块橡皮泥的质量，然后把橡皮泥捏成其它形状后再测一测，它的质量改变了吗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132000" y="5516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华文彩云"/>
              </a:rPr>
              <a:t>你发现了什么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14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6192720" cy="5904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1406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06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1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7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119640" cy="194652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3"/>
          <a:stretch/>
        </p:blipFill>
        <p:spPr>
          <a:xfrm>
            <a:off x="1403280" y="2924280"/>
            <a:ext cx="6050160" cy="211752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>
            <a:off x="1042920" y="5229360"/>
            <a:ext cx="68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冰熔化成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状态变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的质量有没有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924360" y="226368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9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6156360" y="620640"/>
            <a:ext cx="29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课桌和凳子是由什么材料组成的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0" y="0"/>
            <a:ext cx="2438280" cy="349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5" name=""/>
          <p:cNvSpPr/>
          <p:nvPr/>
        </p:nvSpPr>
        <p:spPr>
          <a:xfrm>
            <a:off x="6156360" y="4581360"/>
            <a:ext cx="29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课桌和凳子哪个用的木材多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50" dur="indefinite" restart="never" nodeType="tmRoot">
          <p:childTnLst>
            <p:seq>
              <p:cTn id="251" restart="whenNotActive" nodeType="interactiveSeq" fill="hold">
                <p:stCondLst>
                  <p:cond evt="onClick">
                    <p:tgtEl>
                      <p:spTgt spid="1412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412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5" dur="1" fill="hold"/>
                                        <p:tgtEl>
                                          <p:spTgt spid="1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900000" y="1413000"/>
            <a:ext cx="77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以上探究活动说明，当物体的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____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_______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发生改变时，它的质量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_____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（不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随着）改变，所以</a:t>
            </a:r>
            <a:r>
              <a:rPr b="1" lang="zh-CN" sz="4000" spc="-1" strike="noStrike">
                <a:solidFill>
                  <a:srgbClr val="330066"/>
                </a:solidFill>
                <a:latin typeface="Verdana"/>
              </a:rPr>
              <a:t>质量是物体的一种属性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900000" y="1916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Verdana"/>
              </a:rPr>
              <a:t>形状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484360" y="1916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Verdana"/>
              </a:rPr>
              <a:t>物质的状态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796000" y="1916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Verdana"/>
              </a:rPr>
              <a:t>位置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364000" y="2565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Verdana"/>
              </a:rPr>
              <a:t>不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36558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试一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6089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质量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×10</a:t>
            </a:r>
            <a:r>
              <a:rPr b="1" lang="zh-CN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物体，可能是下列物体中的（     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一头大象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一只苹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一台电视机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一只蚂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133440" y="220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0f25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030320" y="870120"/>
            <a:ext cx="36561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试一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692360" y="1773360"/>
            <a:ext cx="71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一根铜棒，在下列情况下，质量会发生变化的是：（   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把铜棒加热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0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钳工用锉刀对它加工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把铜棒轧成一张薄铜板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宇航员把铜棒带到月球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508720" y="227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030320" y="870120"/>
            <a:ext cx="36561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试一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下列说法中正确的是（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登月舱从地球到月球质量变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kg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铁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kg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棉花的质量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玻璃杯打碎后，质量不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一杯水凝固成冰后体积变大，质量也变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84720" y="1628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365616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试一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5472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某同学用已调节好的 托盘天平测量体的质量，操作情况如图所示，其中操作错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_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2981520" cy="281808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1887480" y="3645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物体放右盘砝码放左盘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757880" y="4365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用手直接拿物体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4191120" y="3573360"/>
            <a:ext cx="3657600" cy="3284640"/>
          </a:xfrm>
          <a:prstGeom prst="rect">
            <a:avLst/>
          </a:prstGeom>
          <a:ln w="0">
            <a:noFill/>
          </a:ln>
        </p:spPr>
      </p:pic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各种天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4" name="" descr=""/>
          <p:cNvPicPr/>
          <p:nvPr/>
        </p:nvPicPr>
        <p:blipFill>
          <a:blip r:embed="rId3"/>
          <a:stretch/>
        </p:blipFill>
        <p:spPr>
          <a:xfrm>
            <a:off x="3219480" y="0"/>
            <a:ext cx="2952720" cy="357336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/>
          <p:cNvPicPr/>
          <p:nvPr/>
        </p:nvPicPr>
        <p:blipFill>
          <a:blip r:embed="rId4"/>
          <a:stretch/>
        </p:blipFill>
        <p:spPr>
          <a:xfrm>
            <a:off x="685800" y="3573360"/>
            <a:ext cx="3124080" cy="328464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3886200"/>
          </a:xfrm>
          <a:prstGeom prst="rect">
            <a:avLst/>
          </a:prstGeom>
          <a:ln w="0">
            <a:noFill/>
          </a:ln>
        </p:spPr>
      </p:pic>
      <p:pic>
        <p:nvPicPr>
          <p:cNvPr id="1437" name="" descr=""/>
          <p:cNvPicPr/>
          <p:nvPr/>
        </p:nvPicPr>
        <p:blipFill>
          <a:blip r:embed="rId6"/>
          <a:stretch/>
        </p:blipFill>
        <p:spPr>
          <a:xfrm>
            <a:off x="6324480" y="0"/>
            <a:ext cx="2703600" cy="3505320"/>
          </a:xfrm>
          <a:prstGeom prst="rect">
            <a:avLst/>
          </a:prstGeom>
          <a:ln w="0">
            <a:noFill/>
          </a:ln>
        </p:spPr>
      </p:pic>
      <p:sp>
        <p:nvSpPr>
          <p:cNvPr id="1438" name=""/>
          <p:cNvSpPr/>
          <p:nvPr/>
        </p:nvSpPr>
        <p:spPr>
          <a:xfrm>
            <a:off x="6178680" y="2743200"/>
            <a:ext cx="37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电子分析天平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429000" y="2819520"/>
            <a:ext cx="2590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析天平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48320" y="6140520"/>
            <a:ext cx="3047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电子汽车秤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990720" y="6216480"/>
            <a:ext cx="2743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超微量天平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28600" y="3168720"/>
            <a:ext cx="2590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电子吊秤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 txBox="1"/>
          <p:nvPr/>
        </p:nvSpPr>
        <p:spPr>
          <a:xfrm>
            <a:off x="2124000" y="2060640"/>
            <a:ext cx="5184720" cy="26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539640" y="333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组成这些物体的木材、铁叫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物质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”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0" y="4653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物理学中把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物体所含物质的多少叫做物体的质量，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用符号“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m”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表示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39640" y="191628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由上面的观察看出：课桌、凳子含有木材的多少不同；铁钉、大头针含铁的多少也不同</a:t>
            </a:r>
            <a:r>
              <a:rPr b="0" lang="zh-CN" sz="40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/>
          </p:nvPr>
        </p:nvSpPr>
        <p:spPr>
          <a:xfrm>
            <a:off x="684360" y="2708280"/>
            <a:ext cx="861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620640"/>
            <a:ext cx="75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66ff"/>
                </a:solidFill>
                <a:latin typeface="Tahoma"/>
                <a:ea typeface="华文行楷"/>
              </a:rPr>
              <a:t>比一比，看谁做得好，做得快！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ahoma"/>
                <a:ea typeface="华文新魏"/>
              </a:rPr>
              <a:t>阅读课本，思考并回答下列问题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74560" y="2147760"/>
            <a:ext cx="856944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国际单位制中，质量的单位是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符号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比千克大的单位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比千克小的单位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___________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2" name="">
            <a:hlinkClick r:id="rId2"/>
          </p:cNvPr>
          <p:cNvSpPr/>
          <p:nvPr/>
        </p:nvSpPr>
        <p:spPr>
          <a:xfrm>
            <a:off x="6156360" y="213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千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859280" y="2708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吨（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619280" y="3213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克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(g)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、毫克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(mg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556000" y="4032360"/>
            <a:ext cx="4537080" cy="21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=</a:t>
            </a:r>
            <a:r>
              <a:rPr b="1" lang="en-US" sz="2800" spc="-1" strike="noStrike">
                <a:solidFill>
                  <a:srgbClr val="800000"/>
                </a:solidFill>
                <a:latin typeface="华文琥珀"/>
                <a:ea typeface="华文琥珀"/>
              </a:rPr>
              <a:t>________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k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kg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=</a:t>
            </a:r>
            <a:r>
              <a:rPr b="1" lang="en-US" sz="2800" spc="-1" strike="noStrike">
                <a:solidFill>
                  <a:srgbClr val="800000"/>
                </a:solidFill>
                <a:latin typeface="华文琥珀"/>
                <a:ea typeface="华文琥珀"/>
              </a:rPr>
              <a:t>_______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1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=</a:t>
            </a:r>
            <a:r>
              <a:rPr b="1" lang="en-US" sz="2800" spc="-1" strike="noStrike">
                <a:solidFill>
                  <a:srgbClr val="800000"/>
                </a:solidFill>
                <a:latin typeface="华文琥珀"/>
                <a:ea typeface="华文琥珀"/>
              </a:rPr>
              <a:t>_________</a:t>
            </a:r>
            <a:r>
              <a:rPr b="1" lang="en-US" sz="28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m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780000" y="4076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0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851280" y="486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0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780000" y="5661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0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788000" y="3398760"/>
            <a:ext cx="3311280" cy="271296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4716360" y="76320"/>
            <a:ext cx="3095640" cy="275112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3"/>
          <a:stretch/>
        </p:blipFill>
        <p:spPr>
          <a:xfrm>
            <a:off x="324000" y="79200"/>
            <a:ext cx="2808000" cy="275292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4"/>
          <a:stretch/>
        </p:blipFill>
        <p:spPr>
          <a:xfrm>
            <a:off x="611280" y="3429000"/>
            <a:ext cx="2520720" cy="273672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250920" y="283212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一个鸡蛋的质量大约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Verdana"/>
              </a:rPr>
              <a:t>____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28065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一只苹果的质量大约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____g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55520" y="6237360"/>
            <a:ext cx="39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一名中学生的质量约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50____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宋体"/>
              </a:rPr>
              <a:t>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148360" y="623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一头大象的质量约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6___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700360" y="278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5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308720" y="2781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5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916360" y="6165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7451640" y="6237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6588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同学们，请思考一下在日常生活中有哪些测量质量的工具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004840" cy="1963800"/>
          </a:xfrm>
          <a:prstGeom prst="rect">
            <a:avLst/>
          </a:prstGeom>
          <a:ln w="0">
            <a:noFill/>
          </a:ln>
        </p:spPr>
      </p:pic>
      <p:pic>
        <p:nvPicPr>
          <p:cNvPr id="1333" name="" descr=""/>
          <p:cNvPicPr/>
          <p:nvPr/>
        </p:nvPicPr>
        <p:blipFill>
          <a:blip r:embed="rId3"/>
          <a:stretch/>
        </p:blipFill>
        <p:spPr>
          <a:xfrm>
            <a:off x="3276720" y="1773360"/>
            <a:ext cx="259236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4" name=""/>
          <p:cNvGraphicFramePr/>
          <p:nvPr/>
        </p:nvGraphicFramePr>
        <p:xfrm>
          <a:off x="539640" y="4437000"/>
          <a:ext cx="2692440" cy="142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4437000"/>
                    <a:ext cx="269244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56360" y="1628640"/>
            <a:ext cx="2736720" cy="26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7" name=""/>
          <p:cNvGraphicFramePr/>
          <p:nvPr/>
        </p:nvGraphicFramePr>
        <p:xfrm>
          <a:off x="250920" y="1989000"/>
          <a:ext cx="2448000" cy="1801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1989000"/>
                    <a:ext cx="24480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9" name=""/>
          <p:cNvSpPr/>
          <p:nvPr/>
        </p:nvSpPr>
        <p:spPr>
          <a:xfrm>
            <a:off x="971640" y="342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杆秤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788000" y="3429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案秤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042920" y="4653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电子秤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451640" y="38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台秤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43" name="" descr=""/>
          <p:cNvPicPr/>
          <p:nvPr/>
        </p:nvPicPr>
        <p:blipFill>
          <a:blip r:embed="rId10"/>
          <a:stretch/>
        </p:blipFill>
        <p:spPr>
          <a:xfrm>
            <a:off x="3635280" y="3933720"/>
            <a:ext cx="2203560" cy="2303640"/>
          </a:xfrm>
          <a:prstGeom prst="rect">
            <a:avLst/>
          </a:prstGeom>
          <a:ln w="0">
            <a:noFill/>
          </a:ln>
        </p:spPr>
      </p:pic>
      <p:sp>
        <p:nvSpPr>
          <p:cNvPr id="1344" name=""/>
          <p:cNvSpPr/>
          <p:nvPr/>
        </p:nvSpPr>
        <p:spPr>
          <a:xfrm>
            <a:off x="5799240" y="4149720"/>
            <a:ext cx="5461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物理天平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6" dur="5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实验室里常用的测量质量的工具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0720" y="1700280"/>
            <a:ext cx="1944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ahoma"/>
              </a:rPr>
              <a:t>托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ahoma"/>
              </a:rPr>
              <a:t>盘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ahoma"/>
              </a:rPr>
              <a:t>天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ahoma"/>
              </a:rPr>
              <a:t>平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285840" y="1268280"/>
            <a:ext cx="7381800" cy="5329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8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91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0" name=""/>
          <p:cNvGraphicFramePr/>
          <p:nvPr/>
        </p:nvGraphicFramePr>
        <p:xfrm>
          <a:off x="1619280" y="981000"/>
          <a:ext cx="114768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981000"/>
                    <a:ext cx="11476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2" name=""/>
          <p:cNvGraphicFramePr/>
          <p:nvPr/>
        </p:nvGraphicFramePr>
        <p:xfrm>
          <a:off x="6156360" y="836640"/>
          <a:ext cx="1440000" cy="52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56360" y="836640"/>
                    <a:ext cx="1440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4" name=""/>
          <p:cNvGraphicFramePr/>
          <p:nvPr/>
        </p:nvGraphicFramePr>
        <p:xfrm>
          <a:off x="1547640" y="2276640"/>
          <a:ext cx="1008360" cy="519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7640" y="2276640"/>
                    <a:ext cx="1008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6" name=""/>
          <p:cNvGraphicFramePr/>
          <p:nvPr/>
        </p:nvGraphicFramePr>
        <p:xfrm>
          <a:off x="250920" y="4365720"/>
          <a:ext cx="1171440" cy="519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0920" y="4365720"/>
                    <a:ext cx="11714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8" name=""/>
          <p:cNvGraphicFramePr/>
          <p:nvPr/>
        </p:nvGraphicFramePr>
        <p:xfrm>
          <a:off x="1258920" y="6165720"/>
          <a:ext cx="1181160" cy="479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6165720"/>
                    <a:ext cx="1181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0" name=""/>
          <p:cNvGraphicFramePr/>
          <p:nvPr/>
        </p:nvGraphicFramePr>
        <p:xfrm>
          <a:off x="4067280" y="6359400"/>
          <a:ext cx="1181160" cy="498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67280" y="6359400"/>
                    <a:ext cx="11811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2" name=""/>
          <p:cNvGraphicFramePr/>
          <p:nvPr/>
        </p:nvGraphicFramePr>
        <p:xfrm>
          <a:off x="5508720" y="5229360"/>
          <a:ext cx="1224000" cy="501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508720" y="5229360"/>
                    <a:ext cx="12240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"/>
          <p:cNvGraphicFramePr/>
          <p:nvPr/>
        </p:nvGraphicFramePr>
        <p:xfrm>
          <a:off x="8317080" y="4005360"/>
          <a:ext cx="583920" cy="2160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317080" y="4005360"/>
                    <a:ext cx="5839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6" name=""/>
          <p:cNvSpPr/>
          <p:nvPr/>
        </p:nvSpPr>
        <p:spPr>
          <a:xfrm>
            <a:off x="250920" y="47628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黑体"/>
                <a:ea typeface="黑体"/>
              </a:rPr>
              <a:t>结构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7" name="ShockwaveFlash1"/>
          <p:cNvGraphicFramePr/>
          <p:nvPr/>
        </p:nvGraphicFramePr>
        <p:xfrm>
          <a:off x="179280" y="189000"/>
          <a:ext cx="871380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00"/>
                    <a:ext cx="8713800" cy="4608360"/>
                  </a:xfrm>
                  <a:prstGeom prst="rect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7:32:09Z</dcterms:created>
  <dc:creator>韩安</dc:creator>
  <dc:description/>
  <dc:language>en-US</dc:language>
  <cp:lastModifiedBy>lenovo</cp:lastModifiedBy>
  <dcterms:modified xsi:type="dcterms:W3CDTF">2014-10-11T03:55:33Z</dcterms:modified>
  <cp:revision>111</cp:revision>
  <dc:subject/>
  <dc:title>热烈欢迎各位领导、专家莅临指导！</dc:title>
</cp:coreProperties>
</file>