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DB5-9D80-4669-AC2F-4A02B0E5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CC7-E979-4FCD-B700-591EC568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E9A-40CE-4EF3-938A-FD153073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BFD-6138-4B45-B4F4-0FA3A989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611-9C53-4ECA-86FF-AB6031D0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0AF-8154-40A7-B51A-3795718D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967-6948-4EEA-B7FC-E779BBC6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2DF-9988-4DA4-A62A-B19891FD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B5E-41AE-4F11-8D0E-8AD14BC7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409-E18A-4A57-9C35-6E587133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CAD-B5E0-4118-9527-1E3F72C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A06-7EB1-43CE-A6FB-4DCE6EAA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B2F3-BB21-475E-B9D9-486EF569E1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2&#29992;&#22825;&#24179;&#27979;&#29289;&#20307;&#30340;&#36136;&#37327;/6-&#21160;&#30011;-02&#29992;&#22825;&#24179;&#27979;&#23567;&#29289;&#20307;&#30340;&#36136;&#37327;.swf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6-&#21160;&#30011;-04&#27979;&#37327;&#29289;&#36136;&#30340;&#23494;&#24230;.sw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6-&#21160;&#30011;-04&#27979;&#37327;&#29289;&#36136;&#30340;&#23494;&#24230;.sw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的密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8040" y="3044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1341360"/>
            <a:ext cx="7391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密度是物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一种属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同种物质的密度是相同的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与物体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质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体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位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物体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温度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种类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状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03280" y="3716280"/>
            <a:ext cx="2736720" cy="792000"/>
            <a:chOff x="1403280" y="3716280"/>
            <a:chExt cx="2736720" cy="792000"/>
          </a:xfrm>
        </p:grpSpPr>
        <p:sp>
          <p:nvSpPr>
            <p:cNvPr id="80" name=""/>
            <p:cNvSpPr/>
            <p:nvPr/>
          </p:nvSpPr>
          <p:spPr>
            <a:xfrm>
              <a:off x="1403280" y="3716280"/>
              <a:ext cx="2736720" cy="792000"/>
            </a:xfrm>
            <a:custGeom>
              <a:avLst/>
              <a:gdLst>
                <a:gd name="textAreaLeft" fmla="*/ 51120 w 2736720"/>
                <a:gd name="textAreaRight" fmla="*/ 2685600 w 2736720"/>
                <a:gd name="textAreaTop" fmla="*/ 51120 h 792000"/>
                <a:gd name="textAreaBottom" fmla="*/ 740880 h 792000"/>
              </a:gdLst>
              <a:ahLst/>
              <a:rect l="textAreaLeft" t="textAreaTop" r="textAreaRight" b="textAreaBottom"/>
              <a:pathLst>
                <a:path w="74614" h="21600">
                  <a:moveTo>
                    <a:pt x="0" y="0"/>
                  </a:moveTo>
                  <a:lnTo>
                    <a:pt x="74614" y="0"/>
                  </a:lnTo>
                  <a:lnTo>
                    <a:pt x="74614" y="21600"/>
                  </a:lnTo>
                  <a:lnTo>
                    <a:pt x="0" y="21600"/>
                  </a:lnTo>
                  <a:close/>
                </a:path>
                <a:path fill="lightenLess" w="74614" h="21600">
                  <a:moveTo>
                    <a:pt x="0" y="0"/>
                  </a:moveTo>
                  <a:lnTo>
                    <a:pt x="74614" y="0"/>
                  </a:lnTo>
                  <a:lnTo>
                    <a:pt x="73214" y="1400"/>
                  </a:lnTo>
                  <a:lnTo>
                    <a:pt x="1400" y="1400"/>
                  </a:lnTo>
                  <a:close/>
                </a:path>
                <a:path fill="darken" w="74614" h="21600">
                  <a:moveTo>
                    <a:pt x="74614" y="0"/>
                  </a:moveTo>
                  <a:lnTo>
                    <a:pt x="74614" y="21600"/>
                  </a:lnTo>
                  <a:lnTo>
                    <a:pt x="73214" y="20200"/>
                  </a:lnTo>
                  <a:lnTo>
                    <a:pt x="73214" y="1400"/>
                  </a:lnTo>
                  <a:close/>
                </a:path>
                <a:path fill="darkenLess" w="74614" h="21600">
                  <a:moveTo>
                    <a:pt x="7461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3214" y="20200"/>
                  </a:lnTo>
                  <a:close/>
                </a:path>
                <a:path fill="lighten" w="7461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20720" y="385920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复习本课内容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932360" y="3716280"/>
            <a:ext cx="2736720" cy="792000"/>
            <a:chOff x="4932360" y="3716280"/>
            <a:chExt cx="2736720" cy="792000"/>
          </a:xfrm>
        </p:grpSpPr>
        <p:sp>
          <p:nvSpPr>
            <p:cNvPr id="83" name=""/>
            <p:cNvSpPr/>
            <p:nvPr/>
          </p:nvSpPr>
          <p:spPr>
            <a:xfrm>
              <a:off x="4932360" y="3716280"/>
              <a:ext cx="2736720" cy="792000"/>
            </a:xfrm>
            <a:custGeom>
              <a:avLst/>
              <a:gdLst>
                <a:gd name="textAreaLeft" fmla="*/ 51120 w 2736720"/>
                <a:gd name="textAreaRight" fmla="*/ 2685600 w 2736720"/>
                <a:gd name="textAreaTop" fmla="*/ 51120 h 792000"/>
                <a:gd name="textAreaBottom" fmla="*/ 740880 h 792000"/>
              </a:gdLst>
              <a:ahLst/>
              <a:rect l="textAreaLeft" t="textAreaTop" r="textAreaRight" b="textAreaBottom"/>
              <a:pathLst>
                <a:path w="74614" h="21600">
                  <a:moveTo>
                    <a:pt x="0" y="0"/>
                  </a:moveTo>
                  <a:lnTo>
                    <a:pt x="74614" y="0"/>
                  </a:lnTo>
                  <a:lnTo>
                    <a:pt x="74614" y="21600"/>
                  </a:lnTo>
                  <a:lnTo>
                    <a:pt x="0" y="21600"/>
                  </a:lnTo>
                  <a:close/>
                </a:path>
                <a:path fill="lightenLess" w="74614" h="21600">
                  <a:moveTo>
                    <a:pt x="0" y="0"/>
                  </a:moveTo>
                  <a:lnTo>
                    <a:pt x="74614" y="0"/>
                  </a:lnTo>
                  <a:lnTo>
                    <a:pt x="73214" y="1400"/>
                  </a:lnTo>
                  <a:lnTo>
                    <a:pt x="1400" y="1400"/>
                  </a:lnTo>
                  <a:close/>
                </a:path>
                <a:path fill="darken" w="74614" h="21600">
                  <a:moveTo>
                    <a:pt x="74614" y="0"/>
                  </a:moveTo>
                  <a:lnTo>
                    <a:pt x="74614" y="21600"/>
                  </a:lnTo>
                  <a:lnTo>
                    <a:pt x="73214" y="20200"/>
                  </a:lnTo>
                  <a:lnTo>
                    <a:pt x="73214" y="1400"/>
                  </a:lnTo>
                  <a:close/>
                </a:path>
                <a:path fill="darkenLess" w="74614" h="21600">
                  <a:moveTo>
                    <a:pt x="7461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3214" y="20200"/>
                  </a:lnTo>
                  <a:close/>
                </a:path>
                <a:path fill="lighten" w="7461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49800" y="385920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复习本课内容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84360" y="4869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活、物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社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48040" y="3044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64040" y="3260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讨论与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区分表面颜色相同的铁块和塑料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二、探究物体的质量与体积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357336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猜想与假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种物质组成的不同的物体，体积越大，质量越大，它们各自的质量与体积的比值可能是一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03640" y="3500280"/>
            <a:ext cx="1944720" cy="647640"/>
            <a:chOff x="3203640" y="3500280"/>
            <a:chExt cx="1944720" cy="647640"/>
          </a:xfrm>
        </p:grpSpPr>
        <p:sp>
          <p:nvSpPr>
            <p:cNvPr id="49" name="">
              <a:hlinkClick r:id="rId1"/>
            </p:cNvPr>
            <p:cNvSpPr/>
            <p:nvPr/>
          </p:nvSpPr>
          <p:spPr>
            <a:xfrm>
              <a:off x="3203640" y="3500280"/>
              <a:ext cx="1944720" cy="647640"/>
            </a:xfrm>
            <a:custGeom>
              <a:avLst/>
              <a:gdLst>
                <a:gd name="textAreaLeft" fmla="*/ 41760 w 1944720"/>
                <a:gd name="textAreaRight" fmla="*/ 1902960 w 194472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64836" h="21600">
                  <a:moveTo>
                    <a:pt x="0" y="0"/>
                  </a:moveTo>
                  <a:lnTo>
                    <a:pt x="64836" y="0"/>
                  </a:lnTo>
                  <a:lnTo>
                    <a:pt x="64836" y="21600"/>
                  </a:lnTo>
                  <a:lnTo>
                    <a:pt x="0" y="21600"/>
                  </a:lnTo>
                  <a:close/>
                </a:path>
                <a:path fill="lightenLess" w="64836" h="21600">
                  <a:moveTo>
                    <a:pt x="0" y="0"/>
                  </a:moveTo>
                  <a:lnTo>
                    <a:pt x="64836" y="0"/>
                  </a:lnTo>
                  <a:lnTo>
                    <a:pt x="63436" y="1400"/>
                  </a:lnTo>
                  <a:lnTo>
                    <a:pt x="1400" y="1400"/>
                  </a:lnTo>
                  <a:close/>
                </a:path>
                <a:path fill="darken" w="64836" h="21600">
                  <a:moveTo>
                    <a:pt x="64836" y="0"/>
                  </a:moveTo>
                  <a:lnTo>
                    <a:pt x="64836" y="21600"/>
                  </a:lnTo>
                  <a:lnTo>
                    <a:pt x="63436" y="20200"/>
                  </a:lnTo>
                  <a:lnTo>
                    <a:pt x="63436" y="1400"/>
                  </a:lnTo>
                  <a:close/>
                </a:path>
                <a:path fill="darkenLess" w="64836" h="21600">
                  <a:moveTo>
                    <a:pt x="6483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436" y="20200"/>
                  </a:lnTo>
                  <a:close/>
                </a:path>
                <a:path fill="lighten" w="6483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19280" y="3571560"/>
              <a:ext cx="165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404640"/>
            <a:ext cx="82296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实验与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选取二个大小不同的长方形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/>
              </a:rPr>
              <a:t>铁块和木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铁块和木块的体积分别对应相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16000" y="2421000"/>
          <a:ext cx="7129440" cy="3265200"/>
        </p:xfrm>
        <a:graphic>
          <a:graphicData uri="http://schemas.openxmlformats.org/drawingml/2006/table">
            <a:tbl>
              <a:tblPr/>
              <a:tblGrid>
                <a:gridCol w="1728720"/>
                <a:gridCol w="1371600"/>
                <a:gridCol w="1551240"/>
                <a:gridCol w="2477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测量对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质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/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积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/cm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质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积）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g ·cm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铁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铁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进行实验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"/>
              </a:rPr>
              <a:t>收集证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98100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交流与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种物质的不同物体，其质量与体积比值大小是否相同或相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种物质的物体，其质量与体积比值大小是否相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645000"/>
            <a:ext cx="822960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实验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种物质所组成的不同物体，其质量与体积比值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同物质所组成的物体，质量与体积比值大小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、密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68360" y="1341360"/>
            <a:ext cx="8675280" cy="3414960"/>
            <a:chOff x="468360" y="1341360"/>
            <a:chExt cx="8675280" cy="3414960"/>
          </a:xfrm>
        </p:grpSpPr>
        <p:sp>
          <p:nvSpPr>
            <p:cNvPr id="59" name=""/>
            <p:cNvSpPr/>
            <p:nvPr/>
          </p:nvSpPr>
          <p:spPr>
            <a:xfrm>
              <a:off x="468360" y="1660680"/>
              <a:ext cx="867528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799"/>
                </a:spcBef>
                <a:buClr>
                  <a:srgbClr val="ff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析：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1cm</a:t>
              </a:r>
              <a:r>
                <a:rPr b="1" lang="zh-CN" sz="3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物体的质量）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位体积的质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2608560" y="1341360"/>
                  <a:ext cx="117288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质量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体积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" name=""/>
          <p:cNvSpPr/>
          <p:nvPr/>
        </p:nvSpPr>
        <p:spPr>
          <a:xfrm>
            <a:off x="6516720" y="3357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50160" y="386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429000"/>
            <a:ext cx="8497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问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种物质单位体积的质量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同种物质单位体积的质量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见</a:t>
            </a:r>
            <a:r>
              <a:rPr b="1" lang="zh-CN" sz="3200" spc="-1" strike="noStrike">
                <a:solidFill>
                  <a:srgbClr val="cc3399"/>
                </a:solidFill>
                <a:latin typeface="Arial"/>
                <a:ea typeface="黑体"/>
              </a:rPr>
              <a:t>单位体积的质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反映物质的特性的，在物理学上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密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表示这种性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76280"/>
            <a:ext cx="8497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定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体积某物质的质量叫做这种物质的密度。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68360" y="1628640"/>
                <a:ext cx="257364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密度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质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体积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651640" y="1700280"/>
                <a:ext cx="1385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24000" y="3068640"/>
            <a:ext cx="8497800" cy="47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位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kg/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作  千克每立方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义   每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立方米物质的质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1×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300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方米水的质量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×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48040" y="3044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476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度的常用单位：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9640" y="1125360"/>
                <a:ext cx="7417080" cy="16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fPr>
                        <m:type m:val="lin"/>
                      </m:fPr>
                      <m:num>
                        <m:r>
                          <m:t xml:space="preserve">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826920" y="299736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单位转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1)7.9×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/m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=     g/cm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2)2.7 g/cm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=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/m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3573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7.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44320" y="4221000"/>
            <a:ext cx="15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7×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2293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解释出它们的物理意义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1125360"/>
            <a:ext cx="8497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密度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×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形式来表示密度大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便于单位换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固体、液体的密度比气体大得多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住水的密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道铜、铁、铝的密度大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道水、冰的密度大小关系（解释现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99240" y="800280"/>
            <a:ext cx="49806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判断一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大铝块的质量为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㎏，小铝块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质量为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㎏，则大铝块的密度大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铝块的密度。     （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一杯酒精用去一半后，剩下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酒精密度为原来的一半。（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7:15:58Z</dcterms:created>
  <dc:creator/>
  <dc:description/>
  <dc:language>en-US</dc:language>
  <cp:lastModifiedBy>User</cp:lastModifiedBy>
  <dcterms:modified xsi:type="dcterms:W3CDTF">2014-05-14T09:00:54Z</dcterms:modified>
  <cp:revision>36</cp:revision>
  <dc:subject/>
  <dc:title>第三节 物质的密度</dc:title>
</cp:coreProperties>
</file>