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1.png" ContentType="image/png"/>
  <Override PartName="/ppt/media/image6.png" ContentType="image/png"/>
  <Override PartName="/ppt/media/image31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9.png" ContentType="image/png"/>
  <Override PartName="/ppt/media/chimes.wav" ContentType="audio/x-wav"/>
  <Override PartName="/ppt/media/image16.jpeg" ContentType="image/jpeg"/>
  <Override PartName="/ppt/media/image8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.jpeg" ContentType="image/jpeg"/>
  <Override PartName="/ppt/media/image2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2.jpeg" ContentType="image/jpeg"/>
  <Override PartName="/ppt/media/image13.jpeg" ContentType="image/jpeg"/>
  <Override PartName="/ppt/media/image14.png" ContentType="image/png"/>
  <Override PartName="/ppt/media/image15.jpeg" ContentType="image/jpeg"/>
  <Override PartName="/ppt/media/CAMERA.WAV" ContentType="audio/x-wav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CE56-0B21-4508-9D29-DA3D31EE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95E-F7B0-4049-A1FA-B84A7AAF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857-ABDF-459F-B7C3-9296F684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B07-ABB9-4B7F-8E5A-B4F5A0CB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EA44-ADBB-4394-8306-56486238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AE62-B0D6-4A1C-B345-8A1FD412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4B45-15FC-4830-B57E-35D2B526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2520-C016-48C3-AA55-35F43B0D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9FB6-B7CF-4B28-AD7B-9397EB57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796D-98DB-4826-80D0-4E3044FD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76EA-F803-4D8C-B14F-357082C7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A14-C828-4A2B-B824-3E30BEED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FA04-C4C6-4ADD-8C54-BFAF160C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6CD5-23A5-4150-B9C0-439F68C1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DDA0-5CEA-4DA2-800F-70179F01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57E4-CC18-4076-B503-0EEBC112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F387-17DD-478F-8B4D-2610F0A2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ABA-49DD-4A9B-8956-3E298E9A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BA5-7A7B-4937-9F5A-0E42F966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24B-08D1-4D49-913B-794497A0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DB5-8BEE-4FE2-A5F1-0A87CB9D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F72-667A-448B-954D-ED6AEDEF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266-DA89-47B4-9B9E-2AAC58CD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CB4-BE18-4993-AFAE-55CA653C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C269-4A15-495F-91CA-D99A2909BCC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5657-5B46-4266-B472-8E6CECAC13A2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93480" y="228600"/>
            <a:ext cx="45727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一、长度和时间的测量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71440" y="1295280"/>
            <a:ext cx="4275000" cy="2659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26080" y="4025880"/>
            <a:ext cx="4189320" cy="2678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710240" y="1274760"/>
            <a:ext cx="4205160" cy="2687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4289400" cy="266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63640" y="580536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病  毒  直  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3600" spc="-1" strike="noStrike" baseline="30000">
                <a:solidFill>
                  <a:srgbClr val="0000ff"/>
                </a:solidFill>
                <a:latin typeface="Times New Roman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34520" y="4510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16000" y="5805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地 球 赤 道 周 长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 baseline="30000">
                <a:solidFill>
                  <a:srgbClr val="0000ff"/>
                </a:solidFill>
                <a:latin typeface="Times New Roman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34520" y="4510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16000" y="57340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可观测到的宇宙距离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 baseline="30000">
                <a:solidFill>
                  <a:srgbClr val="0000ff"/>
                </a:solidFill>
                <a:latin typeface="Times New Roman"/>
                <a:ea typeface="华文新魏"/>
              </a:rPr>
              <a:t>27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534520" y="5334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26920" y="1660680"/>
            <a:ext cx="65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、长度测量是最基本的测量。</a:t>
            </a:r>
            <a:r>
              <a:rPr b="0" lang="zh-CN" sz="4000" spc="-1" strike="noStrike">
                <a:solidFill>
                  <a:srgbClr val="7979a5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960" y="2879640"/>
            <a:ext cx="80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隶书"/>
                <a:ea typeface="隶书"/>
              </a:rPr>
              <a:t>、刻度尺是测量长度的基本工具。</a:t>
            </a:r>
            <a:r>
              <a:rPr b="1" lang="zh-CN" sz="4000" spc="-1" strike="noStrike">
                <a:solidFill>
                  <a:srgbClr val="7979a5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549360"/>
            <a:ext cx="7479000" cy="825120"/>
          </a:xfrm>
          <a:prstGeom prst="rect">
            <a:avLst/>
          </a:prstGeom>
          <a:noFill/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姚体"/>
              </a:rPr>
              <a:t>活动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5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　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观察刻度尺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40000" y="155736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认清刻度尺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零刻度线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的位置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量程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分度值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557360"/>
            <a:ext cx="187308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会认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476280"/>
            <a:ext cx="65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、正确使用刻度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9144000" cy="2232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 flipV="1">
            <a:off x="1258920" y="5589360"/>
            <a:ext cx="2952720" cy="64764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11640" y="6093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单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39640" y="3573360"/>
            <a:ext cx="1008000" cy="122400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29448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零刻度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4495680" y="-103320"/>
            <a:ext cx="152280" cy="8207280"/>
          </a:xfrm>
          <a:custGeom>
            <a:avLst/>
            <a:gdLst>
              <a:gd name="textAreaLeft" fmla="*/ 0 w 152280"/>
              <a:gd name="textAreaRight" fmla="*/ 106920 w 152280"/>
              <a:gd name="textAreaTop" fmla="*/ 341640 h 8207280"/>
              <a:gd name="textAreaBottom" fmla="*/ 7865640 h 820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25880" y="339876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量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10360" y="587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ahoma"/>
                <a:ea typeface="黑体"/>
              </a:rPr>
              <a:t>分度值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32360" y="4221000"/>
            <a:ext cx="107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03640" y="4292280"/>
            <a:ext cx="576360" cy="1800360"/>
          </a:xfrm>
          <a:prstGeom prst="line">
            <a:avLst/>
          </a:prstGeom>
          <a:ln w="255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24000" y="404640"/>
            <a:ext cx="2376360" cy="764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会放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76500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        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刻度尺的“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0”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刻度线与被测物体的一端对齐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使刻度尺有刻度的边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贴紧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待测物体，与所测长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平行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，不能倾斜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3600360" cy="40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50920" y="2492280"/>
            <a:ext cx="8713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1" dur="1" fill="hold"/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333360"/>
            <a:ext cx="2664000" cy="764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会看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4680" y="13413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视线与刻度尺尺面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垂直</a:t>
            </a:r>
            <a:r>
              <a:rPr b="1" lang="zh-CN" sz="4000" spc="-1" strike="noStrike">
                <a:solidFill>
                  <a:srgbClr val="3333ff"/>
                </a:solidFill>
                <a:latin typeface="宋体"/>
              </a:rPr>
              <a:t>。</a:t>
            </a:r>
            <a:r>
              <a:rPr b="0" lang="zh-CN" sz="4000" spc="-1" strike="noStrike">
                <a:solidFill>
                  <a:srgbClr val="dc59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95280" y="2421000"/>
            <a:ext cx="8352720" cy="3787920"/>
            <a:chOff x="395280" y="2421000"/>
            <a:chExt cx="8352720" cy="3787920"/>
          </a:xfrm>
        </p:grpSpPr>
        <p:grpSp>
          <p:nvGrpSpPr>
            <p:cNvPr id="166" name=""/>
            <p:cNvGrpSpPr/>
            <p:nvPr/>
          </p:nvGrpSpPr>
          <p:grpSpPr>
            <a:xfrm>
              <a:off x="395280" y="2421000"/>
              <a:ext cx="8352720" cy="3787920"/>
              <a:chOff x="395280" y="2421000"/>
              <a:chExt cx="8352720" cy="3787920"/>
            </a:xfrm>
          </p:grpSpPr>
          <p:pic>
            <p:nvPicPr>
              <p:cNvPr id="167" name="" descr=""/>
              <p:cNvPicPr/>
              <p:nvPr/>
            </p:nvPicPr>
            <p:blipFill>
              <a:blip r:embed="rId2"/>
              <a:srcRect l="0" t="45078" r="0" b="15498"/>
              <a:stretch/>
            </p:blipFill>
            <p:spPr>
              <a:xfrm>
                <a:off x="395280" y="2421000"/>
                <a:ext cx="8352720" cy="378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3"/>
              <a:srcRect l="83572" t="37565" r="4112" b="43676"/>
              <a:stretch/>
            </p:blipFill>
            <p:spPr>
              <a:xfrm>
                <a:off x="7355880" y="2421000"/>
                <a:ext cx="1044000" cy="1577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"/>
            <p:cNvSpPr/>
            <p:nvPr/>
          </p:nvSpPr>
          <p:spPr>
            <a:xfrm>
              <a:off x="1206720" y="2736360"/>
              <a:ext cx="139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27800" y="2579040"/>
              <a:ext cx="98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√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333360"/>
            <a:ext cx="2448000" cy="764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会读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424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43200" y="2560680"/>
            <a:ext cx="39895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２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.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７８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cm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08000" y="126828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读数时，要估读到分度值的下一位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260280"/>
            <a:ext cx="2736720" cy="764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会记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8496360" cy="424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1125360"/>
            <a:ext cx="85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记录的测量结果应由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准确值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估读值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单位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组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2637000"/>
            <a:ext cx="36547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２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.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７８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cm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802040" y="554688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2.4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55897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木块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的长度是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_________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厘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79280" y="1557360"/>
            <a:ext cx="8856720" cy="3941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59280" y="260280"/>
            <a:ext cx="236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练      习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89000"/>
            <a:ext cx="547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长度的单位及测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981000"/>
            <a:ext cx="8064360" cy="642600"/>
          </a:xfrm>
          <a:prstGeom prst="rect">
            <a:avLst/>
          </a:prstGeom>
          <a:noFill/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活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姚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比较课桌的长、宽、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752480"/>
            <a:ext cx="85914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请你目测一下课桌的长、宽、高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比较它们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长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4419720"/>
            <a:ext cx="85500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不用尺，你如何证实自己目测的结果？写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你的做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2895480"/>
          <a:ext cx="8305560" cy="1371600"/>
        </p:xfrm>
        <a:graphic>
          <a:graphicData uri="http://schemas.openxmlformats.org/drawingml/2006/table">
            <a:tbl>
              <a:tblPr/>
              <a:tblGrid>
                <a:gridCol w="1676160"/>
                <a:gridCol w="2210040"/>
                <a:gridCol w="2209680"/>
                <a:gridCol w="2209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课桌长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课桌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课桌高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目测结果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3809880" cy="3749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513400"/>
            <a:ext cx="8763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取一根线，使其与课桌的长等长，以此作为标准与课桌的宽、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进行比较；用课本的宽度作为标准，测出课桌的长、宽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高各是选定标准的几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8360" y="549360"/>
            <a:ext cx="8280360" cy="642600"/>
          </a:xfrm>
          <a:prstGeom prst="rect">
            <a:avLst/>
          </a:prstGeom>
          <a:noFill/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活动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方正姚体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用刻度尺测量物理课本的长和宽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" y="17082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做一做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6560" y="2708280"/>
            <a:ext cx="820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信息快递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测量时要进行估读，估读有时偏大，有时偏小，这时就会产生误差。多次测量取平均值，可以减小误差。还可以采用更精密的仪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549360"/>
            <a:ext cx="8280360" cy="549000"/>
          </a:xfrm>
          <a:prstGeom prst="rect">
            <a:avLst/>
          </a:prstGeom>
          <a:noFill/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活动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5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3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用刻度尺测量纸张的厚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1960" y="1295280"/>
            <a:ext cx="820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想一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何测出一张纸的厚度？与同学交    流，确定自己的方案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3880" y="2438280"/>
            <a:ext cx="7605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做一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把测量值填入课本的表格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2280" y="3124080"/>
          <a:ext cx="8534520" cy="2973600"/>
        </p:xfrm>
        <a:graphic>
          <a:graphicData uri="http://schemas.openxmlformats.org/drawingml/2006/table">
            <a:tbl>
              <a:tblPr/>
              <a:tblGrid>
                <a:gridCol w="652680"/>
                <a:gridCol w="1557360"/>
                <a:gridCol w="1371600"/>
                <a:gridCol w="1828800"/>
                <a:gridCol w="3124080"/>
              </a:tblGrid>
              <a:tr h="8535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实验序号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整本书的厚度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∕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m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书中纸的张数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张纸的厚度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∕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mm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平均值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∕</a:t>
                      </a: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mm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②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③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572000" y="3549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1min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＝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60s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473280"/>
            <a:ext cx="25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1h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＝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60min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5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四、时间的单位及测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14479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时间的国际单位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秒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符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233352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时间单位的换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3520" y="533520"/>
            <a:ext cx="6984720" cy="642600"/>
          </a:xfrm>
          <a:prstGeom prst="rect">
            <a:avLst/>
          </a:prstGeom>
          <a:noFill/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活动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5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学会使用秒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700280"/>
            <a:ext cx="8667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取一块秒表，仔细观察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表盘指针运动一周所表示的时间是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大表盘的分度值是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表盘指针运动一周所表示的时间是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小表盘的分度值是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5280" y="260280"/>
            <a:ext cx="658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测量长度的特殊方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08000" y="1052640"/>
            <a:ext cx="25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）辅助工具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适于测圆、圆柱体的直径和圆锥体的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rcRect l="66184" t="0" r="0" b="0"/>
          <a:stretch/>
        </p:blipFill>
        <p:spPr>
          <a:xfrm>
            <a:off x="3203640" y="2349360"/>
            <a:ext cx="3024000" cy="4508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372360" y="2349360"/>
            <a:ext cx="2592000" cy="4508280"/>
            <a:chOff x="6372360" y="2349360"/>
            <a:chExt cx="2592000" cy="4508280"/>
          </a:xfrm>
        </p:grpSpPr>
        <p:pic>
          <p:nvPicPr>
            <p:cNvPr id="201" name="" descr=""/>
            <p:cNvPicPr/>
            <p:nvPr/>
          </p:nvPicPr>
          <p:blipFill>
            <a:blip r:embed="rId3"/>
            <a:srcRect l="3485" t="8823" r="0" b="0"/>
            <a:stretch/>
          </p:blipFill>
          <p:spPr>
            <a:xfrm>
              <a:off x="6372360" y="2349360"/>
              <a:ext cx="2592000" cy="45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372360" y="2349360"/>
              <a:ext cx="933840" cy="581040"/>
            </a:xfrm>
            <a:prstGeom prst="rect">
              <a:avLst/>
            </a:prstGeom>
            <a:solidFill>
              <a:srgbClr val="e3e3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4"/>
          <a:srcRect l="17349" t="8703" r="13212" b="44064"/>
          <a:stretch/>
        </p:blipFill>
        <p:spPr>
          <a:xfrm>
            <a:off x="250920" y="2349360"/>
            <a:ext cx="27716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1700280"/>
            <a:ext cx="851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测较短的曲线，例如地图册上的铁路线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测较长的曲线例如运动场的跑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rcRect l="0" t="0" r="4834" b="0"/>
          <a:stretch/>
        </p:blipFill>
        <p:spPr>
          <a:xfrm>
            <a:off x="5638680" y="3645000"/>
            <a:ext cx="3505320" cy="321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rcRect l="2822" t="0" r="0" b="0"/>
          <a:stretch/>
        </p:blipFill>
        <p:spPr>
          <a:xfrm>
            <a:off x="2971800" y="3645000"/>
            <a:ext cx="2629080" cy="3213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rcRect l="29150" t="12286" r="24539" b="8056"/>
          <a:stretch/>
        </p:blipFill>
        <p:spPr>
          <a:xfrm>
            <a:off x="0" y="3645000"/>
            <a:ext cx="2971800" cy="3213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68360" y="54936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）化曲为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1557360"/>
            <a:ext cx="685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测纸的厚，细丝直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rcRect l="50479" t="8105" r="10536" b="10990"/>
          <a:stretch/>
        </p:blipFill>
        <p:spPr>
          <a:xfrm>
            <a:off x="250920" y="3068640"/>
            <a:ext cx="4249800" cy="3240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4392720" cy="3240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33520" y="45720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（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）以多测少法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2760" y="6094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想一想：对比目测和实际测量的结果，你有哪些想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4479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事实表明，单凭感觉器官直接判断并不完全可靠。为了提高判断的可靠性和准确性，就必须借助于仪器来进行测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8308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测量就是将待测的量与一个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公认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标准量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进行比较。这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标准量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就称为单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151080"/>
            <a:ext cx="1263600" cy="14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汉鼎繁淡古"/>
              </a:rPr>
              <a:t>方法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汉鼎繁淡古"/>
              <a:ea typeface="汉鼎繁淡古"/>
            </a:endParaRPr>
          </a:p>
        </p:txBody>
      </p:sp>
      <p:sp>
        <p:nvSpPr>
          <p:cNvPr id="99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155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长度的国际单位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米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符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276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其它常用的长度单位及符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924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千米、分米、厘米、毫米、微米、纳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km     dm       cm       mm      µm      n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11280" y="476280"/>
            <a:ext cx="4211280" cy="914400"/>
            <a:chOff x="611280" y="476280"/>
            <a:chExt cx="4211280" cy="914400"/>
          </a:xfrm>
        </p:grpSpPr>
        <p:sp>
          <p:nvSpPr>
            <p:cNvPr id="104" name=""/>
            <p:cNvSpPr/>
            <p:nvPr/>
          </p:nvSpPr>
          <p:spPr>
            <a:xfrm>
              <a:off x="611280" y="476280"/>
              <a:ext cx="4211280" cy="914400"/>
            </a:xfrm>
            <a:custGeom>
              <a:avLst/>
              <a:gdLst>
                <a:gd name="textAreaLeft" fmla="*/ 640800 w 4211280"/>
                <a:gd name="textAreaRight" fmla="*/ 3570480 w 4211280"/>
                <a:gd name="textAreaTop" fmla="*/ 0 h 914400"/>
                <a:gd name="textAreaBottom" fmla="*/ 80028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988" y="18900"/>
                  </a:moveTo>
                  <a:lnTo>
                    <a:pt x="5988" y="20925"/>
                  </a:lnTo>
                  <a:cubicBezTo>
                    <a:pt x="5988" y="21263"/>
                    <a:pt x="5568" y="21600"/>
                    <a:pt x="5148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3288" y="2700"/>
                  </a:lnTo>
                  <a:lnTo>
                    <a:pt x="3288" y="675"/>
                  </a:lnTo>
                  <a:cubicBezTo>
                    <a:pt x="3288" y="338"/>
                    <a:pt x="3708" y="0"/>
                    <a:pt x="4128" y="0"/>
                  </a:cubicBezTo>
                  <a:lnTo>
                    <a:pt x="17472" y="0"/>
                  </a:lnTo>
                  <a:cubicBezTo>
                    <a:pt x="17892" y="0"/>
                    <a:pt x="18312" y="338"/>
                    <a:pt x="18312" y="675"/>
                  </a:cubicBezTo>
                  <a:lnTo>
                    <a:pt x="18312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6452" y="21600"/>
                  </a:lnTo>
                  <a:cubicBezTo>
                    <a:pt x="16032" y="21600"/>
                    <a:pt x="15612" y="21263"/>
                    <a:pt x="15612" y="20925"/>
                  </a:cubicBezTo>
                  <a:lnTo>
                    <a:pt x="15612" y="18900"/>
                  </a:lnTo>
                  <a:close/>
                </a:path>
                <a:path fill="darkenLess" w="21600" h="21600">
                  <a:moveTo>
                    <a:pt x="5988" y="18900"/>
                  </a:moveTo>
                  <a:lnTo>
                    <a:pt x="5988" y="20925"/>
                  </a:lnTo>
                  <a:cubicBezTo>
                    <a:pt x="5988" y="20588"/>
                    <a:pt x="5568" y="20250"/>
                    <a:pt x="5148" y="20250"/>
                  </a:cubicBezTo>
                  <a:lnTo>
                    <a:pt x="4128" y="20250"/>
                  </a:lnTo>
                  <a:cubicBezTo>
                    <a:pt x="3708" y="20250"/>
                    <a:pt x="3288" y="19913"/>
                    <a:pt x="3288" y="19575"/>
                  </a:cubicBezTo>
                  <a:cubicBezTo>
                    <a:pt x="3288" y="19238"/>
                    <a:pt x="3708" y="18900"/>
                    <a:pt x="4128" y="18900"/>
                  </a:cubicBezTo>
                  <a:close/>
                </a:path>
                <a:path fill="darkenLess" w="21600" h="21600">
                  <a:moveTo>
                    <a:pt x="15612" y="18900"/>
                  </a:moveTo>
                  <a:lnTo>
                    <a:pt x="15612" y="20925"/>
                  </a:lnTo>
                  <a:cubicBezTo>
                    <a:pt x="15612" y="20588"/>
                    <a:pt x="16032" y="20250"/>
                    <a:pt x="16452" y="20250"/>
                  </a:cubicBezTo>
                  <a:lnTo>
                    <a:pt x="17472" y="20250"/>
                  </a:lnTo>
                  <a:cubicBezTo>
                    <a:pt x="17892" y="20250"/>
                    <a:pt x="18312" y="19913"/>
                    <a:pt x="18312" y="19575"/>
                  </a:cubicBezTo>
                  <a:cubicBezTo>
                    <a:pt x="18312" y="19238"/>
                    <a:pt x="17892" y="18900"/>
                    <a:pt x="17472" y="18900"/>
                  </a:cubicBezTo>
                  <a:close/>
                </a:path>
                <a:path fill="darkenLess" w="21600" h="21600">
                  <a:moveTo>
                    <a:pt x="3288" y="19575"/>
                  </a:moveTo>
                  <a:lnTo>
                    <a:pt x="3288" y="2700"/>
                  </a:lnTo>
                </a:path>
                <a:path fill="darkenLess" w="21600" h="21600">
                  <a:moveTo>
                    <a:pt x="18312" y="19575"/>
                  </a:moveTo>
                  <a:lnTo>
                    <a:pt x="18312" y="2700"/>
                  </a:lnTo>
                </a:path>
              </a:pathLst>
            </a:custGeom>
            <a:gradFill rotWithShape="0">
              <a:gsLst>
                <a:gs pos="0">
                  <a:srgbClr val="ebf7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82440" y="55224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长度的单位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748040" y="304488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227664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dm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＝</a:t>
            </a:r>
            <a:r>
              <a:rPr b="1" lang="en-US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0.1m=10</a:t>
            </a:r>
            <a:r>
              <a:rPr b="1" lang="en-US" sz="4800" spc="-1" strike="noStrike" baseline="30000">
                <a:solidFill>
                  <a:srgbClr val="003399"/>
                </a:solidFill>
                <a:latin typeface="楷体_GB2312"/>
                <a:ea typeface="楷体_GB2312"/>
              </a:rPr>
              <a:t>-1</a:t>
            </a:r>
            <a:r>
              <a:rPr b="1" lang="en-US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</a:t>
            </a:r>
            <a:r>
              <a:rPr b="1" lang="en-US" sz="6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	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48428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km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＝</a:t>
            </a:r>
            <a:r>
              <a:rPr b="1" lang="en-US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00m=10</a:t>
            </a:r>
            <a:r>
              <a:rPr b="1" lang="en-US" sz="4800" spc="-1" strike="noStrike" baseline="30000">
                <a:solidFill>
                  <a:srgbClr val="003399"/>
                </a:solidFill>
                <a:latin typeface="楷体_GB2312"/>
                <a:ea typeface="楷体_GB2312"/>
              </a:rPr>
              <a:t>3</a:t>
            </a:r>
            <a:r>
              <a:rPr b="1" lang="en-US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</a:t>
            </a:r>
            <a:r>
              <a:rPr b="1" lang="en-US" sz="6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	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13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cm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＝</a:t>
            </a:r>
            <a:r>
              <a:rPr b="1" lang="en-US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0.01m=10</a:t>
            </a:r>
            <a:r>
              <a:rPr b="1" lang="en-US" sz="4800" spc="-1" strike="noStrike" baseline="30000">
                <a:solidFill>
                  <a:srgbClr val="003399"/>
                </a:solidFill>
                <a:latin typeface="楷体_GB2312"/>
                <a:ea typeface="楷体_GB2312"/>
              </a:rPr>
              <a:t>-2</a:t>
            </a:r>
            <a:r>
              <a:rPr b="1" lang="en-US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933720"/>
            <a:ext cx="59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mm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＝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0.001m=10</a:t>
            </a:r>
            <a:r>
              <a:rPr b="1" lang="zh-CN" sz="4800" spc="-1" strike="noStrike" baseline="30000">
                <a:solidFill>
                  <a:srgbClr val="003399"/>
                </a:solidFill>
                <a:latin typeface="楷体_GB2312"/>
                <a:ea typeface="楷体_GB2312"/>
              </a:rPr>
              <a:t>-3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72428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dc5900"/>
                </a:solidFill>
                <a:latin typeface="隶书"/>
                <a:ea typeface="隶书"/>
              </a:rPr>
              <a:t>µ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＝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0.000001m=10</a:t>
            </a:r>
            <a:r>
              <a:rPr b="1" lang="zh-CN" sz="4800" spc="-1" strike="noStrike" baseline="30000">
                <a:solidFill>
                  <a:srgbClr val="003399"/>
                </a:solidFill>
                <a:latin typeface="楷体_GB2312"/>
                <a:ea typeface="楷体_GB2312"/>
              </a:rPr>
              <a:t>-6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800000" cy="2333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093080" y="1557360"/>
            <a:ext cx="180792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308720" y="3213000"/>
            <a:ext cx="1584360" cy="266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7451640" y="4653000"/>
            <a:ext cx="1441440" cy="133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551664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nm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＝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0.000000001m=10</a:t>
            </a:r>
            <a:r>
              <a:rPr b="1" lang="zh-CN" sz="4800" spc="-1" strike="noStrike" baseline="30000">
                <a:solidFill>
                  <a:srgbClr val="003399"/>
                </a:solidFill>
                <a:latin typeface="楷体_GB2312"/>
                <a:ea typeface="楷体_GB2312"/>
              </a:rPr>
              <a:t>-9</a:t>
            </a:r>
            <a:r>
              <a:rPr b="1" lang="zh-CN" sz="4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54936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常用长度单位之间的换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440" y="2351160"/>
            <a:ext cx="46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zxxkw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71640" y="836640"/>
            <a:ext cx="4967280" cy="70344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单位换算的格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060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00m=_______ </a:t>
            </a:r>
            <a:r>
              <a:rPr b="1" lang="en-US" sz="3600" spc="-1" strike="noStrike">
                <a:solidFill>
                  <a:srgbClr val="dc5900"/>
                </a:solidFill>
                <a:latin typeface="隶书"/>
                <a:ea typeface="隶书"/>
              </a:rPr>
              <a:t>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4076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00m=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500×10</a:t>
            </a:r>
            <a:r>
              <a:rPr b="1" lang="en-US" sz="3200" spc="-1" strike="noStrike" u="sng" baseline="30000">
                <a:solidFill>
                  <a:srgbClr val="007a77"/>
                </a:solidFill>
                <a:uFillTx/>
                <a:latin typeface="Arial"/>
              </a:rPr>
              <a:t>6 </a:t>
            </a:r>
            <a:r>
              <a:rPr b="1" lang="en-US" sz="3600" spc="-1" strike="noStrike">
                <a:solidFill>
                  <a:srgbClr val="dc5900"/>
                </a:solidFill>
                <a:latin typeface="隶书"/>
                <a:ea typeface="隶书"/>
              </a:rPr>
              <a:t>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=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5×10</a:t>
            </a:r>
            <a:r>
              <a:rPr b="1" lang="en-US" sz="3200" spc="-1" strike="noStrike" u="sng" baseline="30000">
                <a:solidFill>
                  <a:srgbClr val="007a77"/>
                </a:solidFill>
                <a:uFillTx/>
                <a:latin typeface="Arial"/>
              </a:rPr>
              <a:t>8 </a:t>
            </a:r>
            <a:r>
              <a:rPr b="1" lang="en-US" sz="3600" spc="-1" strike="noStrike">
                <a:solidFill>
                  <a:srgbClr val="dc5900"/>
                </a:solidFill>
                <a:latin typeface="隶书"/>
                <a:ea typeface="隶书"/>
              </a:rPr>
              <a:t>µ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3068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2cm=_______nm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501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2cm=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42×10</a:t>
            </a:r>
            <a:r>
              <a:rPr b="1" lang="en-US" sz="3200" spc="-1" strike="noStrike" u="sng" baseline="30000">
                <a:solidFill>
                  <a:srgbClr val="007a77"/>
                </a:solidFill>
                <a:uFillTx/>
                <a:latin typeface="Arial"/>
              </a:rPr>
              <a:t>7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nm=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4.2×10</a:t>
            </a:r>
            <a:r>
              <a:rPr b="1" lang="en-US" sz="3200" spc="-1" strike="noStrike" u="sng" baseline="30000">
                <a:solidFill>
                  <a:srgbClr val="007a77"/>
                </a:solidFill>
                <a:uFillTx/>
                <a:latin typeface="Arial"/>
              </a:rPr>
              <a:t>8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nm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666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19280" y="5589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原   子   直   径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3600" spc="-1" strike="noStrike" baseline="30000">
                <a:solidFill>
                  <a:srgbClr val="0000ff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34520" y="3886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92360" y="5877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人 头 发 的 直 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3600" spc="-1" strike="noStrike" baseline="30000">
                <a:solidFill>
                  <a:srgbClr val="0000ff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4510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295280" y="152280"/>
            <a:ext cx="691056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42920" y="587700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哈雷彗星彗尾的长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0</a:t>
            </a:r>
            <a:r>
              <a:rPr b="1" lang="zh-CN" sz="3600" spc="-1" strike="noStrike" baseline="30000">
                <a:solidFill>
                  <a:srgbClr val="0000ff"/>
                </a:solidFill>
                <a:latin typeface="Times New Roman"/>
                <a:ea typeface="华文新魏"/>
              </a:rPr>
              <a:t>1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4520" y="4510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唐付银</dc:creator>
  <dc:description/>
  <dc:language>en-US</dc:language>
  <cp:lastModifiedBy>User</cp:lastModifiedBy>
  <dcterms:modified xsi:type="dcterms:W3CDTF">2014-04-25T07:27:40Z</dcterms:modified>
  <cp:revision>181</cp:revision>
  <dc:subject>一、长度和时间的测量</dc:subject>
  <dc:title>第五章 物体的运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