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12.gif" ContentType="image/gif"/>
  <Override PartName="/ppt/media/image24.jpeg" ContentType="image/jpeg"/>
  <Override PartName="/ppt/media/image7.gif" ContentType="image/gif"/>
  <Override PartName="/ppt/media/image26.jpeg" ContentType="image/jpeg"/>
  <Override PartName="/ppt/media/image6.gif" ContentType="image/gif"/>
  <Override PartName="/ppt/media/image10.gif" ContentType="image/gif"/>
  <Override PartName="/ppt/media/image5.gif" ContentType="image/gif"/>
  <Override PartName="/ppt/media/image14.jpeg" ContentType="image/jpeg"/>
  <Override PartName="/ppt/media/image25.jpeg" ContentType="image/jpeg"/>
  <Override PartName="/ppt/media/image3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.gif" ContentType="image/gif"/>
  <Override PartName="/ppt/media/image17.png" ContentType="image/png"/>
  <Override PartName="/ppt/media/image16.gif" ContentType="image/gif"/>
  <Override PartName="/ppt/media/image28.jpeg" ContentType="image/jpeg"/>
  <Override PartName="/ppt/media/image15.gif" ContentType="image/gif"/>
  <Override PartName="/ppt/media/image4.gif" ContentType="image/gif"/>
  <Override PartName="/ppt/media/image22.jpeg" ContentType="image/jpeg"/>
  <Override PartName="/ppt/media/image27.gif" ContentType="image/gif"/>
  <Override PartName="/ppt/media/image29.jpeg" ContentType="image/jpeg"/>
  <Override PartName="/ppt/media/image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F2D-2F39-4F65-9299-2469263A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8B0-9F9C-42E4-BFCE-A082BF8F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B69-FE89-4216-8737-ADD07544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D72-D048-4930-BCDB-7491CCC9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1B4-5299-4362-9CD8-C9CAD9C8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291-B564-4D68-8DF2-E0D5039D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CB7-1C75-4752-8349-73A57C1E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452-3C25-4F8A-A26B-D58CE2F6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44E-AC27-46D6-BD73-F1B022C6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769-9B40-49BB-88FC-F7448FB6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9DD-17CC-4B79-B91C-A925AA27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7BE-6145-45BF-AAD2-5D55931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26C3-2B2E-41BA-A13F-668D4436ED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6.xml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1981080"/>
            <a:ext cx="6348600" cy="231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世界是运动的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1989360" cy="1646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66680" y="48769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1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777440" cy="3168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342900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地球同步卫星是在地球同步轨道上运行的。以地球为参照物，通信卫星都是静止还是运动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学科网 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zxxk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7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609480" y="1143000"/>
            <a:ext cx="7772400" cy="3297600"/>
            <a:chOff x="609480" y="1143000"/>
            <a:chExt cx="7772400" cy="3297600"/>
          </a:xfrm>
        </p:grpSpPr>
        <p:sp>
          <p:nvSpPr>
            <p:cNvPr id="74" name=""/>
            <p:cNvSpPr/>
            <p:nvPr/>
          </p:nvSpPr>
          <p:spPr>
            <a:xfrm>
              <a:off x="609480" y="11430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注意 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09480" y="2012760"/>
              <a:ext cx="7772400" cy="2427840"/>
              <a:chOff x="609480" y="2012760"/>
              <a:chExt cx="7772400" cy="2427840"/>
            </a:xfrm>
          </p:grpSpPr>
          <p:sp>
            <p:nvSpPr>
              <p:cNvPr id="76" name=""/>
              <p:cNvSpPr/>
              <p:nvPr/>
            </p:nvSpPr>
            <p:spPr>
              <a:xfrm>
                <a:off x="609480" y="3612960"/>
                <a:ext cx="4876920" cy="82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Times New Roman"/>
                  </a:rPr>
                  <a:t>为参照物是无意义的。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Times New Roman"/>
                  </a:rPr>
                  <a:t>学科网 </a:t>
                </a:r>
                <a:r>
                  <a:rPr b="0" lang="zh-CN" sz="800" spc="-1" strike="noStrike">
                    <a:solidFill>
                      <a:srgbClr val="ffffff"/>
                    </a:solidFill>
                    <a:latin typeface="Times New Roman"/>
                  </a:rPr>
                  <a:t>zxxk</a:t>
                </a:r>
                <a:r>
                  <a:rPr b="0" lang="zh-CN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9480" y="2819160"/>
                <a:ext cx="7696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Times New Roman"/>
                  </a:rPr>
                  <a:t>但是不能选物体本身、因为选取自身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00200" y="2012760"/>
                <a:ext cx="678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Times New Roman"/>
                  </a:rPr>
                  <a:t>选取参照物时可以选取任何物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9144000" cy="6324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54817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447560" cy="1265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013360"/>
            <a:ext cx="180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为云朵向西运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照物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为月亮向东运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照物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运动的相对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429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3886200" cy="1930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14400" y="6094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两个蜗牛的说法怎么会不一致？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447560" cy="1265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44000" cy="46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参照物选取的不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对于同一个物体，有时我们说它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运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，有时我们又说它是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静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。机械运动的这种性质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运动的相对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们在描述物体运动还是静止的时候，应该说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物体相对于哪个参照物是运动的或是静止的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常我们默认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地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参照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914400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54097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知道那些关于运动的诗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所选的参照物分别是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8240" y="457200"/>
            <a:ext cx="1399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边落木萧萧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尽长江滚滚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049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运动相对性在日常生活中的应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2349360"/>
            <a:ext cx="71136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中加油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风洞中的飞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3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095880" cy="3809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14840" y="3171960"/>
            <a:ext cx="896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4876920"/>
            <a:ext cx="2743200" cy="1407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168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48040" y="3352680"/>
            <a:ext cx="4000680" cy="25988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04920" y="3200400"/>
            <a:ext cx="3446280" cy="35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769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飞机放在风洞中固定不动，让风迎面吹来，可模拟飞机在空中的飞行情况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62326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5880" y="1731960"/>
            <a:ext cx="297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911”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事件中被劫持的飞机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撞上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世贸中心大楼后怎么会在瞬间将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大楼摧毁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组卷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447920"/>
            <a:ext cx="89154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动能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物体由于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运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而具有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称之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动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5228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世界是运动的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781680" y="0"/>
            <a:ext cx="1447920" cy="1265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2562480" cy="2743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81280" y="38098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请同学们自己找找生活中有关运动的物体具有能量的例子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！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75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75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75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43400" y="2286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952880" y="27432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286000" y="28195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477120" y="19051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5410440" cy="5410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64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1480" y="16765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男孩和女孩的话谁对谁错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ut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52480" y="7632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世界是运动的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891540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运动与静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信息快递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参照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用来判断一个物体是否运动的另一个物体，叫做参照物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391520" y="-76320"/>
            <a:ext cx="1447560" cy="1265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75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75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479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52480" y="7632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世界是运动的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447560" cy="126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2276640"/>
            <a:ext cx="91440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机械运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个物体相对于参照物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位置的改变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叫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机械运动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简称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运动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75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75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89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地板为参照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动员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;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墙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752480" y="7632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世界是运动的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447560" cy="1265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判断下列物体是运动还是静止的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23:55:33Z</dcterms:created>
  <dc:creator>tyzx</dc:creator>
  <dc:description/>
  <dc:language>en-US</dc:language>
  <cp:lastModifiedBy>User</cp:lastModifiedBy>
  <dcterms:modified xsi:type="dcterms:W3CDTF">2014-02-28T07:48:14Z</dcterms:modified>
  <cp:revision>62</cp:revision>
  <dc:subject/>
  <dc:title>PowerPoint 演示文稿</dc:title>
</cp:coreProperties>
</file>