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128-90B6-4D90-A351-52228E97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5C0-C32E-42D1-A06D-FAE2BDF5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64F-3F96-4842-9B74-9738B002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03B-81C3-4A7A-957D-56DDC905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3C6B-6D64-4703-9529-80D7C2DB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78E6-5898-498C-8F5C-82A05E5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FA03-7D15-43AA-8A10-E55CC30E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DCF9-3E34-4991-BD29-C8C56D05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89A5-CB26-4543-B7C3-5B979A3F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9362-EEF0-40F3-80CB-FA899F2B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C575-A342-4ED4-A823-88707A69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2B0-F103-40BE-B03F-4571AD07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96CD-C369-412F-873F-FFDC0B03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FD5C-6E7E-48BA-971F-458872C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CA0E-5E08-45D3-AFF2-746C7602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18F1-560E-4E57-BF7B-F13AC336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D718-CBE8-4280-9930-03D209B0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AD5-74A3-49B8-BF8C-4B658A05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73C-09D2-4FF0-87D3-8CF8745C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C15-5EF7-4C87-9314-7E783611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07E-9B52-4B76-8FB3-41A030B0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D1D-5E9D-4D7D-8052-E42430D4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488-5D4D-4629-B8FF-7CAE9BED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3BD-A7B2-45B1-A4D2-394A4F76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F61D-D4C0-4B57-A66D-C7827A2C188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22F0-DF7D-4FB1-AAF2-751B8AC6FCE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6000" y="1699920"/>
            <a:ext cx="3311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5.2 </a:t>
            </a: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速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计算与解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961040" cy="22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正式投入运营的京沪高铁更是举世瞩目，从北京南站出发终止于上海虹桥站，总里程约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080 km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一动车组从北京到达上海所花时间约为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这列火车的速度是多少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km/h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合多少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m/s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？</a:t>
            </a:r>
            <a:r>
              <a:rPr b="0" lang="zh-CN" sz="400" spc="-1" strike="noStrike">
                <a:solidFill>
                  <a:srgbClr val="ffffff"/>
                </a:solidFill>
                <a:latin typeface="Tahoma"/>
              </a:rPr>
              <a:t>组卷网</a:t>
            </a: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9770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比较物体运动的快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384720" cy="2200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4920" y="2205000"/>
            <a:ext cx="53290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比较物体运动的快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476360" y="1833480"/>
            <a:ext cx="6192720" cy="2028600"/>
            <a:chOff x="1476360" y="1833480"/>
            <a:chExt cx="6192720" cy="2028600"/>
          </a:xfrm>
        </p:grpSpPr>
        <p:grpSp>
          <p:nvGrpSpPr>
            <p:cNvPr id="108" name=""/>
            <p:cNvGrpSpPr/>
            <p:nvPr/>
          </p:nvGrpSpPr>
          <p:grpSpPr>
            <a:xfrm>
              <a:off x="1476360" y="1833480"/>
              <a:ext cx="6192720" cy="1810080"/>
              <a:chOff x="1476360" y="1833480"/>
              <a:chExt cx="6192720" cy="1810080"/>
            </a:xfrm>
          </p:grpSpPr>
          <p:pic>
            <p:nvPicPr>
              <p:cNvPr id="109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1476360" y="1833480"/>
                <a:ext cx="6192720" cy="14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647800" y="3266640"/>
                <a:ext cx="390240" cy="37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74680" y="3269520"/>
                <a:ext cx="390240" cy="37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506200" y="334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ahoma"/>
                </a:rPr>
                <a:t>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24000" y="410760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图是从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观众的角度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比较运动员运动快慢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方法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相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比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运动的快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图是从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裁判的角度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比较运动员运动快慢的；</a:t>
            </a:r>
            <a:r>
              <a:rPr b="0" lang="zh-CN" sz="700" spc="-1" strike="noStrike">
                <a:solidFill>
                  <a:srgbClr val="ffffff"/>
                </a:solidFill>
                <a:latin typeface="Tahoma"/>
              </a:rPr>
              <a:t>zxx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1428840"/>
                <a:tab algn="l" pos="2635200"/>
                <a:tab algn="l" pos="3841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方法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相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比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运动的快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2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45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64000" y="45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458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路程越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49975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5357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3578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37080" y="53578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"/>
                <a:ea typeface="楷体"/>
              </a:rPr>
              <a:t>时间越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速度及其测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340000" y="4508640"/>
                <a:ext cx="15843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速度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路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时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826920" y="249228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物理学中用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描述物体运动的快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24890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速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57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速度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35701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单位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时间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所通过的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路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8560" y="4581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148360" y="4365720"/>
                <a:ext cx="911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211640" y="4941720"/>
            <a:ext cx="720720" cy="142920"/>
          </a:xfrm>
          <a:prstGeom prst="rightArrow">
            <a:avLst>
              <a:gd name="adj1" fmla="val 50000"/>
              <a:gd name="adj2" fmla="val 1260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速度及其测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98560" y="21859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95640" y="2060640"/>
            <a:ext cx="1584360" cy="1025280"/>
            <a:chOff x="2195640" y="2060640"/>
            <a:chExt cx="1584360" cy="1025280"/>
          </a:xfrm>
        </p:grpSpPr>
        <p:sp>
          <p:nvSpPr>
            <p:cNvPr id="135" name=""/>
            <p:cNvSpPr/>
            <p:nvPr/>
          </p:nvSpPr>
          <p:spPr>
            <a:xfrm>
              <a:off x="2843280" y="25653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95640" y="226188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V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3800" y="206064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32000" y="25653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92360" y="2349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2852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20304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25495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48360" y="2491560"/>
            <a:ext cx="792000" cy="71640"/>
          </a:xfrm>
          <a:prstGeom prst="rightArrow">
            <a:avLst>
              <a:gd name="adj1" fmla="val 50000"/>
              <a:gd name="adj2" fmla="val 2763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22464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226224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米每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284640"/>
            <a:ext cx="44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常用单位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km/h    cm/s</a:t>
            </a:r>
            <a:r>
              <a:rPr b="0" lang="zh-CN" sz="700" spc="-1" strike="noStrike">
                <a:solidFill>
                  <a:srgbClr val="ffffff"/>
                </a:solidFill>
                <a:latin typeface="Tahoma"/>
              </a:rPr>
              <a:t>学科网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44942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m/s=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km/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 km/h =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/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6920" y="449424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15080" y="3933720"/>
                <a:ext cx="5209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黑体"/>
              </a:rPr>
              <a:t>常见的几个速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643040"/>
            <a:ext cx="824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声音在空气中的速度约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光在真空中的速度约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/s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合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K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人正常的步行速度约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206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292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×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33717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3×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41641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54309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"/>
              </a:rPr>
              <a:t>物理含义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  <a:ea typeface="楷体"/>
              </a:rPr>
              <a:t>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活动：比较纸锥下落的快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测量原理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要测定纸锥下落的速度，应测量哪些量：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你选用的器材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563800" y="2017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500720" y="1628640"/>
                <a:ext cx="909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773440" y="363060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下落的高度、下落的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刻度尺、秒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活动：比较纸锥下落的快慢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6377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设计表格，测量并计算出纸锥下落的速度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3357720"/>
          <a:ext cx="7983720" cy="2376360"/>
        </p:xfrm>
        <a:graphic>
          <a:graphicData uri="http://schemas.openxmlformats.org/drawingml/2006/table">
            <a:tbl>
              <a:tblPr/>
              <a:tblGrid>
                <a:gridCol w="863640"/>
                <a:gridCol w="2449800"/>
                <a:gridCol w="2087280"/>
                <a:gridCol w="25830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楷体"/>
                        </a:rPr>
                        <a:t>序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下落的高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/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下落的时间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下落速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/m·s</a:t>
                      </a:r>
                      <a:r>
                        <a:rPr b="0" lang="zh-CN" sz="2400" spc="-1" strike="noStrike" baseline="30000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7:54Z</dcterms:created>
  <dc:creator>qyx</dc:creator>
  <dc:description/>
  <dc:language>en-US</dc:language>
  <cp:lastModifiedBy>微软用户</cp:lastModifiedBy>
  <dcterms:modified xsi:type="dcterms:W3CDTF">2014-02-22T09:37:00Z</dcterms:modified>
  <cp:revision>10</cp:revision>
  <dc:subject/>
  <dc:title>5.2 速度</dc:title>
</cp:coreProperties>
</file>