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0.png" ContentType="image/png"/>
  <Override PartName="/ppt/media/image5.wmf" ContentType="image/x-wmf"/>
  <Override PartName="/ppt/media/image16.gif" ContentType="image/gif"/>
  <Override PartName="/ppt/media/image9.jpeg" ContentType="image/jpeg"/>
  <Override PartName="/ppt/media/image15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D56-FE41-4B74-AF48-9EF0F8FE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DE4-D80D-44B5-944A-E0E7A72E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2DE-83FC-48D9-99BD-5559E5BD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1D6-46B6-44D5-83BC-12183B45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D317-ADEA-4A61-8B1D-BFB6E258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7DA-2FEF-4AC4-99BC-5F29A76B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D85B-9E05-41B7-802B-5329FF0C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ADD-9AC7-414A-8EEE-3EC75074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7CF-AAF7-46F0-B529-7B2BAA43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B8B-7B58-4899-B201-8F71684A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758-6F58-45D8-8CFC-ECF5ED92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70F-2D21-40C4-A503-523C6FC0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AFFE-2053-4BA3-B698-D8E80AA5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AF81-D100-4F0F-8DAC-2AB4DE18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2F5D-E4C2-4CF2-A506-DE2C9828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B70A-2916-4EDB-9517-0DAB158B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46F4-D9CF-4EB2-A494-3FD3EC06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D12D-D308-4525-BA18-0B1B7A39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F80B-7657-4AE6-BC67-24C97EB0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77DE-EA67-4F41-A155-1465442F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A922-39D7-4965-A5B8-7226A695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21AC-D6A5-45C1-85C7-18732860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0260-EAA9-46C3-90E4-84B1F51D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5454-1614-476B-8F11-521585F7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9158-6748-4E27-A1BD-21396571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BAB9-4C19-478C-B6B3-1FDA6408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AF84C-5066-4290-979F-5D558756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BF1F5-998F-4163-A158-D60D9B3B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67C73-6C60-4790-A56B-6BB64AF6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B8BB1-9D8A-4AA9-AF17-AFE4BAF0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69643-2563-45F6-AF5E-3C9CD4FF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B6E2-B4C8-4F96-A17C-C262B830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339CF-43BF-4D45-AD65-727B513A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B540F-E961-4666-AF05-743F1B23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1FCF3-F0F4-4251-A58D-DF812C53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6A114-E24D-4A55-92E7-5E707F26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7B0F-C8A8-48AE-A274-04800A653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71F3-AC0A-44BF-A08F-FCD7145B05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8EB1-9863-4295-BBB0-9FBF76157C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Verdana"/>
              </a:rPr>
              <a:t>汽化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791320" y="380880"/>
            <a:ext cx="3047760" cy="4648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3520" y="380880"/>
            <a:ext cx="457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宋体"/>
                <a:ea typeface="楷体_GB2312"/>
              </a:rPr>
              <a:t>坎儿井——绿洲生命之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 吐鲁番是全国有名的火炉。高温少雨，水贵如油，可是吐鲁番绿洲却逐年扩大，城乡经济日趋繁荣。论功行赏，坎儿井当推首功。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09480" y="3200400"/>
            <a:ext cx="434340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09480" y="533412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问题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坎儿井”为什么能够减少输水过程中的蒸发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" y="1522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  <a:ea typeface="华文中宋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133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蒸发在进行的过程中要从周围物质</a:t>
            </a:r>
            <a:r>
              <a:rPr b="1" lang="zh-CN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吸热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866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物质由</a:t>
            </a:r>
            <a:r>
              <a:rPr b="1" lang="zh-CN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液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变成</a:t>
            </a:r>
            <a:r>
              <a:rPr b="1" lang="zh-CN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气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现象叫汽化。汽化有蒸发和沸腾两种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32767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影响</a:t>
            </a:r>
            <a:r>
              <a:rPr b="1" lang="zh-CN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蒸发快慢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因素：液体的</a:t>
            </a:r>
            <a:r>
              <a:rPr b="1" lang="zh-CN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表面积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液体的</a:t>
            </a:r>
            <a:r>
              <a:rPr b="1" lang="zh-CN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温度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液面上的</a:t>
            </a:r>
            <a:r>
              <a:rPr b="1" lang="zh-CN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空气流动快慢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38080" y="457200"/>
            <a:ext cx="685800" cy="1066680"/>
          </a:xfrm>
          <a:prstGeom prst="sun">
            <a:avLst>
              <a:gd name="adj" fmla="val 4687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1523880"/>
            <a:ext cx="685800" cy="1067040"/>
          </a:xfrm>
          <a:prstGeom prst="sun">
            <a:avLst>
              <a:gd name="adj" fmla="val 4687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1880" y="5562720"/>
            <a:ext cx="609840" cy="838080"/>
          </a:xfrm>
          <a:prstGeom prst="sun">
            <a:avLst>
              <a:gd name="adj" fmla="val 4687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58200" y="4114800"/>
            <a:ext cx="685800" cy="1143000"/>
          </a:xfrm>
          <a:prstGeom prst="sun">
            <a:avLst>
              <a:gd name="adj" fmla="val 4687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96080" y="5791320"/>
            <a:ext cx="457200" cy="1066680"/>
          </a:xfrm>
          <a:prstGeom prst="sun">
            <a:avLst>
              <a:gd name="adj" fmla="val 4687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352680" y="45720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水的沸腾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600200" y="990720"/>
            <a:ext cx="914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探究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0" y="9907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实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295280" y="1523880"/>
          <a:ext cx="6705720" cy="4051440"/>
        </p:xfrm>
        <a:graphic>
          <a:graphicData uri="http://schemas.openxmlformats.org/drawingml/2006/table">
            <a:tbl>
              <a:tblPr/>
              <a:tblGrid>
                <a:gridCol w="2286000"/>
                <a:gridCol w="2211480"/>
                <a:gridCol w="2208240"/>
              </a:tblGrid>
              <a:tr h="91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提出问题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得出→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实验目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设计实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进行实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指出→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实验器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完成→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实验步骤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分析和论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归纳→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实验结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 txBox="1"/>
          <p:nvPr/>
        </p:nvSpPr>
        <p:spPr>
          <a:xfrm rot="5400000">
            <a:off x="2271600" y="3352680"/>
            <a:ext cx="2286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和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1523880"/>
            <a:ext cx="2133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152388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1523880"/>
            <a:ext cx="2209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78000" y="2421000"/>
            <a:ext cx="2286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2451240"/>
            <a:ext cx="2209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3505320"/>
            <a:ext cx="2209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4635360"/>
            <a:ext cx="2209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653000"/>
            <a:ext cx="228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50840" y="1447920"/>
            <a:ext cx="7102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提出问题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水在沸腾时有什么特征？水沸腾后如果继续加热，是不是温度会越来越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743200"/>
            <a:ext cx="990720" cy="83808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01000" y="3124080"/>
            <a:ext cx="990720" cy="8384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3581280"/>
            <a:ext cx="228600" cy="30492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3886200"/>
            <a:ext cx="228600" cy="30492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2895480"/>
            <a:ext cx="380880" cy="30492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15200" y="2743200"/>
            <a:ext cx="380880" cy="30492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48360" y="5589720"/>
            <a:ext cx="1366920" cy="576000"/>
          </a:xfrm>
          <a:custGeom>
            <a:avLst/>
            <a:gdLst>
              <a:gd name="textAreaLeft" fmla="*/ 128520 w 1366920"/>
              <a:gd name="textAreaRight" fmla="*/ 1238400 w 1366920"/>
              <a:gd name="textAreaTop" fmla="*/ 128520 h 576000"/>
              <a:gd name="textAreaBottom" fmla="*/ 447480 h 576000"/>
            </a:gdLst>
            <a:ahLst/>
            <a:rect l="textAreaLeft" t="textAreaTop" r="textAreaRight" b="textAreaBottom"/>
            <a:pathLst>
              <a:path w="51241" h="21600">
                <a:moveTo>
                  <a:pt x="0" y="0"/>
                </a:moveTo>
                <a:lnTo>
                  <a:pt x="51241" y="0"/>
                </a:lnTo>
                <a:lnTo>
                  <a:pt x="51241" y="21600"/>
                </a:lnTo>
                <a:lnTo>
                  <a:pt x="0" y="21600"/>
                </a:lnTo>
                <a:close/>
              </a:path>
              <a:path fill="lightenLess" w="51241" h="21600">
                <a:moveTo>
                  <a:pt x="0" y="0"/>
                </a:moveTo>
                <a:lnTo>
                  <a:pt x="51241" y="0"/>
                </a:lnTo>
                <a:lnTo>
                  <a:pt x="46421" y="4820"/>
                </a:lnTo>
                <a:lnTo>
                  <a:pt x="4820" y="4820"/>
                </a:lnTo>
                <a:close/>
              </a:path>
              <a:path fill="darken" w="51241" h="21600">
                <a:moveTo>
                  <a:pt x="51241" y="0"/>
                </a:moveTo>
                <a:lnTo>
                  <a:pt x="51241" y="21600"/>
                </a:lnTo>
                <a:lnTo>
                  <a:pt x="46421" y="16780"/>
                </a:lnTo>
                <a:lnTo>
                  <a:pt x="46421" y="4820"/>
                </a:lnTo>
                <a:close/>
              </a:path>
              <a:path fill="darkenLess" w="51241" h="21600">
                <a:moveTo>
                  <a:pt x="51241" y="21600"/>
                </a:moveTo>
                <a:lnTo>
                  <a:pt x="0" y="21600"/>
                </a:lnTo>
                <a:lnTo>
                  <a:pt x="4820" y="16780"/>
                </a:lnTo>
                <a:lnTo>
                  <a:pt x="46421" y="16780"/>
                </a:lnTo>
                <a:close/>
              </a:path>
              <a:path fill="lighten" w="51241" h="21600">
                <a:moveTo>
                  <a:pt x="0" y="21600"/>
                </a:moveTo>
                <a:lnTo>
                  <a:pt x="0" y="0"/>
                </a:lnTo>
                <a:lnTo>
                  <a:pt x="4820" y="4820"/>
                </a:lnTo>
                <a:lnTo>
                  <a:pt x="4820" y="1678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上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00200" y="1143000"/>
            <a:ext cx="624852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实验目的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观察水沸腾时的现象和水沸腾时的温度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48360" y="5589720"/>
            <a:ext cx="1366920" cy="576000"/>
          </a:xfrm>
          <a:custGeom>
            <a:avLst/>
            <a:gdLst>
              <a:gd name="textAreaLeft" fmla="*/ 128520 w 1366920"/>
              <a:gd name="textAreaRight" fmla="*/ 1238400 w 1366920"/>
              <a:gd name="textAreaTop" fmla="*/ 128520 h 576000"/>
              <a:gd name="textAreaBottom" fmla="*/ 447480 h 576000"/>
            </a:gdLst>
            <a:ahLst/>
            <a:rect l="textAreaLeft" t="textAreaTop" r="textAreaRight" b="textAreaBottom"/>
            <a:pathLst>
              <a:path w="51241" h="21600">
                <a:moveTo>
                  <a:pt x="0" y="0"/>
                </a:moveTo>
                <a:lnTo>
                  <a:pt x="51241" y="0"/>
                </a:lnTo>
                <a:lnTo>
                  <a:pt x="51241" y="21600"/>
                </a:lnTo>
                <a:lnTo>
                  <a:pt x="0" y="21600"/>
                </a:lnTo>
                <a:close/>
              </a:path>
              <a:path fill="lightenLess" w="51241" h="21600">
                <a:moveTo>
                  <a:pt x="0" y="0"/>
                </a:moveTo>
                <a:lnTo>
                  <a:pt x="51241" y="0"/>
                </a:lnTo>
                <a:lnTo>
                  <a:pt x="46421" y="4820"/>
                </a:lnTo>
                <a:lnTo>
                  <a:pt x="4820" y="4820"/>
                </a:lnTo>
                <a:close/>
              </a:path>
              <a:path fill="darken" w="51241" h="21600">
                <a:moveTo>
                  <a:pt x="51241" y="0"/>
                </a:moveTo>
                <a:lnTo>
                  <a:pt x="51241" y="21600"/>
                </a:lnTo>
                <a:lnTo>
                  <a:pt x="46421" y="16780"/>
                </a:lnTo>
                <a:lnTo>
                  <a:pt x="46421" y="4820"/>
                </a:lnTo>
                <a:close/>
              </a:path>
              <a:path fill="darkenLess" w="51241" h="21600">
                <a:moveTo>
                  <a:pt x="51241" y="21600"/>
                </a:moveTo>
                <a:lnTo>
                  <a:pt x="0" y="21600"/>
                </a:lnTo>
                <a:lnTo>
                  <a:pt x="4820" y="16780"/>
                </a:lnTo>
                <a:lnTo>
                  <a:pt x="46421" y="16780"/>
                </a:lnTo>
                <a:close/>
              </a:path>
              <a:path fill="lighten" w="51241" h="21600">
                <a:moveTo>
                  <a:pt x="0" y="21600"/>
                </a:moveTo>
                <a:lnTo>
                  <a:pt x="0" y="0"/>
                </a:lnTo>
                <a:lnTo>
                  <a:pt x="4820" y="4820"/>
                </a:lnTo>
                <a:lnTo>
                  <a:pt x="4820" y="1678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上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1569960"/>
            <a:ext cx="678168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设计实验和进行实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按实验装置图安装实验仪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酒精灯给水加热至沸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当水温接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90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每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mi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记录一次温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仿照晶体的熔化曲线在图上作出水沸腾时温度和时间关系的曲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48360" y="5589720"/>
            <a:ext cx="1366920" cy="576000"/>
          </a:xfrm>
          <a:custGeom>
            <a:avLst/>
            <a:gdLst>
              <a:gd name="textAreaLeft" fmla="*/ 128520 w 1366920"/>
              <a:gd name="textAreaRight" fmla="*/ 1238400 w 1366920"/>
              <a:gd name="textAreaTop" fmla="*/ 128520 h 576000"/>
              <a:gd name="textAreaBottom" fmla="*/ 447480 h 576000"/>
            </a:gdLst>
            <a:ahLst/>
            <a:rect l="textAreaLeft" t="textAreaTop" r="textAreaRight" b="textAreaBottom"/>
            <a:pathLst>
              <a:path w="51241" h="21600">
                <a:moveTo>
                  <a:pt x="0" y="0"/>
                </a:moveTo>
                <a:lnTo>
                  <a:pt x="51241" y="0"/>
                </a:lnTo>
                <a:lnTo>
                  <a:pt x="51241" y="21600"/>
                </a:lnTo>
                <a:lnTo>
                  <a:pt x="0" y="21600"/>
                </a:lnTo>
                <a:close/>
              </a:path>
              <a:path fill="lightenLess" w="51241" h="21600">
                <a:moveTo>
                  <a:pt x="0" y="0"/>
                </a:moveTo>
                <a:lnTo>
                  <a:pt x="51241" y="0"/>
                </a:lnTo>
                <a:lnTo>
                  <a:pt x="46421" y="4820"/>
                </a:lnTo>
                <a:lnTo>
                  <a:pt x="4820" y="4820"/>
                </a:lnTo>
                <a:close/>
              </a:path>
              <a:path fill="darken" w="51241" h="21600">
                <a:moveTo>
                  <a:pt x="51241" y="0"/>
                </a:moveTo>
                <a:lnTo>
                  <a:pt x="51241" y="21600"/>
                </a:lnTo>
                <a:lnTo>
                  <a:pt x="46421" y="16780"/>
                </a:lnTo>
                <a:lnTo>
                  <a:pt x="46421" y="4820"/>
                </a:lnTo>
                <a:close/>
              </a:path>
              <a:path fill="darkenLess" w="51241" h="21600">
                <a:moveTo>
                  <a:pt x="51241" y="21600"/>
                </a:moveTo>
                <a:lnTo>
                  <a:pt x="0" y="21600"/>
                </a:lnTo>
                <a:lnTo>
                  <a:pt x="4820" y="16780"/>
                </a:lnTo>
                <a:lnTo>
                  <a:pt x="46421" y="16780"/>
                </a:lnTo>
                <a:close/>
              </a:path>
              <a:path fill="lighten" w="51241" h="21600">
                <a:moveTo>
                  <a:pt x="0" y="21600"/>
                </a:moveTo>
                <a:lnTo>
                  <a:pt x="0" y="0"/>
                </a:lnTo>
                <a:lnTo>
                  <a:pt x="4820" y="4820"/>
                </a:lnTo>
                <a:lnTo>
                  <a:pt x="4820" y="1678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上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47920" y="1917720"/>
            <a:ext cx="632448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实验器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铁架台、酒精灯、火柴、石棉网、烧杯、中心有孔的纸板、温度计、水、钟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48360" y="5589720"/>
            <a:ext cx="1366920" cy="576000"/>
          </a:xfrm>
          <a:custGeom>
            <a:avLst/>
            <a:gdLst>
              <a:gd name="textAreaLeft" fmla="*/ 128520 w 1366920"/>
              <a:gd name="textAreaRight" fmla="*/ 1238400 w 1366920"/>
              <a:gd name="textAreaTop" fmla="*/ 128520 h 576000"/>
              <a:gd name="textAreaBottom" fmla="*/ 447480 h 576000"/>
            </a:gdLst>
            <a:ahLst/>
            <a:rect l="textAreaLeft" t="textAreaTop" r="textAreaRight" b="textAreaBottom"/>
            <a:pathLst>
              <a:path w="51241" h="21600">
                <a:moveTo>
                  <a:pt x="0" y="0"/>
                </a:moveTo>
                <a:lnTo>
                  <a:pt x="51241" y="0"/>
                </a:lnTo>
                <a:lnTo>
                  <a:pt x="51241" y="21600"/>
                </a:lnTo>
                <a:lnTo>
                  <a:pt x="0" y="21600"/>
                </a:lnTo>
                <a:close/>
              </a:path>
              <a:path fill="lightenLess" w="51241" h="21600">
                <a:moveTo>
                  <a:pt x="0" y="0"/>
                </a:moveTo>
                <a:lnTo>
                  <a:pt x="51241" y="0"/>
                </a:lnTo>
                <a:lnTo>
                  <a:pt x="46421" y="4820"/>
                </a:lnTo>
                <a:lnTo>
                  <a:pt x="4820" y="4820"/>
                </a:lnTo>
                <a:close/>
              </a:path>
              <a:path fill="darken" w="51241" h="21600">
                <a:moveTo>
                  <a:pt x="51241" y="0"/>
                </a:moveTo>
                <a:lnTo>
                  <a:pt x="51241" y="21600"/>
                </a:lnTo>
                <a:lnTo>
                  <a:pt x="46421" y="16780"/>
                </a:lnTo>
                <a:lnTo>
                  <a:pt x="46421" y="4820"/>
                </a:lnTo>
                <a:close/>
              </a:path>
              <a:path fill="darkenLess" w="51241" h="21600">
                <a:moveTo>
                  <a:pt x="51241" y="21600"/>
                </a:moveTo>
                <a:lnTo>
                  <a:pt x="0" y="21600"/>
                </a:lnTo>
                <a:lnTo>
                  <a:pt x="4820" y="16780"/>
                </a:lnTo>
                <a:lnTo>
                  <a:pt x="46421" y="16780"/>
                </a:lnTo>
                <a:close/>
              </a:path>
              <a:path fill="lighten" w="51241" h="21600">
                <a:moveTo>
                  <a:pt x="0" y="21600"/>
                </a:moveTo>
                <a:lnTo>
                  <a:pt x="0" y="0"/>
                </a:lnTo>
                <a:lnTo>
                  <a:pt x="4820" y="4820"/>
                </a:lnTo>
                <a:lnTo>
                  <a:pt x="4820" y="1678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上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00200" y="21337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1143000"/>
            <a:ext cx="739152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实验步骤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按装置图安装实验仪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酒精灯给水加热并观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当水温接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每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记录一次温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并观察水的沸腾现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水沸腾时温度和时间关系的曲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87280" y="2060640"/>
            <a:ext cx="468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58920" y="3573360"/>
            <a:ext cx="7200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87280" y="4724280"/>
            <a:ext cx="712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8920" y="278136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8360" y="5589720"/>
            <a:ext cx="1366920" cy="576000"/>
          </a:xfrm>
          <a:custGeom>
            <a:avLst/>
            <a:gdLst>
              <a:gd name="textAreaLeft" fmla="*/ 128520 w 1366920"/>
              <a:gd name="textAreaRight" fmla="*/ 1238400 w 1366920"/>
              <a:gd name="textAreaTop" fmla="*/ 128520 h 576000"/>
              <a:gd name="textAreaBottom" fmla="*/ 447480 h 576000"/>
            </a:gdLst>
            <a:ahLst/>
            <a:rect l="textAreaLeft" t="textAreaTop" r="textAreaRight" b="textAreaBottom"/>
            <a:pathLst>
              <a:path w="51241" h="21600">
                <a:moveTo>
                  <a:pt x="0" y="0"/>
                </a:moveTo>
                <a:lnTo>
                  <a:pt x="51241" y="0"/>
                </a:lnTo>
                <a:lnTo>
                  <a:pt x="51241" y="21600"/>
                </a:lnTo>
                <a:lnTo>
                  <a:pt x="0" y="21600"/>
                </a:lnTo>
                <a:close/>
              </a:path>
              <a:path fill="lightenLess" w="51241" h="21600">
                <a:moveTo>
                  <a:pt x="0" y="0"/>
                </a:moveTo>
                <a:lnTo>
                  <a:pt x="51241" y="0"/>
                </a:lnTo>
                <a:lnTo>
                  <a:pt x="46421" y="4820"/>
                </a:lnTo>
                <a:lnTo>
                  <a:pt x="4820" y="4820"/>
                </a:lnTo>
                <a:close/>
              </a:path>
              <a:path fill="darken" w="51241" h="21600">
                <a:moveTo>
                  <a:pt x="51241" y="0"/>
                </a:moveTo>
                <a:lnTo>
                  <a:pt x="51241" y="21600"/>
                </a:lnTo>
                <a:lnTo>
                  <a:pt x="46421" y="16780"/>
                </a:lnTo>
                <a:lnTo>
                  <a:pt x="46421" y="4820"/>
                </a:lnTo>
                <a:close/>
              </a:path>
              <a:path fill="darkenLess" w="51241" h="21600">
                <a:moveTo>
                  <a:pt x="51241" y="21600"/>
                </a:moveTo>
                <a:lnTo>
                  <a:pt x="0" y="21600"/>
                </a:lnTo>
                <a:lnTo>
                  <a:pt x="4820" y="16780"/>
                </a:lnTo>
                <a:lnTo>
                  <a:pt x="46421" y="16780"/>
                </a:lnTo>
                <a:close/>
              </a:path>
              <a:path fill="lighten" w="51241" h="21600">
                <a:moveTo>
                  <a:pt x="0" y="21600"/>
                </a:moveTo>
                <a:lnTo>
                  <a:pt x="0" y="0"/>
                </a:lnTo>
                <a:lnTo>
                  <a:pt x="4820" y="4820"/>
                </a:lnTo>
                <a:lnTo>
                  <a:pt x="4820" y="1678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上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50920" y="6858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实验装置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916360" y="549360"/>
            <a:ext cx="3321000" cy="5904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164360" y="5661000"/>
            <a:ext cx="1366920" cy="576360"/>
          </a:xfrm>
          <a:custGeom>
            <a:avLst/>
            <a:gdLst>
              <a:gd name="textAreaLeft" fmla="*/ 128520 w 1366920"/>
              <a:gd name="textAreaRight" fmla="*/ 1238400 w 1366920"/>
              <a:gd name="textAreaTop" fmla="*/ 128520 h 576360"/>
              <a:gd name="textAreaBottom" fmla="*/ 447840 h 576360"/>
            </a:gdLst>
            <a:ahLst/>
            <a:rect l="textAreaLeft" t="textAreaTop" r="textAreaRight" b="textAreaBottom"/>
            <a:pathLst>
              <a:path w="51209" h="21600">
                <a:moveTo>
                  <a:pt x="0" y="0"/>
                </a:moveTo>
                <a:lnTo>
                  <a:pt x="51209" y="0"/>
                </a:lnTo>
                <a:lnTo>
                  <a:pt x="51209" y="21600"/>
                </a:lnTo>
                <a:lnTo>
                  <a:pt x="0" y="21600"/>
                </a:lnTo>
                <a:close/>
              </a:path>
              <a:path fill="lightenLess" w="51209" h="21600">
                <a:moveTo>
                  <a:pt x="0" y="0"/>
                </a:moveTo>
                <a:lnTo>
                  <a:pt x="51209" y="0"/>
                </a:lnTo>
                <a:lnTo>
                  <a:pt x="46389" y="4820"/>
                </a:lnTo>
                <a:lnTo>
                  <a:pt x="4820" y="4820"/>
                </a:lnTo>
                <a:close/>
              </a:path>
              <a:path fill="darken" w="51209" h="21600">
                <a:moveTo>
                  <a:pt x="51209" y="0"/>
                </a:moveTo>
                <a:lnTo>
                  <a:pt x="51209" y="21600"/>
                </a:lnTo>
                <a:lnTo>
                  <a:pt x="46389" y="16780"/>
                </a:lnTo>
                <a:lnTo>
                  <a:pt x="46389" y="4820"/>
                </a:lnTo>
                <a:close/>
              </a:path>
              <a:path fill="darkenLess" w="51209" h="21600">
                <a:moveTo>
                  <a:pt x="51209" y="21600"/>
                </a:moveTo>
                <a:lnTo>
                  <a:pt x="0" y="21600"/>
                </a:lnTo>
                <a:lnTo>
                  <a:pt x="4820" y="16780"/>
                </a:lnTo>
                <a:lnTo>
                  <a:pt x="46389" y="16780"/>
                </a:lnTo>
                <a:close/>
              </a:path>
              <a:path fill="lighten" w="51209" h="21600">
                <a:moveTo>
                  <a:pt x="0" y="21600"/>
                </a:moveTo>
                <a:lnTo>
                  <a:pt x="0" y="0"/>
                </a:lnTo>
                <a:lnTo>
                  <a:pt x="4820" y="4820"/>
                </a:lnTo>
                <a:lnTo>
                  <a:pt x="4820" y="1678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上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684360" y="2060640"/>
            <a:ext cx="2590200" cy="3507480"/>
            <a:chOff x="684360" y="2060640"/>
            <a:chExt cx="2590200" cy="3507480"/>
          </a:xfrm>
        </p:grpSpPr>
        <p:sp>
          <p:nvSpPr>
            <p:cNvPr id="244" name=""/>
            <p:cNvSpPr/>
            <p:nvPr/>
          </p:nvSpPr>
          <p:spPr>
            <a:xfrm>
              <a:off x="684360" y="2060640"/>
              <a:ext cx="2437920" cy="297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047960" y="2203560"/>
              <a:ext cx="1641600" cy="2857680"/>
              <a:chOff x="1047960" y="2203560"/>
              <a:chExt cx="1641600" cy="285768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047960" y="2203560"/>
                <a:ext cx="1641600" cy="2396520"/>
                <a:chOff x="1047960" y="2203560"/>
                <a:chExt cx="1641600" cy="2396520"/>
              </a:xfrm>
            </p:grpSpPr>
            <p:sp>
              <p:nvSpPr>
                <p:cNvPr id="247" name=""/>
                <p:cNvSpPr/>
                <p:nvPr/>
              </p:nvSpPr>
              <p:spPr>
                <a:xfrm rot="11206800">
                  <a:off x="2207160" y="4117320"/>
                  <a:ext cx="456840" cy="457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11206800">
                  <a:off x="1210320" y="3736080"/>
                  <a:ext cx="456840" cy="457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1206800">
                  <a:off x="1902240" y="346680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1206800">
                  <a:off x="1064520" y="2898000"/>
                  <a:ext cx="304560" cy="30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11206800">
                  <a:off x="1749960" y="2846880"/>
                  <a:ext cx="22824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11206800">
                  <a:off x="1064880" y="221184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11206800">
                  <a:off x="1750320" y="23706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 rot="11206800">
                <a:off x="1369080" y="4498560"/>
                <a:ext cx="607680" cy="52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1293480" y="5108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沸腾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98400" y="10350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观察现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48360" y="5589720"/>
            <a:ext cx="1366920" cy="576000"/>
          </a:xfrm>
          <a:custGeom>
            <a:avLst/>
            <a:gdLst>
              <a:gd name="textAreaLeft" fmla="*/ 128520 w 1366920"/>
              <a:gd name="textAreaRight" fmla="*/ 1238400 w 1366920"/>
              <a:gd name="textAreaTop" fmla="*/ 128520 h 576000"/>
              <a:gd name="textAreaBottom" fmla="*/ 447480 h 576000"/>
            </a:gdLst>
            <a:ahLst/>
            <a:rect l="textAreaLeft" t="textAreaTop" r="textAreaRight" b="textAreaBottom"/>
            <a:pathLst>
              <a:path w="51241" h="21600">
                <a:moveTo>
                  <a:pt x="0" y="0"/>
                </a:moveTo>
                <a:lnTo>
                  <a:pt x="51241" y="0"/>
                </a:lnTo>
                <a:lnTo>
                  <a:pt x="51241" y="21600"/>
                </a:lnTo>
                <a:lnTo>
                  <a:pt x="0" y="21600"/>
                </a:lnTo>
                <a:close/>
              </a:path>
              <a:path fill="lightenLess" w="51241" h="21600">
                <a:moveTo>
                  <a:pt x="0" y="0"/>
                </a:moveTo>
                <a:lnTo>
                  <a:pt x="51241" y="0"/>
                </a:lnTo>
                <a:lnTo>
                  <a:pt x="46421" y="4820"/>
                </a:lnTo>
                <a:lnTo>
                  <a:pt x="4820" y="4820"/>
                </a:lnTo>
                <a:close/>
              </a:path>
              <a:path fill="darken" w="51241" h="21600">
                <a:moveTo>
                  <a:pt x="51241" y="0"/>
                </a:moveTo>
                <a:lnTo>
                  <a:pt x="51241" y="21600"/>
                </a:lnTo>
                <a:lnTo>
                  <a:pt x="46421" y="16780"/>
                </a:lnTo>
                <a:lnTo>
                  <a:pt x="46421" y="4820"/>
                </a:lnTo>
                <a:close/>
              </a:path>
              <a:path fill="darkenLess" w="51241" h="21600">
                <a:moveTo>
                  <a:pt x="51241" y="21600"/>
                </a:moveTo>
                <a:lnTo>
                  <a:pt x="0" y="21600"/>
                </a:lnTo>
                <a:lnTo>
                  <a:pt x="4820" y="16780"/>
                </a:lnTo>
                <a:lnTo>
                  <a:pt x="46421" y="16780"/>
                </a:lnTo>
                <a:close/>
              </a:path>
              <a:path fill="lighten" w="51241" h="21600">
                <a:moveTo>
                  <a:pt x="0" y="21600"/>
                </a:moveTo>
                <a:lnTo>
                  <a:pt x="0" y="0"/>
                </a:lnTo>
                <a:lnTo>
                  <a:pt x="4820" y="4820"/>
                </a:lnTo>
                <a:lnTo>
                  <a:pt x="4820" y="1678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上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932360" y="2060640"/>
            <a:ext cx="3048120" cy="3507480"/>
            <a:chOff x="4932360" y="2060640"/>
            <a:chExt cx="3048120" cy="3507480"/>
          </a:xfrm>
        </p:grpSpPr>
        <p:sp>
          <p:nvSpPr>
            <p:cNvPr id="259" name=""/>
            <p:cNvSpPr/>
            <p:nvPr/>
          </p:nvSpPr>
          <p:spPr>
            <a:xfrm>
              <a:off x="4932360" y="2060640"/>
              <a:ext cx="2438280" cy="2971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160960" y="2212560"/>
              <a:ext cx="1600200" cy="2666880"/>
              <a:chOff x="5160960" y="2212560"/>
              <a:chExt cx="1600200" cy="2666880"/>
            </a:xfrm>
          </p:grpSpPr>
          <p:sp>
            <p:nvSpPr>
              <p:cNvPr id="261" name=""/>
              <p:cNvSpPr/>
              <p:nvPr/>
            </p:nvSpPr>
            <p:spPr>
              <a:xfrm>
                <a:off x="5160960" y="221256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51680" y="244116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465880" y="3203280"/>
                <a:ext cx="30456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303960" y="327924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618160" y="38890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532560" y="39650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84840" y="4574880"/>
                <a:ext cx="76320" cy="7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46760" y="44222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075360" y="4803480"/>
                <a:ext cx="76320" cy="7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6837480" y="4879800"/>
              <a:ext cx="75960" cy="7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18160" y="51084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沸腾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88400" y="2062080"/>
            <a:ext cx="246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汽化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物质从液态变成气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755640" y="836640"/>
          <a:ext cx="7550280" cy="904680"/>
        </p:xfrm>
        <a:graphic>
          <a:graphicData uri="http://schemas.openxmlformats.org/drawingml/2006/table">
            <a:tbl>
              <a:tblPr/>
              <a:tblGrid>
                <a:gridCol w="1601640"/>
                <a:gridCol w="609840"/>
                <a:gridCol w="610920"/>
                <a:gridCol w="609840"/>
                <a:gridCol w="579240"/>
                <a:gridCol w="865440"/>
                <a:gridCol w="942840"/>
                <a:gridCol w="866880"/>
                <a:gridCol w="863640"/>
              </a:tblGrid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温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743200" y="2600280"/>
          <a:ext cx="3657600" cy="3203640"/>
        </p:xfrm>
        <a:graphic>
          <a:graphicData uri="http://schemas.openxmlformats.org/drawingml/2006/table">
            <a:tbl>
              <a:tblPr/>
              <a:tblGrid>
                <a:gridCol w="244440"/>
                <a:gridCol w="289080"/>
                <a:gridCol w="216000"/>
                <a:gridCol w="225720"/>
                <a:gridCol w="244440"/>
                <a:gridCol w="244440"/>
                <a:gridCol w="244440"/>
                <a:gridCol w="241200"/>
                <a:gridCol w="244440"/>
                <a:gridCol w="244440"/>
                <a:gridCol w="244440"/>
                <a:gridCol w="244800"/>
                <a:gridCol w="272880"/>
                <a:gridCol w="216000"/>
                <a:gridCol w="240840"/>
              </a:tblGrid>
              <a:tr h="2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4" name=""/>
          <p:cNvGrpSpPr/>
          <p:nvPr/>
        </p:nvGrpSpPr>
        <p:grpSpPr>
          <a:xfrm>
            <a:off x="2209680" y="1752480"/>
            <a:ext cx="5562720" cy="4513680"/>
            <a:chOff x="2209680" y="1752480"/>
            <a:chExt cx="5562720" cy="4513680"/>
          </a:xfrm>
        </p:grpSpPr>
        <p:sp>
          <p:nvSpPr>
            <p:cNvPr id="275" name=""/>
            <p:cNvSpPr/>
            <p:nvPr/>
          </p:nvSpPr>
          <p:spPr>
            <a:xfrm flipV="1">
              <a:off x="2743200" y="2057040"/>
              <a:ext cx="0" cy="37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43200" y="579096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60440" y="2425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47840" y="34686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49360" y="45720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36760" y="55767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09680" y="17524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温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19560" y="58672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时间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717640" y="575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46240" y="5118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8780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70200" y="3606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38228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36960" y="3606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3606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3632040"/>
            <a:ext cx="1447920" cy="2159280"/>
          </a:xfrm>
          <a:custGeom>
            <a:avLst/>
            <a:gdLst/>
            <a:ahLst/>
            <a:rect l="l" t="t" r="r" b="b"/>
            <a:pathLst>
              <a:path w="912" h="1360">
                <a:moveTo>
                  <a:pt x="0" y="1360"/>
                </a:moveTo>
                <a:cubicBezTo>
                  <a:pt x="48" y="1244"/>
                  <a:pt x="96" y="1128"/>
                  <a:pt x="144" y="976"/>
                </a:cubicBezTo>
                <a:lnTo>
                  <a:pt x="288" y="448"/>
                </a:lnTo>
                <a:lnTo>
                  <a:pt x="480" y="112"/>
                </a:lnTo>
                <a:cubicBezTo>
                  <a:pt x="536" y="40"/>
                  <a:pt x="552" y="32"/>
                  <a:pt x="624" y="16"/>
                </a:cubicBezTo>
                <a:cubicBezTo>
                  <a:pt x="696" y="0"/>
                  <a:pt x="804" y="8"/>
                  <a:pt x="912" y="1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81800" y="5948280"/>
            <a:ext cx="1366920" cy="576360"/>
          </a:xfrm>
          <a:custGeom>
            <a:avLst/>
            <a:gdLst>
              <a:gd name="textAreaLeft" fmla="*/ 128520 w 1366920"/>
              <a:gd name="textAreaRight" fmla="*/ 1238400 w 1366920"/>
              <a:gd name="textAreaTop" fmla="*/ 128520 h 576360"/>
              <a:gd name="textAreaBottom" fmla="*/ 447840 h 576360"/>
            </a:gdLst>
            <a:ahLst/>
            <a:rect l="textAreaLeft" t="textAreaTop" r="textAreaRight" b="textAreaBottom"/>
            <a:pathLst>
              <a:path w="51209" h="21600">
                <a:moveTo>
                  <a:pt x="0" y="0"/>
                </a:moveTo>
                <a:lnTo>
                  <a:pt x="51209" y="0"/>
                </a:lnTo>
                <a:lnTo>
                  <a:pt x="51209" y="21600"/>
                </a:lnTo>
                <a:lnTo>
                  <a:pt x="0" y="21600"/>
                </a:lnTo>
                <a:close/>
              </a:path>
              <a:path fill="lightenLess" w="51209" h="21600">
                <a:moveTo>
                  <a:pt x="0" y="0"/>
                </a:moveTo>
                <a:lnTo>
                  <a:pt x="51209" y="0"/>
                </a:lnTo>
                <a:lnTo>
                  <a:pt x="46389" y="4820"/>
                </a:lnTo>
                <a:lnTo>
                  <a:pt x="4820" y="4820"/>
                </a:lnTo>
                <a:close/>
              </a:path>
              <a:path fill="darken" w="51209" h="21600">
                <a:moveTo>
                  <a:pt x="51209" y="0"/>
                </a:moveTo>
                <a:lnTo>
                  <a:pt x="51209" y="21600"/>
                </a:lnTo>
                <a:lnTo>
                  <a:pt x="46389" y="16780"/>
                </a:lnTo>
                <a:lnTo>
                  <a:pt x="46389" y="4820"/>
                </a:lnTo>
                <a:close/>
              </a:path>
              <a:path fill="darkenLess" w="51209" h="21600">
                <a:moveTo>
                  <a:pt x="51209" y="21600"/>
                </a:moveTo>
                <a:lnTo>
                  <a:pt x="0" y="21600"/>
                </a:lnTo>
                <a:lnTo>
                  <a:pt x="4820" y="16780"/>
                </a:lnTo>
                <a:lnTo>
                  <a:pt x="46389" y="16780"/>
                </a:lnTo>
                <a:close/>
              </a:path>
              <a:path fill="lighten" w="51209" h="21600">
                <a:moveTo>
                  <a:pt x="0" y="21600"/>
                </a:moveTo>
                <a:lnTo>
                  <a:pt x="0" y="0"/>
                </a:lnTo>
                <a:lnTo>
                  <a:pt x="4820" y="4820"/>
                </a:lnTo>
                <a:lnTo>
                  <a:pt x="4820" y="1678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上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260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实验记录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66680" y="1371600"/>
            <a:ext cx="6858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分析和论证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依照前面的探究过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可以从这个实验得到什么结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48360" y="5589720"/>
            <a:ext cx="1366920" cy="576000"/>
          </a:xfrm>
          <a:custGeom>
            <a:avLst/>
            <a:gdLst>
              <a:gd name="textAreaLeft" fmla="*/ 128520 w 1366920"/>
              <a:gd name="textAreaRight" fmla="*/ 1238400 w 1366920"/>
              <a:gd name="textAreaTop" fmla="*/ 128520 h 576000"/>
              <a:gd name="textAreaBottom" fmla="*/ 447480 h 576000"/>
            </a:gdLst>
            <a:ahLst/>
            <a:rect l="textAreaLeft" t="textAreaTop" r="textAreaRight" b="textAreaBottom"/>
            <a:pathLst>
              <a:path w="51241" h="21600">
                <a:moveTo>
                  <a:pt x="0" y="0"/>
                </a:moveTo>
                <a:lnTo>
                  <a:pt x="51241" y="0"/>
                </a:lnTo>
                <a:lnTo>
                  <a:pt x="51241" y="21600"/>
                </a:lnTo>
                <a:lnTo>
                  <a:pt x="0" y="21600"/>
                </a:lnTo>
                <a:close/>
              </a:path>
              <a:path fill="lightenLess" w="51241" h="21600">
                <a:moveTo>
                  <a:pt x="0" y="0"/>
                </a:moveTo>
                <a:lnTo>
                  <a:pt x="51241" y="0"/>
                </a:lnTo>
                <a:lnTo>
                  <a:pt x="46421" y="4820"/>
                </a:lnTo>
                <a:lnTo>
                  <a:pt x="4820" y="4820"/>
                </a:lnTo>
                <a:close/>
              </a:path>
              <a:path fill="darken" w="51241" h="21600">
                <a:moveTo>
                  <a:pt x="51241" y="0"/>
                </a:moveTo>
                <a:lnTo>
                  <a:pt x="51241" y="21600"/>
                </a:lnTo>
                <a:lnTo>
                  <a:pt x="46421" y="16780"/>
                </a:lnTo>
                <a:lnTo>
                  <a:pt x="46421" y="4820"/>
                </a:lnTo>
                <a:close/>
              </a:path>
              <a:path fill="darkenLess" w="51241" h="21600">
                <a:moveTo>
                  <a:pt x="51241" y="21600"/>
                </a:moveTo>
                <a:lnTo>
                  <a:pt x="0" y="21600"/>
                </a:lnTo>
                <a:lnTo>
                  <a:pt x="4820" y="16780"/>
                </a:lnTo>
                <a:lnTo>
                  <a:pt x="46421" y="16780"/>
                </a:lnTo>
                <a:close/>
              </a:path>
              <a:path fill="lighten" w="51241" h="21600">
                <a:moveTo>
                  <a:pt x="0" y="21600"/>
                </a:moveTo>
                <a:lnTo>
                  <a:pt x="0" y="0"/>
                </a:lnTo>
                <a:lnTo>
                  <a:pt x="4820" y="4820"/>
                </a:lnTo>
                <a:lnTo>
                  <a:pt x="4820" y="1678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上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66280" y="304560"/>
            <a:ext cx="8008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447920" y="1401840"/>
            <a:ext cx="647676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实验结论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沸腾是在液体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表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内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同时进行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剧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汽化现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水在沸腾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烧杯底部形成大量气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上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变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到水面破裂开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水在沸腾时温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不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48360" y="5589720"/>
            <a:ext cx="1366920" cy="576000"/>
          </a:xfrm>
          <a:custGeom>
            <a:avLst/>
            <a:gdLst>
              <a:gd name="textAreaLeft" fmla="*/ 128520 w 1366920"/>
              <a:gd name="textAreaRight" fmla="*/ 1238400 w 1366920"/>
              <a:gd name="textAreaTop" fmla="*/ 128520 h 576000"/>
              <a:gd name="textAreaBottom" fmla="*/ 447480 h 576000"/>
            </a:gdLst>
            <a:ahLst/>
            <a:rect l="textAreaLeft" t="textAreaTop" r="textAreaRight" b="textAreaBottom"/>
            <a:pathLst>
              <a:path w="51241" h="21600">
                <a:moveTo>
                  <a:pt x="0" y="0"/>
                </a:moveTo>
                <a:lnTo>
                  <a:pt x="51241" y="0"/>
                </a:lnTo>
                <a:lnTo>
                  <a:pt x="51241" y="21600"/>
                </a:lnTo>
                <a:lnTo>
                  <a:pt x="0" y="21600"/>
                </a:lnTo>
                <a:close/>
              </a:path>
              <a:path fill="lightenLess" w="51241" h="21600">
                <a:moveTo>
                  <a:pt x="0" y="0"/>
                </a:moveTo>
                <a:lnTo>
                  <a:pt x="51241" y="0"/>
                </a:lnTo>
                <a:lnTo>
                  <a:pt x="46421" y="4820"/>
                </a:lnTo>
                <a:lnTo>
                  <a:pt x="4820" y="4820"/>
                </a:lnTo>
                <a:close/>
              </a:path>
              <a:path fill="darken" w="51241" h="21600">
                <a:moveTo>
                  <a:pt x="51241" y="0"/>
                </a:moveTo>
                <a:lnTo>
                  <a:pt x="51241" y="21600"/>
                </a:lnTo>
                <a:lnTo>
                  <a:pt x="46421" y="16780"/>
                </a:lnTo>
                <a:lnTo>
                  <a:pt x="46421" y="4820"/>
                </a:lnTo>
                <a:close/>
              </a:path>
              <a:path fill="darkenLess" w="51241" h="21600">
                <a:moveTo>
                  <a:pt x="51241" y="21600"/>
                </a:moveTo>
                <a:lnTo>
                  <a:pt x="0" y="21600"/>
                </a:lnTo>
                <a:lnTo>
                  <a:pt x="4820" y="16780"/>
                </a:lnTo>
                <a:lnTo>
                  <a:pt x="46421" y="16780"/>
                </a:lnTo>
                <a:close/>
              </a:path>
              <a:path fill="lighten" w="51241" h="21600">
                <a:moveTo>
                  <a:pt x="0" y="21600"/>
                </a:moveTo>
                <a:lnTo>
                  <a:pt x="0" y="0"/>
                </a:lnTo>
                <a:lnTo>
                  <a:pt x="4820" y="4820"/>
                </a:lnTo>
                <a:lnTo>
                  <a:pt x="4820" y="1678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914400" y="2492280"/>
          <a:ext cx="7238880" cy="2155680"/>
        </p:xfrm>
        <a:graphic>
          <a:graphicData uri="http://schemas.openxmlformats.org/drawingml/2006/table">
            <a:tbl>
              <a:tblPr/>
              <a:tblGrid>
                <a:gridCol w="2413080"/>
                <a:gridCol w="2413080"/>
                <a:gridCol w="2412720"/>
              </a:tblGrid>
              <a:tr h="21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液态铁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液态铅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水银      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亚麻仁油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甲苯      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水          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酒精        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液态氨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3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液态氧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8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液态氮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9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液态氢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5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液态氦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68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1600200" y="18432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几种液体的沸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/℃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标准大气压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1143000"/>
            <a:ext cx="7543800" cy="0"/>
          </a:xfrm>
          <a:prstGeom prst="line">
            <a:avLst/>
          </a:prstGeom>
          <a:ln cap="rnd" w="1396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0830600">
            <a:off x="990360" y="762120"/>
            <a:ext cx="1828800" cy="761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371600" y="838080"/>
            <a:ext cx="1104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黑体"/>
              </a:rPr>
              <a:t>小数据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03" name=""/>
          <p:cNvSpPr/>
          <p:nvPr/>
        </p:nvSpPr>
        <p:spPr>
          <a:xfrm>
            <a:off x="6948360" y="5589720"/>
            <a:ext cx="1366920" cy="576000"/>
          </a:xfrm>
          <a:custGeom>
            <a:avLst/>
            <a:gdLst>
              <a:gd name="textAreaLeft" fmla="*/ 128520 w 1366920"/>
              <a:gd name="textAreaRight" fmla="*/ 1238400 w 1366920"/>
              <a:gd name="textAreaTop" fmla="*/ 128520 h 576000"/>
              <a:gd name="textAreaBottom" fmla="*/ 447480 h 576000"/>
            </a:gdLst>
            <a:ahLst/>
            <a:rect l="textAreaLeft" t="textAreaTop" r="textAreaRight" b="textAreaBottom"/>
            <a:pathLst>
              <a:path w="51241" h="21600">
                <a:moveTo>
                  <a:pt x="0" y="0"/>
                </a:moveTo>
                <a:lnTo>
                  <a:pt x="51241" y="0"/>
                </a:lnTo>
                <a:lnTo>
                  <a:pt x="51241" y="21600"/>
                </a:lnTo>
                <a:lnTo>
                  <a:pt x="0" y="21600"/>
                </a:lnTo>
                <a:close/>
              </a:path>
              <a:path fill="lightenLess" w="51241" h="21600">
                <a:moveTo>
                  <a:pt x="0" y="0"/>
                </a:moveTo>
                <a:lnTo>
                  <a:pt x="51241" y="0"/>
                </a:lnTo>
                <a:lnTo>
                  <a:pt x="46421" y="4820"/>
                </a:lnTo>
                <a:lnTo>
                  <a:pt x="4820" y="4820"/>
                </a:lnTo>
                <a:close/>
              </a:path>
              <a:path fill="darken" w="51241" h="21600">
                <a:moveTo>
                  <a:pt x="51241" y="0"/>
                </a:moveTo>
                <a:lnTo>
                  <a:pt x="51241" y="21600"/>
                </a:lnTo>
                <a:lnTo>
                  <a:pt x="46421" y="16780"/>
                </a:lnTo>
                <a:lnTo>
                  <a:pt x="46421" y="4820"/>
                </a:lnTo>
                <a:close/>
              </a:path>
              <a:path fill="darkenLess" w="51241" h="21600">
                <a:moveTo>
                  <a:pt x="51241" y="21600"/>
                </a:moveTo>
                <a:lnTo>
                  <a:pt x="0" y="21600"/>
                </a:lnTo>
                <a:lnTo>
                  <a:pt x="4820" y="16780"/>
                </a:lnTo>
                <a:lnTo>
                  <a:pt x="46421" y="16780"/>
                </a:lnTo>
                <a:close/>
              </a:path>
              <a:path fill="lighten" w="51241" h="21600">
                <a:moveTo>
                  <a:pt x="0" y="21600"/>
                </a:moveTo>
                <a:lnTo>
                  <a:pt x="0" y="0"/>
                </a:lnTo>
                <a:lnTo>
                  <a:pt x="4820" y="4820"/>
                </a:lnTo>
                <a:lnTo>
                  <a:pt x="4820" y="1678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08080" y="476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99"/>
                </a:solidFill>
                <a:latin typeface="华文行楷"/>
                <a:ea typeface="华文行楷"/>
              </a:rPr>
              <a:t>蒸发和沸腾的异同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0" y="1052640"/>
          <a:ext cx="9144000" cy="6119640"/>
        </p:xfrm>
        <a:graphic>
          <a:graphicData uri="http://schemas.openxmlformats.org/drawingml/2006/table">
            <a:tbl>
              <a:tblPr/>
              <a:tblGrid>
                <a:gridCol w="776160"/>
                <a:gridCol w="2487600"/>
                <a:gridCol w="3187800"/>
                <a:gridCol w="2692440"/>
              </a:tblGrid>
              <a:tr h="5508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                   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不同点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ff"/>
                      </a:solidFill>
                    </a:lnL>
                    <a:lnR w="9360">
                      <a:solidFill>
                        <a:srgbClr val="ff00ff"/>
                      </a:solidFill>
                    </a:lnR>
                    <a:lnT w="9360">
                      <a:solidFill>
                        <a:srgbClr val="ff00ff"/>
                      </a:solidFill>
                    </a:lnT>
                    <a:lnB w="9360">
                      <a:solidFill>
                        <a:srgbClr val="ff00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ff"/>
                      </a:solidFill>
                    </a:lnL>
                    <a:lnR w="9360">
                      <a:solidFill>
                        <a:srgbClr val="ff00ff"/>
                      </a:solidFill>
                    </a:lnR>
                    <a:lnT w="9360">
                      <a:solidFill>
                        <a:srgbClr val="ff00ff"/>
                      </a:solidFill>
                    </a:lnT>
                    <a:lnB w="9360">
                      <a:solidFill>
                        <a:srgbClr val="ff00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蒸    发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ff"/>
                      </a:solidFill>
                    </a:lnL>
                    <a:lnR w="9360">
                      <a:solidFill>
                        <a:srgbClr val="ff00ff"/>
                      </a:solidFill>
                    </a:lnR>
                    <a:lnT w="9360">
                      <a:solidFill>
                        <a:srgbClr val="ff00ff"/>
                      </a:solidFill>
                    </a:lnT>
                    <a:lnB w="9360">
                      <a:solidFill>
                        <a:srgbClr val="ff00ff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沸   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ff"/>
                      </a:solidFill>
                    </a:lnL>
                    <a:lnR w="9360">
                      <a:solidFill>
                        <a:srgbClr val="ff00ff"/>
                      </a:solidFill>
                    </a:lnR>
                    <a:lnT w="9360">
                      <a:solidFill>
                        <a:srgbClr val="ff00ff"/>
                      </a:solidFill>
                    </a:lnT>
                    <a:lnB w="9360">
                      <a:solidFill>
                        <a:srgbClr val="ff00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1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发生温度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ff"/>
                      </a:solidFill>
                    </a:lnL>
                    <a:lnR w="9360">
                      <a:solidFill>
                        <a:srgbClr val="ff00ff"/>
                      </a:solidFill>
                    </a:lnR>
                    <a:lnT w="9360">
                      <a:solidFill>
                        <a:srgbClr val="ff00ff"/>
                      </a:solidFill>
                    </a:lnT>
                    <a:lnB w="9360">
                      <a:solidFill>
                        <a:srgbClr val="ff00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任何温度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ff00ff"/>
                      </a:solidFill>
                    </a:lnT>
                    <a:lnB w="9360">
                      <a:solidFill>
                        <a:srgbClr val="ff00ff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达到沸点 且  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继续吸热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ff"/>
                      </a:solidFill>
                    </a:lnR>
                    <a:lnT w="9360">
                      <a:solidFill>
                        <a:srgbClr val="ff00ff"/>
                      </a:solidFill>
                    </a:lnT>
                    <a:lnB w="9360">
                      <a:solidFill>
                        <a:srgbClr val="ff00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1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发生部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ff"/>
                      </a:solidFill>
                    </a:lnL>
                    <a:lnR w="9360">
                      <a:solidFill>
                        <a:srgbClr val="ff00ff"/>
                      </a:solidFill>
                    </a:lnR>
                    <a:lnT w="9360">
                      <a:solidFill>
                        <a:srgbClr val="ff00ff"/>
                      </a:solidFill>
                    </a:lnT>
                    <a:lnB w="9360">
                      <a:solidFill>
                        <a:srgbClr val="ff00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液体表面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ff"/>
                      </a:solidFill>
                    </a:lnL>
                    <a:lnR w="9360">
                      <a:solidFill>
                        <a:srgbClr val="ff00ff"/>
                      </a:solidFill>
                    </a:lnR>
                    <a:lnT w="9360">
                      <a:solidFill>
                        <a:srgbClr val="ff00ff"/>
                      </a:solidFill>
                    </a:lnT>
                    <a:lnB w="9360">
                      <a:solidFill>
                        <a:srgbClr val="ff00ff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液体表面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内部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ff"/>
                      </a:solidFill>
                    </a:lnL>
                    <a:lnR w="9360">
                      <a:solidFill>
                        <a:srgbClr val="ff00ff"/>
                      </a:solidFill>
                    </a:lnR>
                    <a:lnT w="9360">
                      <a:solidFill>
                        <a:srgbClr val="ff00ff"/>
                      </a:solidFill>
                    </a:lnT>
                    <a:lnB w="9360">
                      <a:solidFill>
                        <a:srgbClr val="ff00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48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程度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ff"/>
                      </a:solidFill>
                    </a:lnL>
                    <a:lnR w="9360">
                      <a:solidFill>
                        <a:srgbClr val="ff00ff"/>
                      </a:solidFill>
                    </a:lnR>
                    <a:lnT w="9360">
                      <a:solidFill>
                        <a:srgbClr val="ff00ff"/>
                      </a:solidFill>
                    </a:lnT>
                    <a:lnB w="9360">
                      <a:solidFill>
                        <a:srgbClr val="ff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缓慢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ff"/>
                      </a:solidFill>
                    </a:lnL>
                    <a:lnR w="9360">
                      <a:solidFill>
                        <a:srgbClr val="ff00ff"/>
                      </a:solidFill>
                    </a:lnR>
                    <a:lnT w="9360">
                      <a:solidFill>
                        <a:srgbClr val="ff00ff"/>
                      </a:solidFill>
                    </a:lnT>
                    <a:lnB w="9360">
                      <a:solidFill>
                        <a:srgbClr val="ff00ff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剧烈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ff"/>
                      </a:solidFill>
                    </a:lnL>
                    <a:lnR w="9360">
                      <a:solidFill>
                        <a:srgbClr val="ff00ff"/>
                      </a:solidFill>
                    </a:lnR>
                    <a:lnT w="9360">
                      <a:solidFill>
                        <a:srgbClr val="ff00ff"/>
                      </a:solidFill>
                    </a:lnT>
                    <a:lnB w="9360">
                      <a:solidFill>
                        <a:srgbClr val="ff00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相同点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ff"/>
                      </a:solidFill>
                    </a:lnL>
                    <a:lnR w="9360">
                      <a:solidFill>
                        <a:srgbClr val="ff00ff"/>
                      </a:solidFill>
                    </a:lnR>
                    <a:lnT w="9360">
                      <a:solidFill>
                        <a:srgbClr val="ff00ff"/>
                      </a:solidFill>
                    </a:lnT>
                    <a:lnB w="9360">
                      <a:solidFill>
                        <a:srgbClr val="ff00ff"/>
                      </a:solidFill>
                    </a:lnB>
                    <a:solidFill>
                      <a:srgbClr val="99ff3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都是汽化现象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都要吸热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ff"/>
                      </a:solidFill>
                    </a:lnT>
                    <a:lnB w="9360">
                      <a:solidFill>
                        <a:srgbClr val="ff00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004760" y="476280"/>
            <a:ext cx="723924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达标训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从（　）态变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态的现象叫汽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蒸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汽化的两种方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液体沸腾的条件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　　    　  ）和    （　　　     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夏天在游泳池里游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刚从水中出来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会冷得发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因为（　　           　   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４．在病人发高烧时，可以用酒精擦病人的身体，这样可降温，原因是酒精（　  　　），从人体（　　　  ），所以病人的体温降低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13160" y="177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84720" y="1801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24000" y="2205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沸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95640" y="2708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达到沸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141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继续吸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84360" y="4005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蒸发吸热致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00720" y="4941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蒸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32000" y="5300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吸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59640" y="5877000"/>
            <a:ext cx="1366920" cy="576360"/>
          </a:xfrm>
          <a:custGeom>
            <a:avLst/>
            <a:gdLst>
              <a:gd name="textAreaLeft" fmla="*/ 128520 w 1366920"/>
              <a:gd name="textAreaRight" fmla="*/ 1238400 w 1366920"/>
              <a:gd name="textAreaTop" fmla="*/ 128520 h 576360"/>
              <a:gd name="textAreaBottom" fmla="*/ 447840 h 576360"/>
            </a:gdLst>
            <a:ahLst/>
            <a:rect l="textAreaLeft" t="textAreaTop" r="textAreaRight" b="textAreaBottom"/>
            <a:pathLst>
              <a:path w="51209" h="21600">
                <a:moveTo>
                  <a:pt x="0" y="0"/>
                </a:moveTo>
                <a:lnTo>
                  <a:pt x="51209" y="0"/>
                </a:lnTo>
                <a:lnTo>
                  <a:pt x="51209" y="21600"/>
                </a:lnTo>
                <a:lnTo>
                  <a:pt x="0" y="21600"/>
                </a:lnTo>
                <a:close/>
              </a:path>
              <a:path fill="lightenLess" w="51209" h="21600">
                <a:moveTo>
                  <a:pt x="0" y="0"/>
                </a:moveTo>
                <a:lnTo>
                  <a:pt x="51209" y="0"/>
                </a:lnTo>
                <a:lnTo>
                  <a:pt x="46389" y="4820"/>
                </a:lnTo>
                <a:lnTo>
                  <a:pt x="4820" y="4820"/>
                </a:lnTo>
                <a:close/>
              </a:path>
              <a:path fill="darken" w="51209" h="21600">
                <a:moveTo>
                  <a:pt x="51209" y="0"/>
                </a:moveTo>
                <a:lnTo>
                  <a:pt x="51209" y="21600"/>
                </a:lnTo>
                <a:lnTo>
                  <a:pt x="46389" y="16780"/>
                </a:lnTo>
                <a:lnTo>
                  <a:pt x="46389" y="4820"/>
                </a:lnTo>
                <a:close/>
              </a:path>
              <a:path fill="darkenLess" w="51209" h="21600">
                <a:moveTo>
                  <a:pt x="51209" y="21600"/>
                </a:moveTo>
                <a:lnTo>
                  <a:pt x="0" y="21600"/>
                </a:lnTo>
                <a:lnTo>
                  <a:pt x="4820" y="16780"/>
                </a:lnTo>
                <a:lnTo>
                  <a:pt x="46389" y="16780"/>
                </a:lnTo>
                <a:close/>
              </a:path>
              <a:path fill="lighten" w="51209" h="21600">
                <a:moveTo>
                  <a:pt x="0" y="21600"/>
                </a:moveTo>
                <a:lnTo>
                  <a:pt x="0" y="0"/>
                </a:lnTo>
                <a:lnTo>
                  <a:pt x="4820" y="4820"/>
                </a:lnTo>
                <a:lnTo>
                  <a:pt x="4820" y="1678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14400" y="457200"/>
            <a:ext cx="762012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选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１．水壶中的水沸腾后仍给它继续加热，水壶中水的温度将　　　　　　　　　　　　　　　　　　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Ａ．继续升高Ｂ．保持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Ｃ．缓慢降低Ｄ．忽高忽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２．夏天在教室里洒些闵水，会感到凉爽些，主要原因是　　　　　　　　　　　　　　　　　　　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Ａ．凉水的温度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Ｂ．洒在地上的水蒸发时吸热，使空气温度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Ｃ．空气中的水蒸气减少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Ｄ．是人的心理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51560" y="34574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337520" y="14414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948360" y="5589720"/>
            <a:ext cx="1366920" cy="576000"/>
          </a:xfrm>
          <a:custGeom>
            <a:avLst/>
            <a:gdLst>
              <a:gd name="textAreaLeft" fmla="*/ 128520 w 1366920"/>
              <a:gd name="textAreaRight" fmla="*/ 1238400 w 1366920"/>
              <a:gd name="textAreaTop" fmla="*/ 128520 h 576000"/>
              <a:gd name="textAreaBottom" fmla="*/ 447480 h 576000"/>
            </a:gdLst>
            <a:ahLst/>
            <a:rect l="textAreaLeft" t="textAreaTop" r="textAreaRight" b="textAreaBottom"/>
            <a:pathLst>
              <a:path w="51241" h="21600">
                <a:moveTo>
                  <a:pt x="0" y="0"/>
                </a:moveTo>
                <a:lnTo>
                  <a:pt x="51241" y="0"/>
                </a:lnTo>
                <a:lnTo>
                  <a:pt x="51241" y="21600"/>
                </a:lnTo>
                <a:lnTo>
                  <a:pt x="0" y="21600"/>
                </a:lnTo>
                <a:close/>
              </a:path>
              <a:path fill="lightenLess" w="51241" h="21600">
                <a:moveTo>
                  <a:pt x="0" y="0"/>
                </a:moveTo>
                <a:lnTo>
                  <a:pt x="51241" y="0"/>
                </a:lnTo>
                <a:lnTo>
                  <a:pt x="46421" y="4820"/>
                </a:lnTo>
                <a:lnTo>
                  <a:pt x="4820" y="4820"/>
                </a:lnTo>
                <a:close/>
              </a:path>
              <a:path fill="darken" w="51241" h="21600">
                <a:moveTo>
                  <a:pt x="51241" y="0"/>
                </a:moveTo>
                <a:lnTo>
                  <a:pt x="51241" y="21600"/>
                </a:lnTo>
                <a:lnTo>
                  <a:pt x="46421" y="16780"/>
                </a:lnTo>
                <a:lnTo>
                  <a:pt x="46421" y="4820"/>
                </a:lnTo>
                <a:close/>
              </a:path>
              <a:path fill="darkenLess" w="51241" h="21600">
                <a:moveTo>
                  <a:pt x="51241" y="21600"/>
                </a:moveTo>
                <a:lnTo>
                  <a:pt x="0" y="21600"/>
                </a:lnTo>
                <a:lnTo>
                  <a:pt x="4820" y="16780"/>
                </a:lnTo>
                <a:lnTo>
                  <a:pt x="46421" y="16780"/>
                </a:lnTo>
                <a:close/>
              </a:path>
              <a:path fill="lighten" w="51241" h="21600">
                <a:moveTo>
                  <a:pt x="0" y="21600"/>
                </a:moveTo>
                <a:lnTo>
                  <a:pt x="0" y="0"/>
                </a:lnTo>
                <a:lnTo>
                  <a:pt x="4820" y="4820"/>
                </a:lnTo>
                <a:lnTo>
                  <a:pt x="4820" y="1678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71640" y="2924280"/>
            <a:ext cx="776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一直升高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一直降低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先升高后降低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先降低后升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 rot="20977800">
            <a:off x="250920" y="691920"/>
            <a:ext cx="168588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0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198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ahoma"/>
              </a:rPr>
              <a:t>、一支温度计从装有酒精的瓶中抽出后，它的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815600" y="206064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600200" y="1722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农民们经常在阳光明媚的日子里把粮食放在通风处摊开来晒，这是为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85760" y="609480"/>
            <a:ext cx="234324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你知道吗？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077320" y="3886200"/>
            <a:ext cx="533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？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934320" y="4800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？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715000" y="5362560"/>
            <a:ext cx="3808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？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305240" y="5881680"/>
            <a:ext cx="2667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？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200400" y="61722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？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3" name=""/>
          <p:cNvSpPr/>
          <p:nvPr/>
        </p:nvSpPr>
        <p:spPr>
          <a:xfrm>
            <a:off x="1752480" y="3581280"/>
            <a:ext cx="44960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做可以提高粮食水分的温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快表面空气流动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增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了表面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而加快了粮食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水分蒸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粮食干得更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21440" y="5805360"/>
            <a:ext cx="1366920" cy="576360"/>
          </a:xfrm>
          <a:custGeom>
            <a:avLst/>
            <a:gdLst>
              <a:gd name="textAreaLeft" fmla="*/ 128520 w 1366920"/>
              <a:gd name="textAreaRight" fmla="*/ 1238400 w 1366920"/>
              <a:gd name="textAreaTop" fmla="*/ 128520 h 576360"/>
              <a:gd name="textAreaBottom" fmla="*/ 447840 h 576360"/>
            </a:gdLst>
            <a:ahLst/>
            <a:rect l="textAreaLeft" t="textAreaTop" r="textAreaRight" b="textAreaBottom"/>
            <a:pathLst>
              <a:path w="51209" h="21600">
                <a:moveTo>
                  <a:pt x="0" y="0"/>
                </a:moveTo>
                <a:lnTo>
                  <a:pt x="51209" y="0"/>
                </a:lnTo>
                <a:lnTo>
                  <a:pt x="51209" y="21600"/>
                </a:lnTo>
                <a:lnTo>
                  <a:pt x="0" y="21600"/>
                </a:lnTo>
                <a:close/>
              </a:path>
              <a:path fill="lightenLess" w="51209" h="21600">
                <a:moveTo>
                  <a:pt x="0" y="0"/>
                </a:moveTo>
                <a:lnTo>
                  <a:pt x="51209" y="0"/>
                </a:lnTo>
                <a:lnTo>
                  <a:pt x="46389" y="4820"/>
                </a:lnTo>
                <a:lnTo>
                  <a:pt x="4820" y="4820"/>
                </a:lnTo>
                <a:close/>
              </a:path>
              <a:path fill="darken" w="51209" h="21600">
                <a:moveTo>
                  <a:pt x="51209" y="0"/>
                </a:moveTo>
                <a:lnTo>
                  <a:pt x="51209" y="21600"/>
                </a:lnTo>
                <a:lnTo>
                  <a:pt x="46389" y="16780"/>
                </a:lnTo>
                <a:lnTo>
                  <a:pt x="46389" y="4820"/>
                </a:lnTo>
                <a:close/>
              </a:path>
              <a:path fill="darkenLess" w="51209" h="21600">
                <a:moveTo>
                  <a:pt x="51209" y="21600"/>
                </a:moveTo>
                <a:lnTo>
                  <a:pt x="0" y="21600"/>
                </a:lnTo>
                <a:lnTo>
                  <a:pt x="4820" y="16780"/>
                </a:lnTo>
                <a:lnTo>
                  <a:pt x="46389" y="16780"/>
                </a:lnTo>
                <a:close/>
              </a:path>
              <a:path fill="lighten" w="51209" h="21600">
                <a:moveTo>
                  <a:pt x="0" y="21600"/>
                </a:moveTo>
                <a:lnTo>
                  <a:pt x="0" y="0"/>
                </a:lnTo>
                <a:lnTo>
                  <a:pt x="4820" y="4820"/>
                </a:lnTo>
                <a:lnTo>
                  <a:pt x="4820" y="1678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263700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小  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2195640" y="3500280"/>
            <a:ext cx="172872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14240" y="2058840"/>
            <a:ext cx="34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华文中宋"/>
                <a:ea typeface="华文中宋"/>
              </a:rPr>
              <a:t>2.</a:t>
            </a:r>
            <a:r>
              <a:rPr b="1" lang="zh-CN" sz="4400" spc="-1" strike="noStrike">
                <a:solidFill>
                  <a:srgbClr val="003366"/>
                </a:solidFill>
                <a:latin typeface="华文中宋"/>
                <a:ea typeface="华文中宋"/>
              </a:rPr>
              <a:t>汽化的两种方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63800" y="31608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沸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48520" y="990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蒸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1371600"/>
            <a:ext cx="457200" cy="2286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100" spc="-1" strike="noStrike">
                <a:solidFill>
                  <a:srgbClr val="ff3300"/>
                </a:solidFill>
                <a:latin typeface="Verdana"/>
              </a:rPr>
              <a:t>定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物质由   态变为  态的现象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汽          </a:t>
            </a:r>
            <a:r>
              <a:rPr b="0" lang="zh-CN" sz="2100" spc="-1" strike="noStrike">
                <a:solidFill>
                  <a:srgbClr val="ff3300"/>
                </a:solidFill>
                <a:latin typeface="Verdana"/>
              </a:rPr>
              <a:t>蒸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2100" spc="-1" strike="noStrike">
                <a:solidFill>
                  <a:srgbClr val="003366"/>
                </a:solidFill>
                <a:latin typeface="Verdana"/>
              </a:rPr>
              <a:t>特点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在任何温度下都能发生，只在液体表面进行的                                                                 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缓慢汽化现象，吸热制冷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zh-CN" sz="2100" spc="-1" strike="noStrike">
                <a:solidFill>
                  <a:srgbClr val="ff3300"/>
                </a:solidFill>
                <a:latin typeface="Verdana"/>
              </a:rPr>
              <a:t>发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100" spc="-1" strike="noStrike">
                <a:solidFill>
                  <a:srgbClr val="003366"/>
                </a:solidFill>
                <a:latin typeface="Verdana"/>
              </a:rPr>
              <a:t>影响因素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温度、表面积、空气流动速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100" spc="-1" strike="noStrike">
                <a:solidFill>
                  <a:srgbClr val="ff3300"/>
                </a:solidFill>
                <a:latin typeface="Verdana"/>
              </a:rPr>
              <a:t>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式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100" spc="-1" strike="noStrike">
                <a:solidFill>
                  <a:srgbClr val="ff3300"/>
                </a:solidFill>
                <a:latin typeface="Verdana"/>
              </a:rPr>
              <a:t>沸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100" spc="-1" strike="noStrike">
                <a:solidFill>
                  <a:srgbClr val="003366"/>
                </a:solidFill>
                <a:latin typeface="Verdana"/>
              </a:rPr>
              <a:t>特点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一定温度下进行，在液体表面和内部同时进行，剧烈汽化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化               </a:t>
            </a:r>
            <a:r>
              <a:rPr b="0" lang="zh-CN" sz="2100" spc="-1" strike="noStrike">
                <a:solidFill>
                  <a:srgbClr val="003366"/>
                </a:solidFill>
                <a:latin typeface="Verdana"/>
              </a:rPr>
              <a:t>条件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达到沸点，继续吸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zh-CN" sz="2100" spc="-1" strike="noStrike">
                <a:solidFill>
                  <a:srgbClr val="ff3300"/>
                </a:solidFill>
                <a:latin typeface="Verdana"/>
              </a:rPr>
              <a:t>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100" spc="-1" strike="noStrike">
                <a:solidFill>
                  <a:srgbClr val="003366"/>
                </a:solidFill>
                <a:latin typeface="Verdana"/>
              </a:rPr>
              <a:t>规律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不断吸热，温度保持不变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85720" y="442800"/>
            <a:ext cx="722520" cy="628920"/>
            <a:chOff x="585720" y="442800"/>
            <a:chExt cx="722520" cy="628920"/>
          </a:xfrm>
        </p:grpSpPr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585720" y="442800"/>
              <a:ext cx="7225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 txBox="1"/>
            <p:nvPr/>
          </p:nvSpPr>
          <p:spPr>
            <a:xfrm>
              <a:off x="585720" y="442800"/>
              <a:ext cx="722520" cy="62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258920" y="1557360"/>
            <a:ext cx="144360" cy="3384360"/>
          </a:xfrm>
          <a:custGeom>
            <a:avLst/>
            <a:gdLst>
              <a:gd name="textAreaLeft" fmla="*/ 92160 w 144360"/>
              <a:gd name="textAreaRight" fmla="*/ 144360 w 14436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35280" y="2205000"/>
            <a:ext cx="287280" cy="259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84360" y="2205000"/>
            <a:ext cx="287280" cy="936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84360" y="3716280"/>
            <a:ext cx="142920" cy="93672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7596360" y="4365720"/>
            <a:ext cx="1247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2286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华文中宋"/>
                <a:ea typeface="华文中宋"/>
              </a:rPr>
              <a:t>活动</a:t>
            </a:r>
            <a:r>
              <a:rPr b="1" lang="en-US" sz="4400" spc="-1" strike="noStrike">
                <a:solidFill>
                  <a:srgbClr val="003366"/>
                </a:solidFill>
                <a:latin typeface="华文中宋"/>
                <a:ea typeface="华文中宋"/>
              </a:rPr>
              <a:t>3.3</a:t>
            </a:r>
            <a:r>
              <a:rPr b="1" lang="zh-CN" sz="4400" spc="-1" strike="noStrike">
                <a:solidFill>
                  <a:srgbClr val="003366"/>
                </a:solidFill>
                <a:latin typeface="华文中宋"/>
                <a:ea typeface="华文中宋"/>
              </a:rPr>
              <a:t>：观察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蒸发现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219320"/>
            <a:ext cx="8839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手背上的酒精有何变化，涂酒精的地方有何感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观察温度计示数有什么变化，可以得出什么结论？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685800"/>
            <a:ext cx="861048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华文中宋"/>
                <a:ea typeface="华文中宋"/>
              </a:rPr>
              <a:t>3.</a:t>
            </a:r>
            <a:r>
              <a:rPr b="1" lang="zh-CN" sz="4000" spc="-1" strike="noStrike">
                <a:solidFill>
                  <a:srgbClr val="003366"/>
                </a:solidFill>
                <a:latin typeface="华文中宋"/>
                <a:ea typeface="华文中宋"/>
              </a:rPr>
              <a:t>蒸发的特征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蒸发能从周围物质吸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362320" y="152388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33520" y="533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楷体_GB2312"/>
              </a:rPr>
              <a:t>问题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514600" y="1447920"/>
            <a:ext cx="4572000" cy="4647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523880" y="3049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57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问题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82320" y="304920"/>
            <a:ext cx="39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探究影响蒸发快慢的因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2400" y="10936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提出问题：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蒸发快慢可能与哪些因素有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828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猜想与假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28954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设计实验：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17985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蒸发快慢可能与</a:t>
            </a: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液体表面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液面上的气流快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液体温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54864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得出结论</a:t>
            </a:r>
            <a:r>
              <a:rPr b="1" lang="en-US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: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4800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收集证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2922480"/>
            <a:ext cx="6477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蒸发快慢是否与液体表面积的有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蒸发快慢是否与液面上的气流有关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蒸发快慢是否与液体的温度有关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0880" y="135576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中宋"/>
              </a:rPr>
              <a:t>影响液体蒸发快慢的因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华文中宋"/>
              </a:rPr>
              <a:t>液体的温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华文中宋"/>
              </a:rPr>
              <a:t>液体的表面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华文中宋"/>
              </a:rPr>
              <a:t>液体表面的空气流动快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0:18:53Z</dcterms:created>
  <dc:creator>Administrator</dc:creator>
  <dc:description/>
  <dc:language>en-US</dc:language>
  <cp:lastModifiedBy>微软用户</cp:lastModifiedBy>
  <dcterms:modified xsi:type="dcterms:W3CDTF">2014-09-26T02:07:24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93</vt:lpwstr>
  </property>
</Properties>
</file>