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4F6-43EC-4CFE-B013-F4EAF4F9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9CA-D971-4FE5-99E9-5578D824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4FC-8850-4757-BFF4-D346E354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236-B840-4541-9D68-5AE7E3C7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253-1D71-46D0-B67D-3876C016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3AC-170F-43E4-9A6A-E38B4E0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951-E266-4D78-B887-CC8F7C68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35-F6A6-49D0-A915-FD7B862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EDD-13D6-4DE2-BA65-18245E3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EFD-A0A2-4748-A7D3-2707FC90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E29-F86A-4BB7-9464-461BDB3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6ED-A7CC-4BA0-A408-B8B0CAA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DCC-0FEF-4AE7-A551-BC00CC0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E77-9B78-423B-929A-CFC6544D2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2"/>
          <p:cNvSpPr txBox="1"/>
          <p:nvPr/>
        </p:nvSpPr>
        <p:spPr>
          <a:xfrm>
            <a:off x="1692360" y="1484280"/>
            <a:ext cx="6048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熔化与凝固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916360" y="5445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行楷"/>
                <a:ea typeface="华文行楷"/>
              </a:rPr>
              <a:t>第二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907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晶体与非晶体在</a:t>
            </a:r>
            <a:r>
              <a:rPr b="1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熔化过程中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相同点和不同点？列表加以对比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2565360"/>
          <a:ext cx="8915400" cy="243828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2190960"/>
                <a:gridCol w="222876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度变化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无熔点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吸热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热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冰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-146160"/>
            <a:ext cx="3048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  <a:ea typeface="华文行楷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2843280" y="3429000"/>
            <a:ext cx="1523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升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5435640" y="3429000"/>
            <a:ext cx="1066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7315200" y="3357720"/>
            <a:ext cx="1828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0" y="5229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晶体熔化的条件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611280" y="5950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达到熔点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4140360" y="5950080"/>
            <a:ext cx="34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继续吸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观察海波的凝固现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050920" y="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析晶体熔化和凝固图象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Line 4"/>
          <p:cNvSpPr/>
          <p:nvPr/>
        </p:nvSpPr>
        <p:spPr>
          <a:xfrm flipV="1">
            <a:off x="1403280" y="1197000"/>
            <a:ext cx="0" cy="352728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403280" y="4724280"/>
            <a:ext cx="4753080" cy="0"/>
          </a:xfrm>
          <a:prstGeom prst="line">
            <a:avLst/>
          </a:prstGeom>
          <a:ln cap="sq"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85880" y="1125360"/>
            <a:ext cx="54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温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50872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403280" y="3500280"/>
            <a:ext cx="936720" cy="1224000"/>
          </a:xfrm>
          <a:prstGeom prst="line">
            <a:avLst/>
          </a:prstGeom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2340000" y="3500280"/>
            <a:ext cx="1008000" cy="0"/>
          </a:xfrm>
          <a:prstGeom prst="line">
            <a:avLst/>
          </a:prstGeom>
          <a:ln cap="sq"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348000" y="2565000"/>
            <a:ext cx="576360" cy="934920"/>
          </a:xfrm>
          <a:prstGeom prst="line">
            <a:avLst/>
          </a:prstGeom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924360" y="2565360"/>
            <a:ext cx="503280" cy="934920"/>
          </a:xfrm>
          <a:prstGeom prst="line">
            <a:avLst/>
          </a:prstGeom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27640" y="3500280"/>
            <a:ext cx="1008000" cy="0"/>
          </a:xfrm>
          <a:prstGeom prst="line">
            <a:avLst/>
          </a:prstGeom>
          <a:ln cap="sq"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5435640" y="3500280"/>
            <a:ext cx="431640" cy="865440"/>
          </a:xfrm>
          <a:prstGeom prst="line">
            <a:avLst/>
          </a:prstGeom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1116000" y="4797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692360" y="3141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2916360" y="3141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3276720" y="234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ordArt 18" descr=""/>
          <p:cNvPicPr/>
          <p:nvPr/>
        </p:nvPicPr>
        <p:blipFill>
          <a:blip r:embed="rId1"/>
          <a:stretch/>
        </p:blipFill>
        <p:spPr>
          <a:xfrm>
            <a:off x="165240" y="5291280"/>
            <a:ext cx="7772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  <p:sp>
        <p:nvSpPr>
          <p:cNvPr id="80" name="矩形 6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课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讨论熔化与凝固对我们带来哪些不利影响？如何避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19320" y="177336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南极，气温常常达到零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摄氏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问，在那里可以使用酒精温度计来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气温吗？那么水银温度计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dArt 3" descr=""/>
          <p:cNvPicPr/>
          <p:nvPr/>
        </p:nvPicPr>
        <p:blipFill>
          <a:blip r:embed="rId1"/>
          <a:stretch/>
        </p:blipFill>
        <p:spPr>
          <a:xfrm>
            <a:off x="682560" y="274680"/>
            <a:ext cx="1768680" cy="1316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242080" y="4292640"/>
            <a:ext cx="29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有句话叫“下雪不冷，化雪冷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是如何理解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304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609480" y="762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0" y="685800"/>
            <a:ext cx="8610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一杯冰，一部分已熔化，把它放在太阳下晒，在冰还没有全部熔化时，问这冰的温度为多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若放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房间里，它能不能熔化？若放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-1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房间里，水没有全部结成冰时的温度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等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02:08:19Z</dcterms:created>
  <dc:creator/>
  <dc:description/>
  <cp:keywords/>
  <dc:language>en-US</dc:language>
  <cp:lastModifiedBy>User</cp:lastModifiedBy>
  <dcterms:modified xsi:type="dcterms:W3CDTF">2014-09-29T06:10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