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C6E-D7C4-47AE-9CBF-5FF8915F08B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F85-A598-486C-A11A-B9BE52CC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94B-E38F-4BB8-A5AA-A76FF86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9A3-3B8D-426C-8A10-363F278D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5B3-F6C9-4A03-A44C-2705052A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197E-DC11-4F14-80A4-3DDDEB5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7299-1D63-4D9B-A8E3-D406B2A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B06-547C-4429-8123-7FB0B91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3DC-ABC1-4EE5-B2AB-5F860E2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BF7-ED49-407C-98BF-59B5B7E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86A4-1703-40BE-ACD6-C4B93B0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90D2-C169-4792-9BA4-58289A7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24F-16F7-41C3-9FC0-CF65FBF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C273-E565-4022-A547-774A6BA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D2D1-00E3-4400-A035-DA0006F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BC3-73C4-4B51-BC00-8FEEFEE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A2DA-4D8B-40E4-BDF2-99E6417A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F50-1285-4A13-9DC3-24EB9F64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ED4-7125-44A0-9DC9-BCE1115E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EDA-C87C-48F2-95BF-4052E04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63A-A7A3-4B91-B035-F976AA0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B47-2ECF-495B-A46D-26FECE4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EC5-3FCE-4D0F-AE15-D60D1E0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485-C33D-497D-9CA2-601A17B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040-FD03-44FE-8610-FF51292C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2705-5054-483A-A0B1-2C2214FD60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D914-DED3-4AEF-943C-209A3A75204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87280" y="213372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升华</a:t>
            </a:r>
            <a:r>
              <a:rPr b="1" lang="zh-CN" sz="8000" spc="-1" strike="noStrike">
                <a:solidFill>
                  <a:srgbClr val="2aa238"/>
                </a:solidFill>
                <a:latin typeface="Arial"/>
                <a:ea typeface="楷体_GB2312"/>
              </a:rPr>
              <a:t>和</a:t>
            </a:r>
            <a:r>
              <a:rPr b="1" lang="zh-CN" sz="8000" spc="-1" strike="noStrike">
                <a:solidFill>
                  <a:srgbClr val="0066ff"/>
                </a:solidFill>
                <a:latin typeface="Arial"/>
                <a:ea typeface="楷体_GB2312"/>
              </a:rPr>
              <a:t>凝华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76720" y="3860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前洲中学   朱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124520" y="32446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4365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干冰是什么东西呢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3" descr="干冰"/>
          <p:cNvPicPr/>
          <p:nvPr/>
        </p:nvPicPr>
        <p:blipFill>
          <a:blip r:embed="rId1"/>
          <a:stretch/>
        </p:blipFill>
        <p:spPr>
          <a:xfrm>
            <a:off x="0" y="981000"/>
            <a:ext cx="4211640" cy="3110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250920" y="26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科学小知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175280" y="83664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它就是固态的二氧化碳．二氧化碳气体在加压和降温的条件下，会变成无色液体，再降低温度，会变成雪花般的固体，经过压缩，就会成干冰，它在一个标准大气压下，可以在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78℃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时直接变成气体．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wl8akbt1-29"/>
          <p:cNvPicPr/>
          <p:nvPr/>
        </p:nvPicPr>
        <p:blipFill>
          <a:blip r:embed="rId1"/>
          <a:stretch/>
        </p:blipFill>
        <p:spPr>
          <a:xfrm>
            <a:off x="1116000" y="0"/>
            <a:ext cx="6588000" cy="2924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7229880" y="0"/>
            <a:ext cx="16426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人工降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-726840" y="260280"/>
            <a:ext cx="164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实际应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0" y="32846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具体过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826920" y="3860640"/>
            <a:ext cx="183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升华吸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340000" y="3716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周围的空气温度急剧下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788000" y="371628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高空中的水蒸气遇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37236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凝华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704000" y="4149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小冰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3272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熔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971640" y="4508640"/>
            <a:ext cx="1512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4067280" y="4508640"/>
            <a:ext cx="720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6227640" y="4508640"/>
            <a:ext cx="1366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7" name="Group 15"/>
          <p:cNvGrpSpPr/>
          <p:nvPr/>
        </p:nvGrpSpPr>
        <p:grpSpPr>
          <a:xfrm>
            <a:off x="7894440" y="4653000"/>
            <a:ext cx="1033560" cy="1224000"/>
            <a:chOff x="7894440" y="4653000"/>
            <a:chExt cx="1033560" cy="1224000"/>
          </a:xfrm>
        </p:grpSpPr>
        <p:sp>
          <p:nvSpPr>
            <p:cNvPr id="178" name="Text Box 16"/>
            <p:cNvSpPr/>
            <p:nvPr/>
          </p:nvSpPr>
          <p:spPr>
            <a:xfrm>
              <a:off x="7894440" y="4797360"/>
              <a:ext cx="10335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下落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8317080" y="4653000"/>
              <a:ext cx="0" cy="122400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0" name="Group 18"/>
          <p:cNvGrpSpPr/>
          <p:nvPr/>
        </p:nvGrpSpPr>
        <p:grpSpPr>
          <a:xfrm>
            <a:off x="4356000" y="5589720"/>
            <a:ext cx="3960720" cy="520560"/>
            <a:chOff x="4356000" y="5589720"/>
            <a:chExt cx="3960720" cy="520560"/>
          </a:xfrm>
        </p:grpSpPr>
        <p:sp>
          <p:nvSpPr>
            <p:cNvPr id="181" name="Text Box 19"/>
            <p:cNvSpPr/>
            <p:nvPr/>
          </p:nvSpPr>
          <p:spPr>
            <a:xfrm>
              <a:off x="4356000" y="558972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小水滴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6084720" y="5877000"/>
              <a:ext cx="2232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254880" y="4005360"/>
            <a:ext cx="60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干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无标题"/>
          <p:cNvPicPr/>
          <p:nvPr/>
        </p:nvPicPr>
        <p:blipFill>
          <a:blip r:embed="rId1"/>
          <a:stretch/>
        </p:blipFill>
        <p:spPr>
          <a:xfrm>
            <a:off x="2484360" y="0"/>
            <a:ext cx="6007320" cy="6021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0" y="1916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干冰的其它应用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6" name="Picture 4" descr="干冰"/>
          <p:cNvPicPr/>
          <p:nvPr/>
        </p:nvPicPr>
        <p:blipFill>
          <a:blip r:embed="rId2"/>
          <a:stretch/>
        </p:blipFill>
        <p:spPr>
          <a:xfrm>
            <a:off x="0" y="0"/>
            <a:ext cx="2411280" cy="1781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50920" y="3068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舞台“烟雾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4724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制冷防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1908000" y="404640"/>
            <a:ext cx="6192720" cy="2879640"/>
            <a:chOff x="1908000" y="404640"/>
            <a:chExt cx="6192720" cy="2879640"/>
          </a:xfrm>
        </p:grpSpPr>
        <p:sp>
          <p:nvSpPr>
            <p:cNvPr id="190" name="Text Box 8"/>
            <p:cNvSpPr/>
            <p:nvPr/>
          </p:nvSpPr>
          <p:spPr>
            <a:xfrm>
              <a:off x="4500360" y="404640"/>
              <a:ext cx="3600360" cy="459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广泛用于舞台、剧场、影视、婚庆、庆典、晚会效果等制作放烟</a:t>
              </a:r>
              <a:r>
                <a:rPr b="1" lang="zh-CN" sz="20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 flipV="1">
              <a:off x="1908000" y="1268280"/>
              <a:ext cx="2519280" cy="2016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1619280" y="2924280"/>
            <a:ext cx="7237440" cy="2654280"/>
            <a:chOff x="1619280" y="2924280"/>
            <a:chExt cx="7237440" cy="2654280"/>
          </a:xfrm>
        </p:grpSpPr>
        <p:sp>
          <p:nvSpPr>
            <p:cNvPr id="193" name="Text Box 11"/>
            <p:cNvSpPr/>
            <p:nvPr/>
          </p:nvSpPr>
          <p:spPr>
            <a:xfrm>
              <a:off x="4284720" y="2924280"/>
              <a:ext cx="4572000" cy="2654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当用火车运载鲜鱼时，它就守卫在鲜鱼的旁边，起制冷防腐的作用．干冰外表像冰，可作为防腐剂，它比冰优越得多．干冰熔化时不会像冰那样变成液体，它全部升华，四周干干净净．干冰冷却的温度比冰低得多，而且干冰升华后产生的二氧化碳气体，能抑制细菌的繁殖生长． </a:t>
              </a:r>
              <a:br>
                <a:rPr sz="2400"/>
              </a:b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>
              <a:off x="1619280" y="5013360"/>
              <a:ext cx="25210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92200" y="10587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12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思考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俗话说“霜前冷，雪后寒”，试用所学的有关知识加以解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39680" y="3213000"/>
            <a:ext cx="90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因为霜是空气中的水蒸气凝华成的小冰粒，凝华过程要放热，而水蒸气能够向空气中放热的条件是气温低于水蒸气温度，故只有在足够的气温下，水蒸气才会凝华成霜，因为下霜时气温 较低，人常感到冷。下雪天气温度本来就低，下雪后，雪的熔化时要向周围空气吸热，而使本来较低的温度进一步下降，因而雪后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95280" y="2852640"/>
            <a:ext cx="934920" cy="71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995640" y="2781360"/>
            <a:ext cx="935280" cy="718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液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308720" y="2781360"/>
            <a:ext cx="935280" cy="718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1547640" y="2637000"/>
            <a:ext cx="2303640" cy="431640"/>
            <a:chOff x="1547640" y="2637000"/>
            <a:chExt cx="2303640" cy="431640"/>
          </a:xfrm>
        </p:grpSpPr>
        <p:grpSp>
          <p:nvGrpSpPr>
            <p:cNvPr id="202" name="Group 6"/>
            <p:cNvGrpSpPr/>
            <p:nvPr/>
          </p:nvGrpSpPr>
          <p:grpSpPr>
            <a:xfrm>
              <a:off x="1547640" y="2924280"/>
              <a:ext cx="2303640" cy="144360"/>
              <a:chOff x="1547640" y="2924280"/>
              <a:chExt cx="2303640" cy="144360"/>
            </a:xfrm>
          </p:grpSpPr>
          <p:sp>
            <p:nvSpPr>
              <p:cNvPr id="203" name="Line 7"/>
              <p:cNvSpPr/>
              <p:nvPr/>
            </p:nvSpPr>
            <p:spPr>
              <a:xfrm>
                <a:off x="1547640" y="3068640"/>
                <a:ext cx="2303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>
                <a:off x="3706560" y="2924280"/>
                <a:ext cx="144720" cy="14436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05" name="Text Box 9"/>
            <p:cNvSpPr/>
            <p:nvPr/>
          </p:nvSpPr>
          <p:spPr>
            <a:xfrm>
              <a:off x="1618920" y="263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熔化（吸热）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6" name="Group 10"/>
          <p:cNvGrpSpPr/>
          <p:nvPr/>
        </p:nvGrpSpPr>
        <p:grpSpPr>
          <a:xfrm>
            <a:off x="5076720" y="2637000"/>
            <a:ext cx="2087640" cy="431640"/>
            <a:chOff x="5076720" y="2637000"/>
            <a:chExt cx="2087640" cy="431640"/>
          </a:xfrm>
        </p:grpSpPr>
        <p:grpSp>
          <p:nvGrpSpPr>
            <p:cNvPr id="207" name="Group 11"/>
            <p:cNvGrpSpPr/>
            <p:nvPr/>
          </p:nvGrpSpPr>
          <p:grpSpPr>
            <a:xfrm>
              <a:off x="5076720" y="2924280"/>
              <a:ext cx="2087640" cy="144360"/>
              <a:chOff x="5076720" y="2924280"/>
              <a:chExt cx="2087640" cy="144360"/>
            </a:xfrm>
          </p:grpSpPr>
          <p:sp>
            <p:nvSpPr>
              <p:cNvPr id="208" name="Line 12"/>
              <p:cNvSpPr/>
              <p:nvPr/>
            </p:nvSpPr>
            <p:spPr>
              <a:xfrm>
                <a:off x="5076720" y="3068640"/>
                <a:ext cx="208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9" name="Line 13"/>
              <p:cNvSpPr/>
              <p:nvPr/>
            </p:nvSpPr>
            <p:spPr>
              <a:xfrm>
                <a:off x="7020000" y="2924280"/>
                <a:ext cx="144360" cy="1443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10" name="Text Box 14"/>
            <p:cNvSpPr/>
            <p:nvPr/>
          </p:nvSpPr>
          <p:spPr>
            <a:xfrm>
              <a:off x="5219640" y="263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汽化（吸热）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539640" y="1557360"/>
            <a:ext cx="7488360" cy="1150920"/>
            <a:chOff x="539640" y="1557360"/>
            <a:chExt cx="7488360" cy="1150920"/>
          </a:xfrm>
        </p:grpSpPr>
        <p:sp>
          <p:nvSpPr>
            <p:cNvPr id="212" name="Line 16"/>
            <p:cNvSpPr/>
            <p:nvPr/>
          </p:nvSpPr>
          <p:spPr>
            <a:xfrm flipV="1">
              <a:off x="539640" y="2205000"/>
              <a:ext cx="431640" cy="5032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971280" y="2205000"/>
              <a:ext cx="6480360" cy="7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7524720" y="2276640"/>
              <a:ext cx="50328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H="1" flipV="1">
              <a:off x="7956000" y="2421000"/>
              <a:ext cx="71640" cy="2872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3203640" y="155736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升华（吸热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539280" y="3716280"/>
            <a:ext cx="7417080" cy="1251720"/>
            <a:chOff x="539280" y="3716280"/>
            <a:chExt cx="7417080" cy="1251720"/>
          </a:xfrm>
        </p:grpSpPr>
        <p:sp>
          <p:nvSpPr>
            <p:cNvPr id="218" name="Line 22"/>
            <p:cNvSpPr/>
            <p:nvPr/>
          </p:nvSpPr>
          <p:spPr>
            <a:xfrm>
              <a:off x="971280" y="4221000"/>
              <a:ext cx="6480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 flipV="1">
              <a:off x="7451640" y="3716280"/>
              <a:ext cx="504720" cy="504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 flipH="1" flipV="1">
              <a:off x="539280" y="3716280"/>
              <a:ext cx="431640" cy="504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539640" y="3716280"/>
              <a:ext cx="71280" cy="3603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3132000" y="450828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凝华（放热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5076720" y="3284640"/>
            <a:ext cx="2087640" cy="512640"/>
            <a:chOff x="5076720" y="3284640"/>
            <a:chExt cx="2087640" cy="512640"/>
          </a:xfrm>
        </p:grpSpPr>
        <p:grpSp>
          <p:nvGrpSpPr>
            <p:cNvPr id="224" name="Group 28"/>
            <p:cNvGrpSpPr/>
            <p:nvPr/>
          </p:nvGrpSpPr>
          <p:grpSpPr>
            <a:xfrm>
              <a:off x="5076720" y="3284640"/>
              <a:ext cx="2087640" cy="73080"/>
              <a:chOff x="5076720" y="3284640"/>
              <a:chExt cx="2087640" cy="73080"/>
            </a:xfrm>
          </p:grpSpPr>
          <p:sp>
            <p:nvSpPr>
              <p:cNvPr id="225" name="Line 29"/>
              <p:cNvSpPr/>
              <p:nvPr/>
            </p:nvSpPr>
            <p:spPr>
              <a:xfrm>
                <a:off x="5076720" y="3284640"/>
                <a:ext cx="208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6" name="Line 30"/>
              <p:cNvSpPr/>
              <p:nvPr/>
            </p:nvSpPr>
            <p:spPr>
              <a:xfrm>
                <a:off x="5076720" y="3284640"/>
                <a:ext cx="71280" cy="730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27" name="Text Box 31"/>
            <p:cNvSpPr/>
            <p:nvPr/>
          </p:nvSpPr>
          <p:spPr>
            <a:xfrm>
              <a:off x="5364000" y="342900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液化（放热）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8" name="Group 32"/>
          <p:cNvGrpSpPr/>
          <p:nvPr/>
        </p:nvGrpSpPr>
        <p:grpSpPr>
          <a:xfrm>
            <a:off x="1547640" y="3284640"/>
            <a:ext cx="2232000" cy="512640"/>
            <a:chOff x="1547640" y="3284640"/>
            <a:chExt cx="2232000" cy="512640"/>
          </a:xfrm>
        </p:grpSpPr>
        <p:grpSp>
          <p:nvGrpSpPr>
            <p:cNvPr id="229" name="Group 33"/>
            <p:cNvGrpSpPr/>
            <p:nvPr/>
          </p:nvGrpSpPr>
          <p:grpSpPr>
            <a:xfrm>
              <a:off x="1547640" y="3284640"/>
              <a:ext cx="2160720" cy="73080"/>
              <a:chOff x="1547640" y="3284640"/>
              <a:chExt cx="2160720" cy="73080"/>
            </a:xfrm>
          </p:grpSpPr>
          <p:sp>
            <p:nvSpPr>
              <p:cNvPr id="230" name="Line 34"/>
              <p:cNvSpPr/>
              <p:nvPr/>
            </p:nvSpPr>
            <p:spPr>
              <a:xfrm>
                <a:off x="1547640" y="3284640"/>
                <a:ext cx="21607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1" name="Line 35"/>
              <p:cNvSpPr/>
              <p:nvPr/>
            </p:nvSpPr>
            <p:spPr>
              <a:xfrm>
                <a:off x="1547640" y="3284640"/>
                <a:ext cx="144360" cy="730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2" name="Text Box 36"/>
            <p:cNvSpPr/>
            <p:nvPr/>
          </p:nvSpPr>
          <p:spPr>
            <a:xfrm>
              <a:off x="183492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凝固（放热）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6019920" y="4495680"/>
            <a:ext cx="1295280" cy="1295280"/>
            <a:chOff x="6019920" y="4495680"/>
            <a:chExt cx="1295280" cy="1295280"/>
          </a:xfrm>
        </p:grpSpPr>
        <p:pic>
          <p:nvPicPr>
            <p:cNvPr id="234" name="Picture 3" descr="earth11"/>
            <p:cNvPicPr/>
            <p:nvPr/>
          </p:nvPicPr>
          <p:blipFill>
            <a:blip r:embed="rId1"/>
            <a:stretch/>
          </p:blipFill>
          <p:spPr>
            <a:xfrm>
              <a:off x="6019920" y="449568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4"/>
            <p:cNvSpPr/>
            <p:nvPr/>
          </p:nvSpPr>
          <p:spPr>
            <a:xfrm>
              <a:off x="6078600" y="4890960"/>
              <a:ext cx="11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固态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6" name="Group 5"/>
          <p:cNvGrpSpPr/>
          <p:nvPr/>
        </p:nvGrpSpPr>
        <p:grpSpPr>
          <a:xfrm>
            <a:off x="1798560" y="4572000"/>
            <a:ext cx="1325520" cy="1295280"/>
            <a:chOff x="1798560" y="4572000"/>
            <a:chExt cx="1325520" cy="1295280"/>
          </a:xfrm>
        </p:grpSpPr>
        <p:pic>
          <p:nvPicPr>
            <p:cNvPr id="237" name="Picture 6" descr="earth11"/>
            <p:cNvPicPr/>
            <p:nvPr/>
          </p:nvPicPr>
          <p:blipFill>
            <a:blip r:embed="rId2"/>
            <a:stretch/>
          </p:blipFill>
          <p:spPr>
            <a:xfrm>
              <a:off x="1828800" y="457200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7"/>
            <p:cNvSpPr/>
            <p:nvPr/>
          </p:nvSpPr>
          <p:spPr>
            <a:xfrm>
              <a:off x="1798560" y="4967280"/>
              <a:ext cx="13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液态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3886200" y="914400"/>
            <a:ext cx="1295280" cy="1295280"/>
            <a:chOff x="3886200" y="914400"/>
            <a:chExt cx="1295280" cy="1295280"/>
          </a:xfrm>
        </p:grpSpPr>
        <p:pic>
          <p:nvPicPr>
            <p:cNvPr id="240" name="Picture 9" descr="earth11"/>
            <p:cNvPicPr/>
            <p:nvPr/>
          </p:nvPicPr>
          <p:blipFill>
            <a:blip r:embed="rId3"/>
            <a:stretch/>
          </p:blipFill>
          <p:spPr>
            <a:xfrm>
              <a:off x="3886200" y="91440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0"/>
            <p:cNvSpPr/>
            <p:nvPr/>
          </p:nvSpPr>
          <p:spPr>
            <a:xfrm>
              <a:off x="3962520" y="129528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气态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3505320" y="4581360"/>
            <a:ext cx="2290680" cy="1221840"/>
            <a:chOff x="3505320" y="4581360"/>
            <a:chExt cx="2290680" cy="1221840"/>
          </a:xfrm>
        </p:grpSpPr>
        <p:sp>
          <p:nvSpPr>
            <p:cNvPr id="243" name="Line 12"/>
            <p:cNvSpPr/>
            <p:nvPr/>
          </p:nvSpPr>
          <p:spPr>
            <a:xfrm flipH="1">
              <a:off x="3505320" y="5038560"/>
              <a:ext cx="215424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3561840" y="5338080"/>
              <a:ext cx="2152440" cy="108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Text Box 14"/>
            <p:cNvSpPr/>
            <p:nvPr/>
          </p:nvSpPr>
          <p:spPr>
            <a:xfrm>
              <a:off x="3505320" y="4581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熔化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4211640" y="45860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吸热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4557240" y="5343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放热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3581640" y="5343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凝固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9" name="Group 18"/>
          <p:cNvGrpSpPr/>
          <p:nvPr/>
        </p:nvGrpSpPr>
        <p:grpSpPr>
          <a:xfrm>
            <a:off x="2041200" y="2323440"/>
            <a:ext cx="2169360" cy="2176200"/>
            <a:chOff x="2041200" y="2323440"/>
            <a:chExt cx="2169360" cy="2176200"/>
          </a:xfrm>
        </p:grpSpPr>
        <p:sp>
          <p:nvSpPr>
            <p:cNvPr id="250" name="Line 19"/>
            <p:cNvSpPr/>
            <p:nvPr/>
          </p:nvSpPr>
          <p:spPr>
            <a:xfrm flipH="1">
              <a:off x="2683800" y="2334600"/>
              <a:ext cx="1016640" cy="19652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 flipV="1">
              <a:off x="2997720" y="2475360"/>
              <a:ext cx="990720" cy="1980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 rot="17686200">
              <a:off x="3354480" y="2987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吸热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 rot="18031200">
              <a:off x="2669040" y="2603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放热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 rot="17852400">
              <a:off x="1752840" y="3352320"/>
              <a:ext cx="182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液化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 rot="17775000">
              <a:off x="3009960" y="369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汽化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6" name="Group 25"/>
          <p:cNvGrpSpPr/>
          <p:nvPr/>
        </p:nvGrpSpPr>
        <p:grpSpPr>
          <a:xfrm>
            <a:off x="4766760" y="2276640"/>
            <a:ext cx="1990800" cy="2677680"/>
            <a:chOff x="4766760" y="2276640"/>
            <a:chExt cx="1990800" cy="2677680"/>
          </a:xfrm>
        </p:grpSpPr>
        <p:sp>
          <p:nvSpPr>
            <p:cNvPr id="257" name="Text Box 26"/>
            <p:cNvSpPr/>
            <p:nvPr/>
          </p:nvSpPr>
          <p:spPr>
            <a:xfrm rot="14538600">
              <a:off x="4649040" y="3807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升华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8" name="Group 27"/>
            <p:cNvGrpSpPr/>
            <p:nvPr/>
          </p:nvGrpSpPr>
          <p:grpSpPr>
            <a:xfrm>
              <a:off x="4766760" y="2276640"/>
              <a:ext cx="1990800" cy="2082240"/>
              <a:chOff x="4766760" y="2276640"/>
              <a:chExt cx="1990800" cy="2082240"/>
            </a:xfrm>
          </p:grpSpPr>
          <p:grpSp>
            <p:nvGrpSpPr>
              <p:cNvPr id="259" name="Group 28"/>
              <p:cNvGrpSpPr/>
              <p:nvPr/>
            </p:nvGrpSpPr>
            <p:grpSpPr>
              <a:xfrm>
                <a:off x="5046120" y="2276640"/>
                <a:ext cx="1348200" cy="2082240"/>
                <a:chOff x="5046120" y="2276640"/>
                <a:chExt cx="1348200" cy="2082240"/>
              </a:xfrm>
            </p:grpSpPr>
            <p:sp>
              <p:nvSpPr>
                <p:cNvPr id="260" name="Line 29"/>
                <p:cNvSpPr/>
                <p:nvPr/>
              </p:nvSpPr>
              <p:spPr>
                <a:xfrm>
                  <a:off x="5327640" y="2276640"/>
                  <a:ext cx="1066680" cy="193248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0"/>
                <p:cNvSpPr/>
                <p:nvPr/>
              </p:nvSpPr>
              <p:spPr>
                <a:xfrm flipH="1" flipV="1">
                  <a:off x="5046120" y="2413800"/>
                  <a:ext cx="1047240" cy="194508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Rectangle 31"/>
              <p:cNvSpPr/>
              <p:nvPr/>
            </p:nvSpPr>
            <p:spPr>
              <a:xfrm rot="14531400">
                <a:off x="4726440" y="31377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（吸热）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14330400">
                <a:off x="5411880" y="2572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（放热）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4" name="Text Box 33"/>
              <p:cNvSpPr/>
              <p:nvPr/>
            </p:nvSpPr>
            <p:spPr>
              <a:xfrm rot="14557800">
                <a:off x="5830200" y="331236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凝华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Text Box 34"/>
          <p:cNvSpPr/>
          <p:nvPr/>
        </p:nvSpPr>
        <p:spPr>
          <a:xfrm>
            <a:off x="0" y="228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彩云"/>
              </a:rPr>
              <a:t>物质的三态变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4720" y="691920"/>
            <a:ext cx="326232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复习回顾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22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物质可以由固态变为液态和由液态变为固态吗？需要什么条件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物质由液体变为气体和由气体变为液体分别叫做什么？发生的条件是什么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79280" y="1989000"/>
            <a:ext cx="8541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日常生活中，大家见到过物质由固态直接变为气态的现象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Picture 3" descr="无标题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91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4149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放入衣箱中的樟脑丸会变小、冰冻的衣服也会干、雪人没有熔化却变小了，这一切说明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4124520" y="32446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9640" y="49100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固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88000" y="49100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楷体_GB2312"/>
              </a:rPr>
              <a:t>气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6360" y="112536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樟脑丸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变小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869080" y="10526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樟脑丸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360" y="22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冰冻的衣服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变干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56360" y="2205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水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6360" y="33577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雪人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变小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156360" y="32860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水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3529080" y="1486080"/>
            <a:ext cx="18730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484360" y="5342040"/>
            <a:ext cx="43927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103640" y="2565360"/>
            <a:ext cx="187344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3095640" y="3645000"/>
            <a:ext cx="244944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51280" y="4622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升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Picture 4" descr="2-图片14-雪2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-图片4-冰雹"/>
          <p:cNvPicPr/>
          <p:nvPr/>
        </p:nvPicPr>
        <p:blipFill>
          <a:blip r:embed="rId2"/>
          <a:stretch/>
        </p:blipFill>
        <p:spPr>
          <a:xfrm>
            <a:off x="0" y="0"/>
            <a:ext cx="4280040" cy="429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2-图片13-雪1"/>
          <p:cNvPicPr/>
          <p:nvPr/>
        </p:nvPicPr>
        <p:blipFill>
          <a:blip r:embed="rId3"/>
          <a:stretch/>
        </p:blipFill>
        <p:spPr>
          <a:xfrm>
            <a:off x="4229280" y="0"/>
            <a:ext cx="4914720" cy="4221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971640" y="4797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请大家比较一下：冰和雪有什么相同和不同之处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124160" y="3244680"/>
            <a:ext cx="5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  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51672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水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96720" y="213192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雪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（水的固态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924360" y="2421000"/>
            <a:ext cx="2305080" cy="1440"/>
          </a:xfrm>
          <a:prstGeom prst="line">
            <a:avLst/>
          </a:prstGeom>
          <a:ln w="57240">
            <a:solidFill>
              <a:srgbClr val="33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4160" y="4076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固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302520" y="4076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楷体_GB2312"/>
              </a:rPr>
              <a:t>气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2195640" y="4508640"/>
            <a:ext cx="4321080" cy="0"/>
          </a:xfrm>
          <a:prstGeom prst="line">
            <a:avLst/>
          </a:prstGeom>
          <a:ln w="57240">
            <a:solidFill>
              <a:srgbClr val="33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564000" y="486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凝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思考：升华和凝华需要什么条件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498816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升华需要吸热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凝华需要放热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4160" y="4076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固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302520" y="4076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楷体_GB2312"/>
              </a:rPr>
              <a:t>气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195640" y="4508640"/>
            <a:ext cx="4392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564000" y="378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升华（吸热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195640" y="4724280"/>
            <a:ext cx="4321080" cy="0"/>
          </a:xfrm>
          <a:prstGeom prst="line">
            <a:avLst/>
          </a:prstGeom>
          <a:ln w="57240">
            <a:solidFill>
              <a:srgbClr val="33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564000" y="486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凝华（放热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66760" y="554040"/>
            <a:ext cx="25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生活中的升华和凝华现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4" descr="wl8akbt1-27-2"/>
          <p:cNvPicPr/>
          <p:nvPr/>
        </p:nvPicPr>
        <p:blipFill>
          <a:blip r:embed="rId1"/>
          <a:stretch/>
        </p:blipFill>
        <p:spPr>
          <a:xfrm>
            <a:off x="0" y="981000"/>
            <a:ext cx="2843280" cy="26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1081156"/>
          <p:cNvPicPr/>
          <p:nvPr/>
        </p:nvPicPr>
        <p:blipFill>
          <a:blip r:embed="rId2"/>
          <a:stretch/>
        </p:blipFill>
        <p:spPr>
          <a:xfrm>
            <a:off x="0" y="4221000"/>
            <a:ext cx="2843280" cy="26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21164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水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059280" y="4653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雾凇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643280" y="45813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水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916360" y="1484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窗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084720" y="9810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凝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227640" y="4076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凝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843280" y="2205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思考：窗花出现在玻璃窗的内侧还是外侧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932360" y="321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内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916360" y="3213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答案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7415280" y="148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小冰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41528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小冰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6012000" y="1844640"/>
            <a:ext cx="1368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6156360" y="5013360"/>
            <a:ext cx="1368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l8akbt1-27-3"/>
          <p:cNvPicPr/>
          <p:nvPr/>
        </p:nvPicPr>
        <p:blipFill>
          <a:blip r:embed="rId1"/>
          <a:stretch/>
        </p:blipFill>
        <p:spPr>
          <a:xfrm>
            <a:off x="0" y="0"/>
            <a:ext cx="5292720" cy="372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332000" y="4076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灯泡灯丝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变细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灯泡内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变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4292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现象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64000" y="260280"/>
            <a:ext cx="33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今天所学知识解释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64000" y="1484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提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443640" y="119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从物态变化方面解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932360" y="407664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钨丝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升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为钨蒸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932360" y="47242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钨蒸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凝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为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4427640" y="443700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427640" y="508464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29:47Z</dcterms:created>
  <dc:creator>朱君</dc:creator>
  <dc:description/>
  <cp:keywords/>
  <dc:language>en-US</dc:language>
  <cp:lastModifiedBy>User</cp:lastModifiedBy>
  <dcterms:modified xsi:type="dcterms:W3CDTF">2014-09-29T06:11:3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