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CD5F-833C-44DA-AFAB-1285CE4EC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724D-FB73-4129-83F1-B8C6C629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F2BE59-94F9-4D8A-9DB5-B8EE8E96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EDFA4-EC9D-48A5-9276-AB7AE83A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F3D34E-30FA-4FFB-8704-20BD332A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AC787-39D2-4FA3-875D-E5512448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D82CF9-F4C6-4535-A820-3DACBD5E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A3B7BE-253E-402E-84A0-DE17DBA5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A2A8E8-D3A4-44FD-9230-FC911C95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6E53F4-8177-431C-B964-E7AD5CBD9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FF49F-1B07-4A61-8BAA-98710824D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C36E6-DD86-49E9-AAEF-CBC750D37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900E-A32D-4A52-BE19-E41B24467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18C5E7-A7BE-477E-8B58-445CD8EE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8E71AA-2149-4EBF-92B5-FB1F7789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D8C81A-F810-4F67-BEE7-17DFE186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22DD5E-9045-4B77-9759-CB5B3A3E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C3E22B-7548-42F6-BD39-79DEA1CD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A7346D-9EC2-4F17-B73D-A52863CF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3BF114-EF58-40B5-9AF5-13916A43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9B351A-FF9B-466A-B298-454F4D00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E44488-B060-4E70-B714-0EC7B083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1F4B3E-9D6C-4ECB-90F9-DCD31F1A2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ABDB-5E62-45B9-A983-DE5946BC2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59EA2F-6149-4DE7-8E75-64FA4229D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5340-A39A-47D3-97B9-261CB370F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B5A9-0270-4868-8A8E-FDC427DD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40BF-0FCC-49F8-A835-26857C7E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EF2C-F5AF-4697-90BD-A87EF48D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62E5-552A-45FF-90AC-5869B7E9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6C4D7-9A16-49E7-9D38-27E1B079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0042-F5F3-4F2C-BD25-1DF966BD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2492-0100-4373-91AB-05398722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A9F4-0FBB-4BB3-AAFD-C6E47B9A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FDA7-C43B-4668-8158-8F65E8E6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D1C5-8BF2-4E35-8049-F23296FA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BEA1-BC3F-4EE7-A704-DB3C77ACE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BAF1-1FE2-4CFF-950B-F32DE8EB2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2D663-6B41-406B-8A4C-46E7547A0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8FF1A-6B77-4ECC-BE5A-FDB3C7A5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00024-3BDC-4053-88AB-4089A76B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C477D-E27F-4DF9-9CA2-31CFC5F1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82BB8-B889-416F-AEBD-D46E3A47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BFBC-8D0B-4601-9EA4-159C4D8B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1EFBA-9108-425E-9ED5-D2C29AD1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9376B-8F0E-4635-BC4F-D4A4BC03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39A44-8798-4175-94CA-2AD007B9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F5E94-D6C3-4633-85D8-EE33565E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E9761-0B87-484E-8D48-309C426F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F88C2-E89A-4A88-A310-FBE234536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33DB7-C689-4D1C-B047-D5D7241E6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EE199-C482-43C5-9A4F-24F274BC2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7A28C-28F8-48ED-A2E8-67CE985E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B6ED2-DA01-4F39-9CE8-01FC4DC6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D040-82AC-4AD8-9194-6AE8B0F4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2C79B-D8D6-42AB-959C-1A2E08D0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D2781-A774-42A9-9EE8-75F17C26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E67A4-CD3D-454F-A3C2-A75029FB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9BDAD-37DB-41BA-B36A-1FEC1DB7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45259-3813-4A95-A878-E3E32FE0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72196-6A5B-4829-BC77-DAE5574A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42CE1-45B9-4DB8-9017-337E670F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BBAAE-B35B-44F6-8908-58A5F6353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C0D85-6691-46D8-A8D0-22C638297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48C6F-41A6-4839-8FB5-8C7738991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4887-1167-43A7-AB2C-13E44EE0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B9B13-D974-454B-8EC8-BEF5146C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5A573-35A5-4857-B291-6952E985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33772-313B-47E7-AF10-6E7D8821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93A2D-4E99-4585-95A6-5C6EE355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34A20-9D75-47CD-9243-6B2596BC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A8AE6-92A1-4C67-9A6A-01DB8F9B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34D3C-6B5E-4F7D-AA6C-503B5A2A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C178D-BD73-40F6-8F28-CF91728E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6544A-A999-45C3-8F50-5DB01826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F9968-E464-47EC-9E10-D840D21DE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BF8D-5371-4B08-816E-AB74F456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BAE63-EB0B-4231-94F5-BF2BF0417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12F31-3483-49AD-AEAA-17ACE5989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BB34B-350E-495B-BF84-C4607009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25F91-B6F2-44A7-B247-F3DE1A3C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28446-7238-430C-B900-164E4A36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E672B-077A-4CD1-B317-04882C9C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8352A-D052-4022-9625-3AC367ED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C032F-67C7-4730-9133-A7E14AD7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87B49-5A57-4BE5-82D6-FB218902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226B2-43FB-4CE8-9CF9-AF126CE1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264A-7654-4261-A69A-B70630D9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031E3-52C8-4C61-90D7-14A42962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B8096-F4E6-426E-BBD5-41269E66F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6010B-F7A4-4535-8B92-61F5615C3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2F46A-AFE2-438C-8DCC-54B56BDD2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E2688-5534-4521-92B8-BB364A05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B4820-4C75-49B5-B981-ECA504E4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BCA4A-4377-48F5-96A7-B149BEBC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6B592-735A-4C58-80BE-EF4800EA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E3356-9D9A-44F4-8303-8079035E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FD61C-BEE3-4FDF-A470-07B89A63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F6B8-6DA4-4736-A206-A2373AC6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7C806-6862-46D5-8A97-D5441702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038BA-65E9-4F8F-8CB6-E3C97768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B1C2E-B739-4479-8942-E9E5EACA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31E98-28D4-4F3D-ADE5-20CF53623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30EEB-D2BF-4DD2-8543-5504989B1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85BE5-ADE7-407F-A357-93D89E18B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3A614-3662-44D2-A517-078C9F82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17A72-E4C8-4E88-A90E-6ABB29AB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A37D9-456A-4071-9C74-692D8F29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D9427-B07B-4264-9490-0AD853A0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956E-5A5A-483E-B163-5725C69D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CCEFF-D4C0-44EB-9E16-83EA8AE8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F99C9-AB7B-4AD7-BC88-FF3AA684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46140-2C04-4235-ADDE-2A4FFB73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E1210-C533-42CA-BCCF-67072E5A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E7631-36D4-4AE8-B206-9A4B0EF4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2DF36-990B-4694-95D2-6D5EFA22F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E62E0-4D1E-48A9-879A-74F1FCE51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9B2C2-3942-4900-A6D7-BE7E37D4C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BA937F-8F0D-4070-9133-56F8AE52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C5B162-737B-4DA5-AB57-F295A718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D67D-BF8A-4C94-B9F6-E442230F324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9" name="Group 2"/>
          <p:cNvGrpSpPr/>
          <p:nvPr/>
        </p:nvGrpSpPr>
        <p:grpSpPr>
          <a:xfrm>
            <a:off x="-3220920" y="304920"/>
            <a:ext cx="11907360" cy="4724280"/>
            <a:chOff x="-3220920" y="304920"/>
            <a:chExt cx="11907360" cy="4724280"/>
          </a:xfrm>
        </p:grpSpPr>
        <p:sp>
          <p:nvSpPr>
            <p:cNvPr id="880" name="Line 3"/>
            <p:cNvSpPr/>
            <p:nvPr/>
          </p:nvSpPr>
          <p:spPr>
            <a:xfrm>
              <a:off x="1448640" y="2514600"/>
              <a:ext cx="72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AutoShape 4"/>
            <p:cNvSpPr/>
            <p:nvPr/>
          </p:nvSpPr>
          <p:spPr>
            <a:xfrm>
              <a:off x="-2512800" y="1371600"/>
              <a:ext cx="365688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AutoShape 5"/>
            <p:cNvSpPr/>
            <p:nvPr/>
          </p:nvSpPr>
          <p:spPr>
            <a:xfrm>
              <a:off x="-3220920" y="304920"/>
              <a:ext cx="403776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C0B4-3CB8-4883-8BE3-02DCAA86641C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3710-627B-4425-BE9E-C3CA381981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83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7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2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5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8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30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31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3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4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7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40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2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43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45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46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49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52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54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55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57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58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61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64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66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67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69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70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73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76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78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79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1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82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5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88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90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91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3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94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97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00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02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03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05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06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09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12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14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15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17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18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21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24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26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27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29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30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33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36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38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39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1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42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45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47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229" name="Freeform 149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51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55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59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60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61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43" name="Freeform 163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65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69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73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74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75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57" name="Freeform 177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79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83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87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88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89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71" name="Freeform 191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93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97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01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02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03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85" name="Freeform 205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07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11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15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16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17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99" name="Freeform 219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21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25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29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30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31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232"/>
          <p:cNvGrpSpPr/>
          <p:nvPr/>
        </p:nvGrpSpPr>
        <p:grpSpPr>
          <a:xfrm>
            <a:off x="6934320" y="-6480"/>
            <a:ext cx="2317680" cy="2062080"/>
            <a:chOff x="6934320" y="-6480"/>
            <a:chExt cx="2317680" cy="2062080"/>
          </a:xfrm>
        </p:grpSpPr>
        <p:sp>
          <p:nvSpPr>
            <p:cNvPr id="313" name="Freeform 233"/>
            <p:cNvSpPr/>
            <p:nvPr/>
          </p:nvSpPr>
          <p:spPr>
            <a:xfrm>
              <a:off x="7041600" y="-6480"/>
              <a:ext cx="2102760" cy="1912320"/>
            </a:xfrm>
            <a:custGeom>
              <a:avLst/>
              <a:gdLst>
                <a:gd name="textAreaLeft" fmla="*/ 0 w 2102760"/>
                <a:gd name="textAreaRight" fmla="*/ 2103120 w 2102760"/>
                <a:gd name="textAreaTop" fmla="*/ 0 h 1912320"/>
                <a:gd name="textAreaBottom" fmla="*/ 1912680 h 1912320"/>
              </a:gdLst>
              <a:ahLst/>
              <a:rect l="textAreaLeft" t="textAreaTop" r="textAreaRight" b="textAreaBottom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Group 234"/>
            <p:cNvGrpSpPr/>
            <p:nvPr/>
          </p:nvGrpSpPr>
          <p:grpSpPr>
            <a:xfrm>
              <a:off x="6934320" y="0"/>
              <a:ext cx="2317680" cy="2055600"/>
              <a:chOff x="6934320" y="0"/>
              <a:chExt cx="2317680" cy="2055600"/>
            </a:xfrm>
          </p:grpSpPr>
          <p:sp>
            <p:nvSpPr>
              <p:cNvPr id="315" name="Freeform 235"/>
              <p:cNvSpPr/>
              <p:nvPr/>
            </p:nvSpPr>
            <p:spPr>
              <a:xfrm>
                <a:off x="7045200" y="0"/>
                <a:ext cx="383760" cy="14220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236"/>
              <p:cNvSpPr/>
              <p:nvPr/>
            </p:nvSpPr>
            <p:spPr>
              <a:xfrm>
                <a:off x="6934320" y="0"/>
                <a:ext cx="2317680" cy="2055600"/>
              </a:xfrm>
              <a:custGeom>
                <a:avLst/>
                <a:gdLst>
                  <a:gd name="textAreaLeft" fmla="*/ 0 w 2317680"/>
                  <a:gd name="textAreaRight" fmla="*/ 2318040 w 2317680"/>
                  <a:gd name="textAreaTop" fmla="*/ 0 h 2055600"/>
                  <a:gd name="textAreaBottom" fmla="*/ 2055960 h 2055600"/>
                </a:gdLst>
                <a:ahLst/>
                <a:rect l="textAreaLeft" t="textAreaTop" r="textAreaRight" b="textAreaBottom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237"/>
              <p:cNvSpPr/>
              <p:nvPr/>
            </p:nvSpPr>
            <p:spPr>
              <a:xfrm>
                <a:off x="7485120" y="966240"/>
                <a:ext cx="186480" cy="21528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215280"/>
                  <a:gd name="textAreaBottom" fmla="*/ 215640 h 215280"/>
                </a:gdLst>
                <a:ahLst/>
                <a:rect l="textAreaLeft" t="textAreaTop" r="textAreaRight" b="textAreaBottom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238"/>
              <p:cNvSpPr/>
              <p:nvPr/>
            </p:nvSpPr>
            <p:spPr>
              <a:xfrm>
                <a:off x="7314120" y="1054800"/>
                <a:ext cx="162720" cy="288720"/>
              </a:xfrm>
              <a:custGeom>
                <a:avLst/>
                <a:gdLst>
                  <a:gd name="textAreaLeft" fmla="*/ 0 w 162720"/>
                  <a:gd name="textAreaRight" fmla="*/ 163080 w 162720"/>
                  <a:gd name="textAreaTop" fmla="*/ 0 h 288720"/>
                  <a:gd name="textAreaBottom" fmla="*/ 289080 h 288720"/>
                </a:gdLst>
                <a:ahLst/>
                <a:rect l="textAreaLeft" t="textAreaTop" r="textAreaRight" b="textAreaBottom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239"/>
              <p:cNvSpPr/>
              <p:nvPr/>
            </p:nvSpPr>
            <p:spPr>
              <a:xfrm>
                <a:off x="7211520" y="477360"/>
                <a:ext cx="534960" cy="2419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240"/>
              <p:cNvSpPr/>
              <p:nvPr/>
            </p:nvSpPr>
            <p:spPr>
              <a:xfrm>
                <a:off x="7818120" y="1162800"/>
                <a:ext cx="383760" cy="39204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392040"/>
                  <a:gd name="textAreaBottom" fmla="*/ 392400 h 392040"/>
                </a:gdLst>
                <a:ahLst/>
                <a:rect l="textAreaLeft" t="textAreaTop" r="textAreaRight" b="textAreaBottom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241"/>
              <p:cNvSpPr/>
              <p:nvPr/>
            </p:nvSpPr>
            <p:spPr>
              <a:xfrm>
                <a:off x="8701200" y="766080"/>
                <a:ext cx="392400" cy="73080"/>
              </a:xfrm>
              <a:custGeom>
                <a:avLst/>
                <a:gdLst>
                  <a:gd name="textAreaLeft" fmla="*/ 0 w 392400"/>
                  <a:gd name="textAreaRight" fmla="*/ 392760 w 3924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242"/>
              <p:cNvSpPr/>
              <p:nvPr/>
            </p:nvSpPr>
            <p:spPr>
              <a:xfrm>
                <a:off x="8831880" y="750960"/>
                <a:ext cx="301680" cy="18036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0 h 180360"/>
                  <a:gd name="textAreaBottom" fmla="*/ 180360 h 180360"/>
                </a:gdLst>
                <a:ahLst/>
                <a:rect l="textAreaLeft" t="textAreaTop" r="textAreaRight" b="textAreaBottom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243"/>
              <p:cNvSpPr/>
              <p:nvPr/>
            </p:nvSpPr>
            <p:spPr>
              <a:xfrm>
                <a:off x="8820360" y="901080"/>
                <a:ext cx="325080" cy="142200"/>
              </a:xfrm>
              <a:custGeom>
                <a:avLst/>
                <a:gdLst>
                  <a:gd name="textAreaLeft" fmla="*/ 0 w 325080"/>
                  <a:gd name="textAreaRight" fmla="*/ 325080 w 32508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244"/>
              <p:cNvSpPr/>
              <p:nvPr/>
            </p:nvSpPr>
            <p:spPr>
              <a:xfrm>
                <a:off x="8566200" y="1035720"/>
                <a:ext cx="546840" cy="127080"/>
              </a:xfrm>
              <a:custGeom>
                <a:avLst/>
                <a:gdLst>
                  <a:gd name="textAreaLeft" fmla="*/ 0 w 546840"/>
                  <a:gd name="textAreaRight" fmla="*/ 547200 w 54684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245"/>
              <p:cNvSpPr/>
              <p:nvPr/>
            </p:nvSpPr>
            <p:spPr>
              <a:xfrm>
                <a:off x="8625960" y="1159200"/>
                <a:ext cx="443880" cy="110880"/>
              </a:xfrm>
              <a:custGeom>
                <a:avLst/>
                <a:gdLst>
                  <a:gd name="textAreaLeft" fmla="*/ 0 w 443880"/>
                  <a:gd name="textAreaRight" fmla="*/ 444240 w 443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>
                  <a:gd name="textAreaLeft" fmla="*/ 0 w 455040"/>
                  <a:gd name="textAreaRight" fmla="*/ 455400 w 455040"/>
                  <a:gd name="textAreaTop" fmla="*/ 0 h 365400"/>
                  <a:gd name="textAreaBottom" fmla="*/ 365760 h 365400"/>
                </a:gdLst>
                <a:ahLst/>
                <a:rect l="textAreaLeft" t="textAreaTop" r="textAreaRight" b="textAreaBottom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247"/>
              <p:cNvSpPr/>
              <p:nvPr/>
            </p:nvSpPr>
            <p:spPr>
              <a:xfrm>
                <a:off x="8895600" y="1101240"/>
                <a:ext cx="257400" cy="65016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650160"/>
                  <a:gd name="textAreaBottom" fmla="*/ 650160 h 650160"/>
                </a:gdLst>
                <a:ahLst/>
                <a:rect l="textAreaLeft" t="textAreaTop" r="textAreaRight" b="textAreaBottom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7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8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9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1D85-F03D-410F-A7F4-83B214D514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2"/>
          <p:cNvGrpSpPr/>
          <p:nvPr/>
        </p:nvGrpSpPr>
        <p:grpSpPr>
          <a:xfrm>
            <a:off x="-85680" y="-93600"/>
            <a:ext cx="2770920" cy="6950160"/>
            <a:chOff x="-85680" y="-93600"/>
            <a:chExt cx="2770920" cy="6950160"/>
          </a:xfrm>
        </p:grpSpPr>
        <p:sp>
          <p:nvSpPr>
            <p:cNvPr id="370" name="Freeform 3"/>
            <p:cNvSpPr/>
            <p:nvPr/>
          </p:nvSpPr>
          <p:spPr>
            <a:xfrm>
              <a:off x="-6480" y="5178600"/>
              <a:ext cx="748440" cy="1272960"/>
            </a:xfrm>
            <a:custGeom>
              <a:avLst/>
              <a:gdLst>
                <a:gd name="textAreaLeft" fmla="*/ 0 w 748440"/>
                <a:gd name="textAreaRight" fmla="*/ 748800 w 74844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4"/>
            <p:cNvGrpSpPr/>
            <p:nvPr/>
          </p:nvGrpSpPr>
          <p:grpSpPr>
            <a:xfrm>
              <a:off x="68760" y="3921840"/>
              <a:ext cx="888840" cy="720360"/>
              <a:chOff x="68760" y="3921840"/>
              <a:chExt cx="888840" cy="720360"/>
            </a:xfrm>
          </p:grpSpPr>
          <p:sp>
            <p:nvSpPr>
              <p:cNvPr id="372" name="Freeform 5"/>
              <p:cNvSpPr/>
              <p:nvPr/>
            </p:nvSpPr>
            <p:spPr>
              <a:xfrm flipH="1" rot="14965200">
                <a:off x="118080" y="3943080"/>
                <a:ext cx="228240" cy="264240"/>
              </a:xfrm>
              <a:custGeom>
                <a:avLst/>
                <a:gdLst>
                  <a:gd name="textAreaLeft" fmla="*/ 360 w 228240"/>
                  <a:gd name="textAreaRight" fmla="*/ 228960 w 22824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6"/>
              <p:cNvSpPr/>
              <p:nvPr/>
            </p:nvSpPr>
            <p:spPr>
              <a:xfrm flipH="1" rot="14965200">
                <a:off x="277920" y="4310640"/>
                <a:ext cx="389160" cy="220680"/>
              </a:xfrm>
              <a:custGeom>
                <a:avLst/>
                <a:gdLst>
                  <a:gd name="textAreaLeft" fmla="*/ -360 w 389160"/>
                  <a:gd name="textAreaRight" fmla="*/ 389160 w 389160"/>
                  <a:gd name="textAreaTop" fmla="*/ 0 h 220680"/>
                  <a:gd name="textAreaBottom" fmla="*/ 221040 h 2206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7"/>
              <p:cNvSpPr/>
              <p:nvPr/>
            </p:nvSpPr>
            <p:spPr>
              <a:xfrm flipH="1" rot="14965200">
                <a:off x="631080" y="4155120"/>
                <a:ext cx="405720" cy="111600"/>
              </a:xfrm>
              <a:custGeom>
                <a:avLst/>
                <a:gdLst>
                  <a:gd name="textAreaLeft" fmla="*/ -360 w 405720"/>
                  <a:gd name="textAreaRight" fmla="*/ 405720 w 40572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5" name="Freeform 8"/>
            <p:cNvSpPr/>
            <p:nvPr/>
          </p:nvSpPr>
          <p:spPr>
            <a:xfrm>
              <a:off x="144000" y="2755800"/>
              <a:ext cx="1126440" cy="1219320"/>
            </a:xfrm>
            <a:custGeom>
              <a:avLst/>
              <a:gdLst>
                <a:gd name="textAreaLeft" fmla="*/ 0 w 1126440"/>
                <a:gd name="textAreaRight" fmla="*/ 1126800 w 112644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Group 9"/>
            <p:cNvGrpSpPr/>
            <p:nvPr/>
          </p:nvGrpSpPr>
          <p:grpSpPr>
            <a:xfrm>
              <a:off x="0" y="2601000"/>
              <a:ext cx="2685240" cy="3117600"/>
              <a:chOff x="0" y="2601000"/>
              <a:chExt cx="2685240" cy="3117600"/>
            </a:xfrm>
          </p:grpSpPr>
          <p:sp>
            <p:nvSpPr>
              <p:cNvPr id="377" name="Freeform 10"/>
              <p:cNvSpPr/>
              <p:nvPr/>
            </p:nvSpPr>
            <p:spPr>
              <a:xfrm flipH="1" rot="789600">
                <a:off x="38736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11"/>
              <p:cNvSpPr/>
              <p:nvPr/>
            </p:nvSpPr>
            <p:spPr>
              <a:xfrm flipH="1" rot="789600">
                <a:off x="105480" y="2841840"/>
                <a:ext cx="815400" cy="1021680"/>
              </a:xfrm>
              <a:custGeom>
                <a:avLst/>
                <a:gdLst>
                  <a:gd name="textAreaLeft" fmla="*/ -360 w 815400"/>
                  <a:gd name="textAreaRight" fmla="*/ 815400 w 81540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2"/>
              <p:cNvSpPr/>
              <p:nvPr/>
            </p:nvSpPr>
            <p:spPr>
              <a:xfrm flipH="1" rot="789600">
                <a:off x="35856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3"/>
              <p:cNvSpPr/>
              <p:nvPr/>
            </p:nvSpPr>
            <p:spPr>
              <a:xfrm flipH="1" rot="789600">
                <a:off x="883800" y="3792240"/>
                <a:ext cx="264600" cy="308160"/>
              </a:xfrm>
              <a:custGeom>
                <a:avLst/>
                <a:gdLst>
                  <a:gd name="textAreaLeft" fmla="*/ -360 w 264600"/>
                  <a:gd name="textAreaRight" fmla="*/ 264600 w 26460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4"/>
              <p:cNvSpPr/>
              <p:nvPr/>
            </p:nvSpPr>
            <p:spPr>
              <a:xfrm flipH="1" rot="789600">
                <a:off x="808920" y="3854520"/>
                <a:ext cx="64800" cy="181800"/>
              </a:xfrm>
              <a:custGeom>
                <a:avLst/>
                <a:gdLst>
                  <a:gd name="textAreaLeft" fmla="*/ 360 w 64800"/>
                  <a:gd name="textAreaRight" fmla="*/ 65520 w 6480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2" name="Group 15"/>
              <p:cNvGrpSpPr/>
              <p:nvPr/>
            </p:nvGrpSpPr>
            <p:grpSpPr>
              <a:xfrm>
                <a:off x="852840" y="4055760"/>
                <a:ext cx="1832400" cy="1662840"/>
                <a:chOff x="852840" y="4055760"/>
                <a:chExt cx="1832400" cy="1662840"/>
              </a:xfrm>
            </p:grpSpPr>
            <p:sp>
              <p:nvSpPr>
                <p:cNvPr id="383" name="Freeform 16"/>
                <p:cNvSpPr/>
                <p:nvPr/>
              </p:nvSpPr>
              <p:spPr>
                <a:xfrm flipH="1" rot="7102800">
                  <a:off x="1261800" y="3945960"/>
                  <a:ext cx="474480" cy="1213920"/>
                </a:xfrm>
                <a:custGeom>
                  <a:avLst/>
                  <a:gdLst>
                    <a:gd name="textAreaLeft" fmla="*/ 360 w 474480"/>
                    <a:gd name="textAreaRight" fmla="*/ 475200 w 474480"/>
                    <a:gd name="textAreaTop" fmla="*/ 0 h 1213920"/>
                    <a:gd name="textAreaBottom" fmla="*/ 1214280 h 12139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17"/>
                <p:cNvSpPr/>
                <p:nvPr/>
              </p:nvSpPr>
              <p:spPr>
                <a:xfrm flipH="1" rot="7102800">
                  <a:off x="2328120" y="4973760"/>
                  <a:ext cx="108720" cy="497880"/>
                </a:xfrm>
                <a:custGeom>
                  <a:avLst/>
                  <a:gdLst>
                    <a:gd name="textAreaLeft" fmla="*/ 360 w 108720"/>
                    <a:gd name="textAreaRight" fmla="*/ 109440 w 108720"/>
                    <a:gd name="textAreaTop" fmla="*/ 0 h 497880"/>
                    <a:gd name="textAreaBottom" fmla="*/ 498240 h 4978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18"/>
                <p:cNvSpPr/>
                <p:nvPr/>
              </p:nvSpPr>
              <p:spPr>
                <a:xfrm flipH="1" rot="7102800">
                  <a:off x="2502000" y="5569560"/>
                  <a:ext cx="198360" cy="83520"/>
                </a:xfrm>
                <a:custGeom>
                  <a:avLst/>
                  <a:gdLst>
                    <a:gd name="textAreaLeft" fmla="*/ -360 w 198360"/>
                    <a:gd name="textAreaRight" fmla="*/ 198360 w 198360"/>
                    <a:gd name="textAreaTop" fmla="*/ 0 h 83520"/>
                    <a:gd name="textAreaBottom" fmla="*/ 83880 h 835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6" name="Group 19"/>
            <p:cNvGrpSpPr/>
            <p:nvPr/>
          </p:nvGrpSpPr>
          <p:grpSpPr>
            <a:xfrm>
              <a:off x="468720" y="6173640"/>
              <a:ext cx="789840" cy="635040"/>
              <a:chOff x="468720" y="6173640"/>
              <a:chExt cx="789840" cy="635040"/>
            </a:xfrm>
          </p:grpSpPr>
          <p:sp>
            <p:nvSpPr>
              <p:cNvPr id="387" name="Freeform 20"/>
              <p:cNvSpPr/>
              <p:nvPr/>
            </p:nvSpPr>
            <p:spPr>
              <a:xfrm rot="6248400">
                <a:off x="1013040" y="6174000"/>
                <a:ext cx="197640" cy="25236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21"/>
              <p:cNvSpPr/>
              <p:nvPr/>
            </p:nvSpPr>
            <p:spPr>
              <a:xfrm rot="6248400">
                <a:off x="761400" y="6513840"/>
                <a:ext cx="337320" cy="210600"/>
              </a:xfrm>
              <a:custGeom>
                <a:avLst/>
                <a:gdLst>
                  <a:gd name="textAreaLeft" fmla="*/ 0 w 337320"/>
                  <a:gd name="textAreaRight" fmla="*/ 337680 w 337320"/>
                  <a:gd name="textAreaTop" fmla="*/ 0 h 210600"/>
                  <a:gd name="textAreaBottom" fmla="*/ 210960 h 21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22"/>
              <p:cNvSpPr/>
              <p:nvPr/>
            </p:nvSpPr>
            <p:spPr>
              <a:xfrm rot="6248400">
                <a:off x="387360" y="6410880"/>
                <a:ext cx="351360" cy="106560"/>
              </a:xfrm>
              <a:custGeom>
                <a:avLst/>
                <a:gdLst>
                  <a:gd name="textAreaLeft" fmla="*/ 0 w 351360"/>
                  <a:gd name="textAreaRight" fmla="*/ 351720 w 3513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23"/>
            <p:cNvGrpSpPr/>
            <p:nvPr/>
          </p:nvGrpSpPr>
          <p:grpSpPr>
            <a:xfrm>
              <a:off x="318600" y="1775880"/>
              <a:ext cx="784080" cy="693360"/>
              <a:chOff x="318600" y="1775880"/>
              <a:chExt cx="784080" cy="693360"/>
            </a:xfrm>
          </p:grpSpPr>
          <p:sp>
            <p:nvSpPr>
              <p:cNvPr id="391" name="Freeform 24"/>
              <p:cNvSpPr/>
              <p:nvPr/>
            </p:nvSpPr>
            <p:spPr>
              <a:xfrm rot="5002800">
                <a:off x="839160" y="1747080"/>
                <a:ext cx="207360" cy="29736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25"/>
              <p:cNvSpPr/>
              <p:nvPr/>
            </p:nvSpPr>
            <p:spPr>
              <a:xfrm rot="5002800">
                <a:off x="693000" y="2154240"/>
                <a:ext cx="354600" cy="248400"/>
              </a:xfrm>
              <a:custGeom>
                <a:avLst/>
                <a:gdLst>
                  <a:gd name="textAreaLeft" fmla="*/ 0 w 354600"/>
                  <a:gd name="textAreaRight" fmla="*/ 354960 w 354600"/>
                  <a:gd name="textAreaTop" fmla="*/ 0 h 248400"/>
                  <a:gd name="textAreaBottom" fmla="*/ 248760 h 248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26"/>
              <p:cNvSpPr/>
              <p:nvPr/>
            </p:nvSpPr>
            <p:spPr>
              <a:xfrm rot="5002800">
                <a:off x="217440" y="2206080"/>
                <a:ext cx="369360" cy="12564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125640"/>
                  <a:gd name="textAreaBottom" fmla="*/ 126000 h 125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Group 27"/>
            <p:cNvGrpSpPr/>
            <p:nvPr/>
          </p:nvGrpSpPr>
          <p:grpSpPr>
            <a:xfrm>
              <a:off x="1294560" y="0"/>
              <a:ext cx="546120" cy="581400"/>
              <a:chOff x="1294560" y="0"/>
              <a:chExt cx="546120" cy="581400"/>
            </a:xfrm>
          </p:grpSpPr>
          <p:sp>
            <p:nvSpPr>
              <p:cNvPr id="395" name="Freeform 28"/>
              <p:cNvSpPr/>
              <p:nvPr/>
            </p:nvSpPr>
            <p:spPr>
              <a:xfrm>
                <a:off x="1294560" y="0"/>
                <a:ext cx="173520" cy="21852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29"/>
              <p:cNvSpPr/>
              <p:nvPr/>
            </p:nvSpPr>
            <p:spPr>
              <a:xfrm>
                <a:off x="1544040" y="103320"/>
                <a:ext cx="296640" cy="182160"/>
              </a:xfrm>
              <a:custGeom>
                <a:avLst/>
                <a:gdLst>
                  <a:gd name="textAreaLeft" fmla="*/ 0 w 296640"/>
                  <a:gd name="textAreaRight" fmla="*/ 297000 w 296640"/>
                  <a:gd name="textAreaTop" fmla="*/ 0 h 182160"/>
                  <a:gd name="textAreaBottom" fmla="*/ 182160 h 1821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30"/>
              <p:cNvSpPr/>
              <p:nvPr/>
            </p:nvSpPr>
            <p:spPr>
              <a:xfrm>
                <a:off x="1484640" y="489240"/>
                <a:ext cx="309240" cy="92160"/>
              </a:xfrm>
              <a:custGeom>
                <a:avLst/>
                <a:gdLst>
                  <a:gd name="textAreaLeft" fmla="*/ 0 w 309240"/>
                  <a:gd name="textAreaRight" fmla="*/ 309600 w 30924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Freeform 31"/>
            <p:cNvSpPr/>
            <p:nvPr/>
          </p:nvSpPr>
          <p:spPr>
            <a:xfrm>
              <a:off x="139320" y="149400"/>
              <a:ext cx="1108800" cy="1199880"/>
            </a:xfrm>
            <a:custGeom>
              <a:avLst/>
              <a:gdLst>
                <a:gd name="textAreaLeft" fmla="*/ 0 w 1108800"/>
                <a:gd name="textAreaRight" fmla="*/ 1109160 w 110880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32"/>
            <p:cNvSpPr/>
            <p:nvPr/>
          </p:nvSpPr>
          <p:spPr>
            <a:xfrm rot="828600">
              <a:off x="384840" y="5403600"/>
              <a:ext cx="209160" cy="2649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3"/>
            <p:cNvSpPr/>
            <p:nvPr/>
          </p:nvSpPr>
          <p:spPr>
            <a:xfrm rot="828600">
              <a:off x="423360" y="5702040"/>
              <a:ext cx="104400" cy="6804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4"/>
            <p:cNvSpPr/>
            <p:nvPr/>
          </p:nvSpPr>
          <p:spPr>
            <a:xfrm>
              <a:off x="18720" y="6524640"/>
              <a:ext cx="186840" cy="33192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5"/>
            <p:cNvSpPr/>
            <p:nvPr/>
          </p:nvSpPr>
          <p:spPr>
            <a:xfrm>
              <a:off x="1080" y="6299280"/>
              <a:ext cx="205920" cy="20304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6"/>
            <p:cNvSpPr/>
            <p:nvPr/>
          </p:nvSpPr>
          <p:spPr>
            <a:xfrm>
              <a:off x="1080" y="6269040"/>
              <a:ext cx="74160" cy="13644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7"/>
            <p:cNvSpPr/>
            <p:nvPr/>
          </p:nvSpPr>
          <p:spPr>
            <a:xfrm>
              <a:off x="1080" y="5141880"/>
              <a:ext cx="788400" cy="1174680"/>
            </a:xfrm>
            <a:custGeom>
              <a:avLst/>
              <a:gdLst>
                <a:gd name="textAreaLeft" fmla="*/ 0 w 788400"/>
                <a:gd name="textAreaRight" fmla="*/ 788760 w 78840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8"/>
            <p:cNvSpPr/>
            <p:nvPr/>
          </p:nvSpPr>
          <p:spPr>
            <a:xfrm rot="1584000">
              <a:off x="32400" y="650520"/>
              <a:ext cx="545760" cy="38880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9"/>
            <p:cNvSpPr/>
            <p:nvPr/>
          </p:nvSpPr>
          <p:spPr>
            <a:xfrm rot="1584000">
              <a:off x="384840" y="1200240"/>
              <a:ext cx="264960" cy="18252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40"/>
            <p:cNvSpPr/>
            <p:nvPr/>
          </p:nvSpPr>
          <p:spPr>
            <a:xfrm rot="1584000">
              <a:off x="911880" y="453960"/>
              <a:ext cx="232920" cy="25416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41"/>
            <p:cNvSpPr/>
            <p:nvPr/>
          </p:nvSpPr>
          <p:spPr>
            <a:xfrm rot="1584000">
              <a:off x="375480" y="1144440"/>
              <a:ext cx="97920" cy="15408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42"/>
            <p:cNvSpPr/>
            <p:nvPr/>
          </p:nvSpPr>
          <p:spPr>
            <a:xfrm rot="1584000">
              <a:off x="929160" y="739440"/>
              <a:ext cx="113760" cy="6516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43"/>
            <p:cNvSpPr/>
            <p:nvPr/>
          </p:nvSpPr>
          <p:spPr>
            <a:xfrm>
              <a:off x="1080" y="1406520"/>
              <a:ext cx="571320" cy="103176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44"/>
            <p:cNvSpPr/>
            <p:nvPr/>
          </p:nvSpPr>
          <p:spPr>
            <a:xfrm rot="1584000">
              <a:off x="89640" y="132840"/>
              <a:ext cx="1275480" cy="1089000"/>
            </a:xfrm>
            <a:custGeom>
              <a:avLst/>
              <a:gdLst>
                <a:gd name="textAreaLeft" fmla="*/ 0 w 1275480"/>
                <a:gd name="textAreaRight" fmla="*/ 1275840 w 127548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0169-21E4-45BC-B56F-525E5274106F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13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14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15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8789-9244-42E5-B334-2FB5B97CBB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Group 2"/>
          <p:cNvGrpSpPr/>
          <p:nvPr/>
        </p:nvGrpSpPr>
        <p:grpSpPr>
          <a:xfrm>
            <a:off x="-3236760" y="0"/>
            <a:ext cx="11923200" cy="3809880"/>
            <a:chOff x="-3236760" y="0"/>
            <a:chExt cx="11923200" cy="3809880"/>
          </a:xfrm>
        </p:grpSpPr>
        <p:sp>
          <p:nvSpPr>
            <p:cNvPr id="495" name="AutoShape 3"/>
            <p:cNvSpPr/>
            <p:nvPr/>
          </p:nvSpPr>
          <p:spPr>
            <a:xfrm>
              <a:off x="-3236760" y="685800"/>
              <a:ext cx="411408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AutoShape 4"/>
            <p:cNvSpPr/>
            <p:nvPr/>
          </p:nvSpPr>
          <p:spPr>
            <a:xfrm>
              <a:off x="-2423880" y="0"/>
              <a:ext cx="309312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5"/>
            <p:cNvSpPr/>
            <p:nvPr/>
          </p:nvSpPr>
          <p:spPr>
            <a:xfrm>
              <a:off x="1372680" y="1523880"/>
              <a:ext cx="7313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E29C-833A-4784-9F73-437EEE1886F5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>
              <a:gd name="textAreaLeft" fmla="*/ 0 w 4438440"/>
              <a:gd name="textAreaRight" fmla="*/ 4438800 w 4438440"/>
              <a:gd name="textAreaTop" fmla="*/ 0 h 4038840"/>
              <a:gd name="textAreaBottom" fmla="*/ 4039200 h 4038840"/>
            </a:gdLst>
            <a:ahLst/>
            <a:rect l="textAreaLeft" t="textAreaTop" r="textAreaRight" b="textAreaBottom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541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>
                <a:gd name="textAreaLeft" fmla="*/ 0 w 787680"/>
                <a:gd name="textAreaRight" fmla="*/ 788040 w 787680"/>
                <a:gd name="textAreaTop" fmla="*/ 0 h 300600"/>
                <a:gd name="textAreaBottom" fmla="*/ 300600 h 300600"/>
              </a:gdLst>
              <a:ahLst/>
              <a:rect l="textAreaLeft" t="textAreaTop" r="textAreaRight" b="textAreaBottom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>
                <a:gd name="textAreaLeft" fmla="*/ 0 w 4755960"/>
                <a:gd name="textAreaRight" fmla="*/ 4756320 w 4755960"/>
                <a:gd name="textAreaTop" fmla="*/ 0 h 4338360"/>
                <a:gd name="textAreaBottom" fmla="*/ 4338720 h 4338360"/>
              </a:gdLst>
              <a:ahLst/>
              <a:rect l="textAreaLeft" t="textAreaTop" r="textAreaRight" b="textAreaBottom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6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7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>
                <a:gd name="textAreaLeft" fmla="*/ 0 w 334080"/>
                <a:gd name="textAreaRight" fmla="*/ 334440 w 33408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8"/>
            <p:cNvSpPr/>
            <p:nvPr/>
          </p:nvSpPr>
          <p:spPr>
            <a:xfrm>
              <a:off x="5141160" y="1036080"/>
              <a:ext cx="1098000" cy="510840"/>
            </a:xfrm>
            <a:custGeom>
              <a:avLst/>
              <a:gdLst>
                <a:gd name="textAreaLeft" fmla="*/ 0 w 1098000"/>
                <a:gd name="textAreaRight" fmla="*/ 1098360 w 1098000"/>
                <a:gd name="textAreaTop" fmla="*/ 0 h 510840"/>
                <a:gd name="textAreaBottom" fmla="*/ 511200 h 510840"/>
              </a:gdLst>
              <a:ahLst/>
              <a:rect l="textAreaLeft" t="textAreaTop" r="textAreaRight" b="textAreaBottom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>
                <a:gd name="textAreaLeft" fmla="*/ 0 w 787680"/>
                <a:gd name="textAreaRight" fmla="*/ 788040 w 787680"/>
                <a:gd name="textAreaTop" fmla="*/ 0 h 827640"/>
                <a:gd name="textAreaBottom" fmla="*/ 828000 h 827640"/>
              </a:gdLst>
              <a:ahLst/>
              <a:rect l="textAreaLeft" t="textAreaTop" r="textAreaRight" b="textAreaBottom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0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>
                <a:gd name="textAreaLeft" fmla="*/ 0 w 805320"/>
                <a:gd name="textAreaRight" fmla="*/ 805680 w 80532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>
                <a:gd name="textAreaLeft" fmla="*/ 0 w 618840"/>
                <a:gd name="textAreaRight" fmla="*/ 619200 w 6188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2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>
                <a:gd name="textAreaLeft" fmla="*/ 0 w 667080"/>
                <a:gd name="textAreaRight" fmla="*/ 667440 w 66708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3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>
                <a:gd name="textAreaLeft" fmla="*/ 0 w 1122120"/>
                <a:gd name="textAreaRight" fmla="*/ 1122480 w 112212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4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>
                <a:gd name="textAreaLeft" fmla="*/ 0 w 911520"/>
                <a:gd name="textAreaRight" fmla="*/ 911880 w 91152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5"/>
            <p:cNvSpPr/>
            <p:nvPr/>
          </p:nvSpPr>
          <p:spPr>
            <a:xfrm>
              <a:off x="7986960" y="2661480"/>
              <a:ext cx="933840" cy="771480"/>
            </a:xfrm>
            <a:custGeom>
              <a:avLst/>
              <a:gdLst>
                <a:gd name="textAreaLeft" fmla="*/ 0 w 933840"/>
                <a:gd name="textAreaRight" fmla="*/ 934200 w 933840"/>
                <a:gd name="textAreaTop" fmla="*/ 0 h 771480"/>
                <a:gd name="textAreaBottom" fmla="*/ 771840 h 771480"/>
              </a:gdLst>
              <a:ahLst/>
              <a:rect l="textAreaLeft" t="textAreaTop" r="textAreaRight" b="textAreaBottom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6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>
                <a:gd name="textAreaLeft" fmla="*/ 0 w 528480"/>
                <a:gd name="textAreaRight" fmla="*/ 528840 w 528480"/>
                <a:gd name="textAreaTop" fmla="*/ 0 h 1372680"/>
                <a:gd name="textAreaBottom" fmla="*/ 1373040 h 1372680"/>
              </a:gdLst>
              <a:ahLst/>
              <a:rect l="textAreaLeft" t="textAreaTop" r="textAreaRight" b="textAreaBottom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555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9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21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22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4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5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28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1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3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4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6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7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40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43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45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46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48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49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52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55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57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58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60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61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64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67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69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70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72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73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76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79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81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82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84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85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88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91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93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94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96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97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00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03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05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106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108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09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12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115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117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118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20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121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24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27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29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30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32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33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36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139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41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142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144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145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48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151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53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54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56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7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60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62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701" name="Freeform 169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>
                <a:gd name="textAreaLeft" fmla="*/ 0 w 1685880"/>
                <a:gd name="textAreaRight" fmla="*/ 1686240 w 1685880"/>
                <a:gd name="textAreaTop" fmla="*/ 0 h 1549440"/>
                <a:gd name="textAreaBottom" fmla="*/ 1549800 h 15494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71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72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173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75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176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178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179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180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181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dt" idx="19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ftr" idx="20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EFEE-7429-442E-863B-728F9F9B67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756" name="Group 3"/>
            <p:cNvGrpSpPr/>
            <p:nvPr/>
          </p:nvGrpSpPr>
          <p:grpSpPr>
            <a:xfrm>
              <a:off x="5407920" y="63360"/>
              <a:ext cx="3623040" cy="6129000"/>
              <a:chOff x="5407920" y="63360"/>
              <a:chExt cx="3623040" cy="6129000"/>
            </a:xfrm>
          </p:grpSpPr>
          <p:sp>
            <p:nvSpPr>
              <p:cNvPr id="757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custGeom>
                <a:avLst/>
                <a:gdLst>
                  <a:gd name="textAreaLeft" fmla="*/ 0 w 2115360"/>
                  <a:gd name="textAreaRight" fmla="*/ 2115720 w 211536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5"/>
              <p:cNvSpPr/>
              <p:nvPr/>
            </p:nvSpPr>
            <p:spPr>
              <a:xfrm flipV="1" rot="11970000">
                <a:off x="7422120" y="1961640"/>
                <a:ext cx="905760" cy="843120"/>
              </a:xfrm>
              <a:custGeom>
                <a:avLst/>
                <a:gdLst>
                  <a:gd name="textAreaLeft" fmla="*/ 0 w 905760"/>
                  <a:gd name="textAreaRight" fmla="*/ 906120 w 905760"/>
                  <a:gd name="textAreaTop" fmla="*/ 360 h 843120"/>
                  <a:gd name="textAreaBottom" fmla="*/ 843840 h 84312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7"/>
              <p:cNvSpPr/>
              <p:nvPr/>
            </p:nvSpPr>
            <p:spPr>
              <a:xfrm flipV="1" rot="11970000">
                <a:off x="7251480" y="675720"/>
                <a:ext cx="388440" cy="550800"/>
              </a:xfrm>
              <a:custGeom>
                <a:avLst/>
                <a:gdLst>
                  <a:gd name="textAreaLeft" fmla="*/ 0 w 388440"/>
                  <a:gd name="textAreaRight" fmla="*/ 388800 w 38844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8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10"/>
              <p:cNvSpPr/>
              <p:nvPr/>
            </p:nvSpPr>
            <p:spPr>
              <a:xfrm flipV="1" rot="11970000">
                <a:off x="5938200" y="2930400"/>
                <a:ext cx="523440" cy="326808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360 h 3268080"/>
                  <a:gd name="textAreaBottom" fmla="*/ 3268800 h 326808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4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0" name="Group 17"/>
            <p:cNvGrpSpPr/>
            <p:nvPr/>
          </p:nvGrpSpPr>
          <p:grpSpPr>
            <a:xfrm>
              <a:off x="4147560" y="1031760"/>
              <a:ext cx="1016280" cy="1260720"/>
              <a:chOff x="4147560" y="1031760"/>
              <a:chExt cx="1016280" cy="1260720"/>
            </a:xfrm>
          </p:grpSpPr>
          <p:sp>
            <p:nvSpPr>
              <p:cNvPr id="771" name="Freeform 18"/>
              <p:cNvSpPr/>
              <p:nvPr/>
            </p:nvSpPr>
            <p:spPr>
              <a:xfrm rot="3220200">
                <a:off x="4562280" y="1069920"/>
                <a:ext cx="286920" cy="378720"/>
              </a:xfrm>
              <a:custGeom>
                <a:avLst/>
                <a:gdLst>
                  <a:gd name="textAreaLeft" fmla="*/ 0 w 286920"/>
                  <a:gd name="textAreaRight" fmla="*/ 287280 w 28692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19"/>
              <p:cNvSpPr/>
              <p:nvPr/>
            </p:nvSpPr>
            <p:spPr>
              <a:xfrm rot="3220200">
                <a:off x="4646520" y="1602000"/>
                <a:ext cx="489600" cy="316080"/>
              </a:xfrm>
              <a:custGeom>
                <a:avLst/>
                <a:gdLst>
                  <a:gd name="textAreaLeft" fmla="*/ 0 w 489600"/>
                  <a:gd name="textAreaRight" fmla="*/ 489960 w 489600"/>
                  <a:gd name="textAreaTop" fmla="*/ 0 h 316080"/>
                  <a:gd name="textAreaBottom" fmla="*/ 316440 h 3160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20"/>
              <p:cNvSpPr/>
              <p:nvPr/>
            </p:nvSpPr>
            <p:spPr>
              <a:xfrm rot="3220200">
                <a:off x="4107960" y="1959480"/>
                <a:ext cx="510120" cy="160200"/>
              </a:xfrm>
              <a:custGeom>
                <a:avLst/>
                <a:gdLst>
                  <a:gd name="textAreaLeft" fmla="*/ 0 w 510120"/>
                  <a:gd name="textAreaRight" fmla="*/ 510480 w 51012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Group 21"/>
            <p:cNvGrpSpPr/>
            <p:nvPr/>
          </p:nvGrpSpPr>
          <p:grpSpPr>
            <a:xfrm>
              <a:off x="5653800" y="294120"/>
              <a:ext cx="889920" cy="833040"/>
              <a:chOff x="5653800" y="294120"/>
              <a:chExt cx="889920" cy="833040"/>
            </a:xfrm>
          </p:grpSpPr>
          <p:sp>
            <p:nvSpPr>
              <p:cNvPr id="775" name="Freeform 22"/>
              <p:cNvSpPr/>
              <p:nvPr/>
            </p:nvSpPr>
            <p:spPr>
              <a:xfrm rot="14908200">
                <a:off x="5765400" y="796320"/>
                <a:ext cx="179280" cy="3618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23"/>
              <p:cNvSpPr/>
              <p:nvPr/>
            </p:nvSpPr>
            <p:spPr>
              <a:xfrm rot="14908200">
                <a:off x="5715000" y="475560"/>
                <a:ext cx="306360" cy="30204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302040"/>
                  <a:gd name="textAreaBottom" fmla="*/ 302400 h 3020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24"/>
              <p:cNvSpPr/>
              <p:nvPr/>
            </p:nvSpPr>
            <p:spPr>
              <a:xfrm rot="14908200">
                <a:off x="6254280" y="393840"/>
                <a:ext cx="319320" cy="1530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8" name="Group 25"/>
            <p:cNvGrpSpPr/>
            <p:nvPr/>
          </p:nvGrpSpPr>
          <p:grpSpPr>
            <a:xfrm>
              <a:off x="962280" y="5252760"/>
              <a:ext cx="1061280" cy="835560"/>
              <a:chOff x="962280" y="5252760"/>
              <a:chExt cx="1061280" cy="835560"/>
            </a:xfrm>
          </p:grpSpPr>
          <p:sp>
            <p:nvSpPr>
              <p:cNvPr id="779" name="Freeform 26"/>
              <p:cNvSpPr/>
              <p:nvPr/>
            </p:nvSpPr>
            <p:spPr>
              <a:xfrm rot="8524800">
                <a:off x="1705680" y="5522400"/>
                <a:ext cx="252000" cy="300240"/>
              </a:xfrm>
              <a:custGeom>
                <a:avLst/>
                <a:gdLst>
                  <a:gd name="textAreaLeft" fmla="*/ 0 w 252000"/>
                  <a:gd name="textAreaRight" fmla="*/ 252360 w 25200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27"/>
              <p:cNvSpPr/>
              <p:nvPr/>
            </p:nvSpPr>
            <p:spPr>
              <a:xfrm rot="8524800">
                <a:off x="1189080" y="5731920"/>
                <a:ext cx="430200" cy="250560"/>
              </a:xfrm>
              <a:custGeom>
                <a:avLst/>
                <a:gdLst>
                  <a:gd name="textAreaLeft" fmla="*/ 0 w 430200"/>
                  <a:gd name="textAreaRight" fmla="*/ 430560 w 430200"/>
                  <a:gd name="textAreaTop" fmla="*/ 0 h 250560"/>
                  <a:gd name="textAreaBottom" fmla="*/ 250920 h 2505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28"/>
              <p:cNvSpPr/>
              <p:nvPr/>
            </p:nvSpPr>
            <p:spPr>
              <a:xfrm rot="8524800">
                <a:off x="953640" y="5376960"/>
                <a:ext cx="448200" cy="126720"/>
              </a:xfrm>
              <a:custGeom>
                <a:avLst/>
                <a:gdLst>
                  <a:gd name="textAreaLeft" fmla="*/ 0 w 448200"/>
                  <a:gd name="textAreaRight" fmla="*/ 448560 w 44820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2" name="Group 29"/>
            <p:cNvGrpSpPr/>
            <p:nvPr/>
          </p:nvGrpSpPr>
          <p:grpSpPr>
            <a:xfrm>
              <a:off x="374760" y="450000"/>
              <a:ext cx="1689480" cy="1145880"/>
              <a:chOff x="374760" y="450000"/>
              <a:chExt cx="1689480" cy="1145880"/>
            </a:xfrm>
          </p:grpSpPr>
          <p:sp>
            <p:nvSpPr>
              <p:cNvPr id="783" name="Freeform 30"/>
              <p:cNvSpPr/>
              <p:nvPr/>
            </p:nvSpPr>
            <p:spPr>
              <a:xfrm flipH="1" rot="4107000">
                <a:off x="1572840" y="1067040"/>
                <a:ext cx="356760" cy="530640"/>
              </a:xfrm>
              <a:custGeom>
                <a:avLst/>
                <a:gdLst>
                  <a:gd name="textAreaLeft" fmla="*/ -360 w 356760"/>
                  <a:gd name="textAreaRight" fmla="*/ 356760 w 35676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31"/>
              <p:cNvSpPr/>
              <p:nvPr/>
            </p:nvSpPr>
            <p:spPr>
              <a:xfrm flipH="1" rot="4107000">
                <a:off x="1020240" y="592920"/>
                <a:ext cx="609120" cy="44316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3160"/>
                  <a:gd name="textAreaBottom" fmla="*/ 443520 h 4431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32"/>
              <p:cNvSpPr/>
              <p:nvPr/>
            </p:nvSpPr>
            <p:spPr>
              <a:xfrm flipH="1" rot="4107000">
                <a:off x="277560" y="1108080"/>
                <a:ext cx="635040" cy="224280"/>
              </a:xfrm>
              <a:custGeom>
                <a:avLst/>
                <a:gdLst>
                  <a:gd name="textAreaLeft" fmla="*/ 360 w 635040"/>
                  <a:gd name="textAreaRight" fmla="*/ 635760 w 63504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Group 33"/>
            <p:cNvGrpSpPr/>
            <p:nvPr/>
          </p:nvGrpSpPr>
          <p:grpSpPr>
            <a:xfrm>
              <a:off x="7377480" y="3712320"/>
              <a:ext cx="1155960" cy="1607760"/>
              <a:chOff x="7377480" y="3712320"/>
              <a:chExt cx="1155960" cy="1607760"/>
            </a:xfrm>
          </p:grpSpPr>
          <p:sp>
            <p:nvSpPr>
              <p:cNvPr id="787" name="Freeform 34"/>
              <p:cNvSpPr/>
              <p:nvPr/>
            </p:nvSpPr>
            <p:spPr>
              <a:xfrm flipH="1" rot="10015800">
                <a:off x="7432200" y="4755960"/>
                <a:ext cx="356760" cy="530640"/>
              </a:xfrm>
              <a:custGeom>
                <a:avLst/>
                <a:gdLst>
                  <a:gd name="textAreaLeft" fmla="*/ -360 w 356760"/>
                  <a:gd name="textAreaRight" fmla="*/ 356760 w 35676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35"/>
              <p:cNvSpPr/>
              <p:nvPr/>
            </p:nvSpPr>
            <p:spPr>
              <a:xfrm flipH="1" rot="10015800">
                <a:off x="7882200" y="4453560"/>
                <a:ext cx="609120" cy="44280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2800"/>
                  <a:gd name="textAreaBottom" fmla="*/ 443160 h 4428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36"/>
              <p:cNvSpPr/>
              <p:nvPr/>
            </p:nvSpPr>
            <p:spPr>
              <a:xfrm flipH="1" rot="10015800">
                <a:off x="7574760" y="3781080"/>
                <a:ext cx="635040" cy="224280"/>
              </a:xfrm>
              <a:custGeom>
                <a:avLst/>
                <a:gdLst>
                  <a:gd name="textAreaLeft" fmla="*/ 360 w 635040"/>
                  <a:gd name="textAreaRight" fmla="*/ 635760 w 63504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0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C984-E65C-4979-A204-38E8AD7145DB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 type="dt" idx="25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 type="ftr" idx="26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 type="sldNum" idx="27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8B8A-5F28-4B7F-94AC-D79B1EC6DA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260000" y="909360"/>
            <a:ext cx="607068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汽化和液化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--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液化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3071520" y="3142800"/>
            <a:ext cx="607212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  <a:ea typeface="方正大黑简体"/>
              </a:rPr>
              <a:t>Z  x x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492000" y="701280"/>
            <a:ext cx="55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572"/>
                </a:solidFill>
                <a:latin typeface="Arial"/>
                <a:ea typeface="华文行楷"/>
              </a:rPr>
              <a:t>物理与生活</a:t>
            </a:r>
            <a:endParaRPr b="0" lang="en-US" sz="6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504360" y="1197000"/>
            <a:ext cx="86043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eb985"/>
              </a:buClr>
              <a:buSzPct val="70000"/>
              <a:buFont typeface="Wing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冬天讲话的时候，会看到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白气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楷体_GB2312"/>
              </a:rPr>
              <a:t>”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eb985"/>
              </a:buClr>
              <a:buSzPct val="70000"/>
              <a:buFont typeface="Wing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戴眼镜的人从寒冷的室外走进温　　　</a:t>
            </a:r>
            <a:br>
              <a:rPr sz="4400"/>
            </a:br>
            <a:r>
              <a:rPr b="1" lang="zh-CN" sz="4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暖的房间，眼镜上会出现水雾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Text Box 2"/>
          <p:cNvSpPr/>
          <p:nvPr/>
        </p:nvSpPr>
        <p:spPr>
          <a:xfrm>
            <a:off x="466560" y="4067280"/>
            <a:ext cx="4105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a8200"/>
                </a:solidFill>
                <a:latin typeface="Arial"/>
                <a:ea typeface="华文新魏"/>
              </a:rPr>
              <a:t>     </a:t>
            </a:r>
            <a:r>
              <a:rPr b="1" lang="zh-CN" sz="4000" spc="-1" strike="noStrike">
                <a:solidFill>
                  <a:srgbClr val="da8200"/>
                </a:solidFill>
                <a:latin typeface="Arial"/>
                <a:ea typeface="华文新魏"/>
              </a:rPr>
              <a:t>想一想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还有其他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法能使气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液化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3"/>
          <p:cNvSpPr/>
          <p:nvPr/>
        </p:nvSpPr>
        <p:spPr>
          <a:xfrm>
            <a:off x="3979800" y="7650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2610"/>
                </a:solidFill>
                <a:latin typeface="Arial"/>
                <a:ea typeface="华文隶书"/>
              </a:rPr>
              <a:t>乙醚的液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4"/>
          <p:cNvSpPr/>
          <p:nvPr/>
        </p:nvSpPr>
        <p:spPr>
          <a:xfrm>
            <a:off x="2124000" y="1989000"/>
            <a:ext cx="61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c2610"/>
                </a:solidFill>
                <a:latin typeface="Arial"/>
                <a:ea typeface="华文行楷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压缩体积可以使气体液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Text Box 2"/>
          <p:cNvSpPr/>
          <p:nvPr/>
        </p:nvSpPr>
        <p:spPr>
          <a:xfrm>
            <a:off x="3108240" y="139392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cc00"/>
                </a:solidFill>
                <a:latin typeface="Arial"/>
                <a:ea typeface="华文行楷"/>
              </a:rPr>
              <a:t>联系生活举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3"/>
          <p:cNvSpPr/>
          <p:nvPr/>
        </p:nvSpPr>
        <p:spPr>
          <a:xfrm>
            <a:off x="2954160" y="2511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液化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4"/>
          <p:cNvSpPr/>
          <p:nvPr/>
        </p:nvSpPr>
        <p:spPr>
          <a:xfrm>
            <a:off x="3078360" y="32846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气体打火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5"/>
          <p:cNvSpPr/>
          <p:nvPr/>
        </p:nvSpPr>
        <p:spPr>
          <a:xfrm>
            <a:off x="2889360" y="4076640"/>
            <a:ext cx="3072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火箭中的液态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 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液态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Text Box 2"/>
          <p:cNvSpPr/>
          <p:nvPr/>
        </p:nvSpPr>
        <p:spPr>
          <a:xfrm>
            <a:off x="2830680" y="50976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cc00"/>
                </a:solidFill>
                <a:latin typeface="Arial"/>
                <a:ea typeface="华文隶书"/>
              </a:rPr>
              <a:t>今天我们有什么收获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3"/>
          <p:cNvSpPr/>
          <p:nvPr/>
        </p:nvSpPr>
        <p:spPr>
          <a:xfrm>
            <a:off x="4370040" y="1628640"/>
            <a:ext cx="107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液化：物质由气态变为液态的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4"/>
          <p:cNvSpPr/>
          <p:nvPr/>
        </p:nvSpPr>
        <p:spPr>
          <a:xfrm>
            <a:off x="2310480" y="2492280"/>
            <a:ext cx="107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液化过程要放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5"/>
          <p:cNvSpPr/>
          <p:nvPr/>
        </p:nvSpPr>
        <p:spPr>
          <a:xfrm>
            <a:off x="2179800" y="3448080"/>
            <a:ext cx="82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液化的两种方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AutoShape 6"/>
          <p:cNvSpPr/>
          <p:nvPr/>
        </p:nvSpPr>
        <p:spPr>
          <a:xfrm>
            <a:off x="5076720" y="3141720"/>
            <a:ext cx="287280" cy="1369800"/>
          </a:xfrm>
          <a:custGeom>
            <a:avLst/>
            <a:gdLst>
              <a:gd name="textAreaLeft" fmla="*/ 183600 w 287280"/>
              <a:gd name="textAreaRight" fmla="*/ 287640 w 287280"/>
              <a:gd name="textAreaTop" fmla="*/ 38880 h 1369800"/>
              <a:gd name="textAreaBottom" fmla="*/ 1330920 h 136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0"/>
                  <a:pt x="10800" y="1960"/>
                </a:cubicBezTo>
                <a:lnTo>
                  <a:pt x="10800" y="8850"/>
                </a:lnTo>
                <a:cubicBezTo>
                  <a:pt x="10800" y="9830"/>
                  <a:pt x="5400" y="10810"/>
                  <a:pt x="0" y="10810"/>
                </a:cubicBezTo>
                <a:cubicBezTo>
                  <a:pt x="5400" y="10810"/>
                  <a:pt x="10800" y="11790"/>
                  <a:pt x="10800" y="12770"/>
                </a:cubicBezTo>
                <a:lnTo>
                  <a:pt x="10800" y="19640"/>
                </a:lnTo>
                <a:cubicBezTo>
                  <a:pt x="10800" y="2062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38160">
            <a:solidFill>
              <a:srgbClr val="fc26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7"/>
          <p:cNvSpPr/>
          <p:nvPr/>
        </p:nvSpPr>
        <p:spPr>
          <a:xfrm>
            <a:off x="6203880" y="3068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隶书"/>
              </a:rPr>
              <a:t>降低温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8"/>
          <p:cNvSpPr/>
          <p:nvPr/>
        </p:nvSpPr>
        <p:spPr>
          <a:xfrm>
            <a:off x="6203880" y="39337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隶书"/>
              </a:rPr>
              <a:t>压缩体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7" dur="500"/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9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 Box 2"/>
          <p:cNvSpPr/>
          <p:nvPr/>
        </p:nvSpPr>
        <p:spPr>
          <a:xfrm>
            <a:off x="2050920" y="2924280"/>
            <a:ext cx="62661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华文行楷"/>
                <a:ea typeface="华文行楷"/>
              </a:rPr>
              <a:t>我行</a:t>
            </a:r>
            <a:r>
              <a:rPr b="1" lang="en-US" sz="6600" spc="-1" strike="noStrike">
                <a:solidFill>
                  <a:srgbClr val="0000ff"/>
                </a:solidFill>
                <a:latin typeface="华文行楷"/>
                <a:ea typeface="华文行楷"/>
              </a:rPr>
              <a:t>!</a:t>
            </a:r>
            <a:r>
              <a:rPr b="1" lang="zh-CN" sz="6600" spc="-1" strike="noStrike">
                <a:solidFill>
                  <a:srgbClr val="0000ff"/>
                </a:solidFill>
                <a:latin typeface="华文行楷"/>
                <a:ea typeface="华文行楷"/>
              </a:rPr>
              <a:t>我可以</a:t>
            </a:r>
            <a:r>
              <a:rPr b="1" lang="en-US" sz="6600" spc="-1" strike="noStrike">
                <a:solidFill>
                  <a:srgbClr val="0000ff"/>
                </a:solidFill>
                <a:latin typeface="华文行楷"/>
                <a:ea typeface="华文行楷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/>
          </p:nvPr>
        </p:nvSpPr>
        <p:spPr>
          <a:xfrm>
            <a:off x="1258920" y="1196640"/>
            <a:ext cx="64800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</a:t>
            </a:r>
            <a:r>
              <a:rPr b="1" lang="zh-CN" sz="4100" spc="-1" strike="noStrike">
                <a:solidFill>
                  <a:srgbClr val="0000ff"/>
                </a:solidFill>
                <a:latin typeface="华文新魏"/>
                <a:ea typeface="华文新魏"/>
              </a:rPr>
              <a:t>被水蒸气烫伤比被开水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ff"/>
                </a:solidFill>
                <a:latin typeface="华文新魏"/>
                <a:ea typeface="华文新魏"/>
              </a:rPr>
              <a:t>烫伤更严重</a:t>
            </a:r>
            <a:r>
              <a:rPr b="1" lang="en-US" sz="4100" spc="-1" strike="noStrike">
                <a:solidFill>
                  <a:srgbClr val="0000ff"/>
                </a:solidFill>
                <a:latin typeface="华文新魏"/>
                <a:ea typeface="华文新魏"/>
              </a:rPr>
              <a:t>!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Verdana"/>
                <a:ea typeface="华文楷体"/>
              </a:rPr>
              <a:t>　　现在你知道原因了吗？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Rectangle 3"/>
          <p:cNvSpPr/>
          <p:nvPr/>
        </p:nvSpPr>
        <p:spPr>
          <a:xfrm>
            <a:off x="1042920" y="342900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这不只是因为水蒸气的温度高，还因为水蒸气液化时要放出大量的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9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Text Box 2"/>
          <p:cNvSpPr/>
          <p:nvPr/>
        </p:nvSpPr>
        <p:spPr>
          <a:xfrm>
            <a:off x="1476360" y="1052640"/>
            <a:ext cx="6337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下列生活中的现象属于液化过程的是（　　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　</a:t>
            </a:r>
            <a:r>
              <a:rPr b="1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A.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冰雪消融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　</a:t>
            </a:r>
            <a:r>
              <a:rPr b="1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B.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云开雾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　</a:t>
            </a:r>
            <a:r>
              <a:rPr b="1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C.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嘴里呵出白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　</a:t>
            </a:r>
            <a:r>
              <a:rPr b="1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D.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地上的水变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3"/>
          <p:cNvSpPr/>
          <p:nvPr/>
        </p:nvSpPr>
        <p:spPr>
          <a:xfrm>
            <a:off x="6156360" y="162864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Comic Sans MS"/>
                <a:ea typeface="华文隶书"/>
              </a:rPr>
              <a:t>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/>
          </p:nvPr>
        </p:nvSpPr>
        <p:spPr>
          <a:xfrm>
            <a:off x="1260360" y="836640"/>
            <a:ext cx="6912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楷体"/>
                <a:ea typeface="华文楷体"/>
              </a:rPr>
              <a:t>在卫生间洗过热水澡以后，室内玻璃面变的模糊不清，过一段时间后镜面又变得清晰起来，发生在镜面上的两种物态变化是（　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　</a:t>
            </a:r>
            <a:r>
              <a:rPr b="1" lang="en-US" sz="4000" spc="-1" strike="noStrike">
                <a:solidFill>
                  <a:srgbClr val="0000ff"/>
                </a:solidFill>
                <a:latin typeface="华文楷体"/>
                <a:ea typeface="华文楷体"/>
              </a:rPr>
              <a:t>A</a:t>
            </a:r>
            <a:r>
              <a:rPr b="1" lang="zh-CN" sz="40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先汽化</a:t>
            </a:r>
            <a:r>
              <a:rPr b="1" lang="en-US" sz="4000" spc="-1" strike="noStrike">
                <a:solidFill>
                  <a:srgbClr val="0000ff"/>
                </a:solidFill>
                <a:latin typeface="华文楷体"/>
                <a:ea typeface="华文楷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华文楷体"/>
                <a:ea typeface="华文楷体"/>
              </a:rPr>
              <a:t>后液化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　</a:t>
            </a:r>
            <a:r>
              <a:rPr b="1" lang="en-US" sz="4000" spc="-1" strike="noStrike">
                <a:solidFill>
                  <a:srgbClr val="0000ff"/>
                </a:solidFill>
                <a:latin typeface="华文楷体"/>
                <a:ea typeface="华文楷体"/>
              </a:rPr>
              <a:t>B</a:t>
            </a:r>
            <a:r>
              <a:rPr b="1" lang="zh-CN" sz="40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只有液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　</a:t>
            </a:r>
            <a:r>
              <a:rPr b="1" lang="en-US" sz="4000" spc="-1" strike="noStrike">
                <a:solidFill>
                  <a:srgbClr val="0000ff"/>
                </a:solidFill>
                <a:latin typeface="华文楷体"/>
                <a:ea typeface="华文楷体"/>
              </a:rPr>
              <a:t>C</a:t>
            </a:r>
            <a:r>
              <a:rPr b="1" lang="zh-CN" sz="40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先液化</a:t>
            </a:r>
            <a:r>
              <a:rPr b="1" lang="en-US" sz="4000" spc="-1" strike="noStrike">
                <a:solidFill>
                  <a:srgbClr val="0000ff"/>
                </a:solidFill>
                <a:latin typeface="华文楷体"/>
                <a:ea typeface="华文楷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华文楷体"/>
                <a:ea typeface="华文楷体"/>
              </a:rPr>
              <a:t>后汽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　</a:t>
            </a:r>
            <a:r>
              <a:rPr b="1" lang="en-US" sz="4000" spc="-1" strike="noStrike">
                <a:solidFill>
                  <a:srgbClr val="0000ff"/>
                </a:solidFill>
                <a:latin typeface="华文楷体"/>
                <a:ea typeface="华文楷体"/>
              </a:rPr>
              <a:t>D</a:t>
            </a:r>
            <a:r>
              <a:rPr b="1" lang="zh-CN" sz="40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只有汽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3"/>
          <p:cNvSpPr/>
          <p:nvPr/>
        </p:nvSpPr>
        <p:spPr>
          <a:xfrm>
            <a:off x="6156360" y="278280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Comic Sans MS"/>
                <a:ea typeface="华文隶书"/>
              </a:rPr>
              <a:t>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900" fill="hold"/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9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9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900" fill="hold"/>
                                        <p:tgtEl>
                                          <p:spTgt spid="9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900" fill="hold"/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9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9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900" fill="hold"/>
                                        <p:tgtEl>
                                          <p:spTgt spid="9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9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9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900" fill="hold"/>
                                        <p:tgtEl>
                                          <p:spTgt spid="9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Text Box 2"/>
          <p:cNvSpPr/>
          <p:nvPr/>
        </p:nvSpPr>
        <p:spPr>
          <a:xfrm>
            <a:off x="1042920" y="1413000"/>
            <a:ext cx="68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　　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夏天</a:t>
            </a:r>
            <a:r>
              <a:rPr b="1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人从有空调的室内出来后</a:t>
            </a:r>
            <a:r>
              <a:rPr b="1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有一种湿漉漉的感觉</a:t>
            </a:r>
            <a:r>
              <a:rPr b="1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而且非常的热</a:t>
            </a:r>
            <a:r>
              <a:rPr b="1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这是为什么</a:t>
            </a:r>
            <a:r>
              <a:rPr b="1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/>
          </p:nvPr>
        </p:nvSpPr>
        <p:spPr>
          <a:xfrm>
            <a:off x="826920" y="764640"/>
            <a:ext cx="72741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调车里的温度比较低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的皮肤的温度也低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来后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外界的温度较高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样空气中的水蒸气在皮肤上发生液化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液化时要放热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时液化的水分阻止人体汗液的蒸发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样人就感到很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WordArt 2" descr=""/>
          <p:cNvPicPr/>
          <p:nvPr/>
        </p:nvPicPr>
        <p:blipFill>
          <a:blip r:embed="rId1"/>
          <a:stretch/>
        </p:blipFill>
        <p:spPr>
          <a:xfrm>
            <a:off x="1395360" y="2341440"/>
            <a:ext cx="6469200" cy="217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WordArt 2"/>
          <p:cNvSpPr txBox="1"/>
          <p:nvPr/>
        </p:nvSpPr>
        <p:spPr>
          <a:xfrm>
            <a:off x="468360" y="549360"/>
            <a:ext cx="54720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华文隶书"/>
              </a:rPr>
              <a:t>Thank you !</a:t>
            </a:r>
            <a:endParaRPr b="1" lang="en-US" sz="8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华文隶书"/>
              <a:ea typeface="华文隶书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/>
          </p:nvPr>
        </p:nvSpPr>
        <p:spPr>
          <a:xfrm>
            <a:off x="1834920" y="1844280"/>
            <a:ext cx="1547640" cy="252108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 fontScale="71000"/>
          </a:bodyPr>
          <a:p>
            <a:pPr marL="24336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Arial"/>
                <a:ea typeface="华文行楷"/>
              </a:rPr>
              <a:t>汽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AutoShape 3"/>
          <p:cNvSpPr/>
          <p:nvPr/>
        </p:nvSpPr>
        <p:spPr>
          <a:xfrm>
            <a:off x="3132000" y="1916280"/>
            <a:ext cx="216000" cy="2447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167400 h 2447640"/>
              <a:gd name="textAreaBottom" fmla="*/ 2280240 h 24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61"/>
                  <a:pt x="10800" y="4721"/>
                </a:cubicBezTo>
                <a:lnTo>
                  <a:pt x="10800" y="5287"/>
                </a:lnTo>
                <a:cubicBezTo>
                  <a:pt x="10800" y="7648"/>
                  <a:pt x="5400" y="10008"/>
                  <a:pt x="0" y="10008"/>
                </a:cubicBezTo>
                <a:cubicBezTo>
                  <a:pt x="5400" y="10008"/>
                  <a:pt x="10800" y="12369"/>
                  <a:pt x="10800" y="14729"/>
                </a:cubicBezTo>
                <a:lnTo>
                  <a:pt x="10800" y="16879"/>
                </a:lnTo>
                <a:cubicBezTo>
                  <a:pt x="10800" y="1924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4"/>
          <p:cNvSpPr/>
          <p:nvPr/>
        </p:nvSpPr>
        <p:spPr>
          <a:xfrm>
            <a:off x="3276720" y="1700280"/>
            <a:ext cx="280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两种方式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5"/>
          <p:cNvSpPr/>
          <p:nvPr/>
        </p:nvSpPr>
        <p:spPr>
          <a:xfrm>
            <a:off x="3313080" y="3573360"/>
            <a:ext cx="543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汽化的过程要　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6"/>
          <p:cNvSpPr/>
          <p:nvPr/>
        </p:nvSpPr>
        <p:spPr>
          <a:xfrm>
            <a:off x="6227640" y="1309680"/>
            <a:ext cx="17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5d5ab"/>
                </a:solidFill>
                <a:latin typeface="Arial"/>
                <a:ea typeface="楷体_GB2312"/>
              </a:rPr>
              <a:t>蒸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7"/>
          <p:cNvSpPr/>
          <p:nvPr/>
        </p:nvSpPr>
        <p:spPr>
          <a:xfrm>
            <a:off x="6227640" y="2205000"/>
            <a:ext cx="17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5d5ab"/>
                </a:solidFill>
                <a:latin typeface="Arial"/>
                <a:ea typeface="楷体_GB2312"/>
              </a:rPr>
              <a:t>沸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8"/>
          <p:cNvSpPr/>
          <p:nvPr/>
        </p:nvSpPr>
        <p:spPr>
          <a:xfrm>
            <a:off x="6948360" y="3522600"/>
            <a:ext cx="8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25d5ab"/>
                </a:solidFill>
                <a:latin typeface="Arial"/>
                <a:ea typeface="楷体_GB2312"/>
              </a:rPr>
              <a:t>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AutoShape 9"/>
          <p:cNvSpPr/>
          <p:nvPr/>
        </p:nvSpPr>
        <p:spPr>
          <a:xfrm>
            <a:off x="5867280" y="155736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5440 h 1224000"/>
              <a:gd name="textAreaBottom" fmla="*/ 116856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69"/>
                  <a:pt x="10800" y="3138"/>
                </a:cubicBezTo>
                <a:lnTo>
                  <a:pt x="10800" y="7662"/>
                </a:lnTo>
                <a:cubicBezTo>
                  <a:pt x="10800" y="9231"/>
                  <a:pt x="5400" y="10800"/>
                  <a:pt x="0" y="10800"/>
                </a:cubicBezTo>
                <a:cubicBezTo>
                  <a:pt x="5400" y="10800"/>
                  <a:pt x="10800" y="12369"/>
                  <a:pt x="10800" y="13938"/>
                </a:cubicBezTo>
                <a:lnTo>
                  <a:pt x="10800" y="18462"/>
                </a:lnTo>
                <a:cubicBezTo>
                  <a:pt x="10800" y="2003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AutoShape 10"/>
          <p:cNvSpPr/>
          <p:nvPr/>
        </p:nvSpPr>
        <p:spPr>
          <a:xfrm>
            <a:off x="324000" y="142920"/>
            <a:ext cx="8496000" cy="1125360"/>
          </a:xfrm>
          <a:prstGeom prst="wedgeEllipseCallout">
            <a:avLst>
              <a:gd name="adj1" fmla="val -27800"/>
              <a:gd name="adj2" fmla="val 67064"/>
            </a:avLst>
          </a:prstGeom>
          <a:solidFill>
            <a:srgbClr val="53e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温故而知新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华文行楷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不亦乐乎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AutoShape 2"/>
          <p:cNvSpPr/>
          <p:nvPr/>
        </p:nvSpPr>
        <p:spPr>
          <a:xfrm>
            <a:off x="2771640" y="1844640"/>
            <a:ext cx="1871640" cy="144360"/>
          </a:xfrm>
          <a:prstGeom prst="rightArrow">
            <a:avLst>
              <a:gd name="adj1" fmla="val 50000"/>
              <a:gd name="adj2" fmla="val 324127"/>
            </a:avLst>
          </a:prstGeom>
          <a:solidFill>
            <a:srgbClr val="d7f6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3"/>
          <p:cNvSpPr/>
          <p:nvPr/>
        </p:nvSpPr>
        <p:spPr>
          <a:xfrm>
            <a:off x="1547640" y="1574640"/>
            <a:ext cx="129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液体　　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WordArt 4"/>
          <p:cNvSpPr txBox="1"/>
          <p:nvPr/>
        </p:nvSpPr>
        <p:spPr>
          <a:xfrm>
            <a:off x="611280" y="260280"/>
            <a:ext cx="6049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我是小小科学家</a:t>
            </a:r>
            <a:endParaRPr b="1" lang="en-US" sz="4800" spc="1" strike="noStrike">
              <a:ln w="19080">
                <a:solidFill>
                  <a:srgbClr val="ffffff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39" name="Text Box 5"/>
          <p:cNvSpPr/>
          <p:nvPr/>
        </p:nvSpPr>
        <p:spPr>
          <a:xfrm>
            <a:off x="1892880" y="34290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提出问题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楷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气体能否变成液体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6"/>
          <p:cNvSpPr/>
          <p:nvPr/>
        </p:nvSpPr>
        <p:spPr>
          <a:xfrm>
            <a:off x="1783080" y="436572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作出猜想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楷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气体能变成液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7"/>
          <p:cNvSpPr/>
          <p:nvPr/>
        </p:nvSpPr>
        <p:spPr>
          <a:xfrm>
            <a:off x="1397520" y="53737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设计实验方案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楷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WordArt 8"/>
          <p:cNvSpPr txBox="1"/>
          <p:nvPr/>
        </p:nvSpPr>
        <p:spPr>
          <a:xfrm>
            <a:off x="3994200" y="5373720"/>
            <a:ext cx="3817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solidFill>
                    <a:srgbClr val="000000"/>
                  </a:solidFill>
                </a:ln>
                <a:solidFill>
                  <a:srgbClr val="000000"/>
                </a:solidFill>
                <a:latin typeface="宋体"/>
              </a:rPr>
              <a:t>说出你的想法吧！</a:t>
            </a:r>
            <a:endParaRPr b="0" lang="en-US" sz="1800" spc="1" strike="noStrike">
              <a:ln w="0">
                <a:solidFill>
                  <a:srgbClr val="000000"/>
                </a:solidFill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43" name="AutoShape 9"/>
          <p:cNvSpPr/>
          <p:nvPr/>
        </p:nvSpPr>
        <p:spPr>
          <a:xfrm>
            <a:off x="5940360" y="1844640"/>
            <a:ext cx="2592360" cy="1008000"/>
          </a:xfrm>
          <a:prstGeom prst="wedgeEllipseCallout">
            <a:avLst>
              <a:gd name="adj1" fmla="val -62675"/>
              <a:gd name="adj2" fmla="val -44643"/>
            </a:avLst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反过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想一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10"/>
          <p:cNvSpPr/>
          <p:nvPr/>
        </p:nvSpPr>
        <p:spPr>
          <a:xfrm>
            <a:off x="755640" y="258300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你可以提出什么问题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AutoShape 11"/>
          <p:cNvSpPr/>
          <p:nvPr/>
        </p:nvSpPr>
        <p:spPr>
          <a:xfrm>
            <a:off x="2484360" y="1411200"/>
            <a:ext cx="2665440" cy="865440"/>
          </a:xfrm>
          <a:prstGeom prst="irregularSeal2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吸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12"/>
          <p:cNvSpPr/>
          <p:nvPr/>
        </p:nvSpPr>
        <p:spPr>
          <a:xfrm>
            <a:off x="4572000" y="155736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气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矩形 12"/>
          <p:cNvSpPr/>
          <p:nvPr/>
        </p:nvSpPr>
        <p:spPr>
          <a:xfrm>
            <a:off x="4124520" y="3244680"/>
            <a:ext cx="49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  <a:ea typeface="方正大黑简体"/>
              </a:rPr>
              <a:t>Z  x x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Text Box 2"/>
          <p:cNvSpPr/>
          <p:nvPr/>
        </p:nvSpPr>
        <p:spPr>
          <a:xfrm>
            <a:off x="2195640" y="3789360"/>
            <a:ext cx="60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　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该实验经历了怎样的物态变化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3"/>
          <p:cNvSpPr/>
          <p:nvPr/>
        </p:nvSpPr>
        <p:spPr>
          <a:xfrm>
            <a:off x="395280" y="620640"/>
            <a:ext cx="66247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     </a:t>
            </a: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用嘴对准自己的双手呵气几秒钟后手有何感觉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500"/>
                                        <p:tgtEl>
                                          <p:spTgt spid="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WordArt 2"/>
          <p:cNvSpPr txBox="1"/>
          <p:nvPr/>
        </p:nvSpPr>
        <p:spPr>
          <a:xfrm>
            <a:off x="1547640" y="115920"/>
            <a:ext cx="360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动手做一做：</a:t>
            </a:r>
            <a:endParaRPr b="1" lang="en-US" sz="4800" spc="1" strike="noStrike">
              <a:ln w="1908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951" name="Text Box 3"/>
          <p:cNvSpPr/>
          <p:nvPr/>
        </p:nvSpPr>
        <p:spPr>
          <a:xfrm>
            <a:off x="324000" y="808200"/>
            <a:ext cx="849600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往烧瓶中放入少量纯酒精，用橡皮筋将塑料袋在瓶口扎好，烧瓶在酒精灯上微微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加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直至液态酒精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消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再把烧瓶放在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冷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中一小段时间，发现烧瓶中液态酒精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出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4"/>
          <p:cNvSpPr/>
          <p:nvPr/>
        </p:nvSpPr>
        <p:spPr>
          <a:xfrm>
            <a:off x="468360" y="321300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华文楷体"/>
                <a:ea typeface="华文楷体"/>
              </a:rPr>
              <a:t>(1)</a:t>
            </a:r>
            <a:r>
              <a:rPr b="1" lang="zh-CN" sz="3600" spc="-1" strike="noStrike">
                <a:solidFill>
                  <a:srgbClr val="669900"/>
                </a:solidFill>
                <a:latin typeface="华文楷体"/>
                <a:ea typeface="华文楷体"/>
              </a:rPr>
              <a:t>加热后液态酒精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消失</a:t>
            </a:r>
            <a:r>
              <a:rPr b="1" lang="en-US" sz="3600" spc="-1" strike="noStrike">
                <a:solidFill>
                  <a:srgbClr val="669900"/>
                </a:solidFill>
                <a:latin typeface="华文楷体"/>
                <a:ea typeface="华文楷体"/>
              </a:rPr>
              <a:t>,</a:t>
            </a:r>
            <a:r>
              <a:rPr b="1" lang="zh-CN" sz="3600" spc="-1" strike="noStrike">
                <a:solidFill>
                  <a:srgbClr val="669900"/>
                </a:solidFill>
                <a:latin typeface="华文楷体"/>
                <a:ea typeface="华文楷体"/>
              </a:rPr>
              <a:t>发生了怎样的  </a:t>
            </a:r>
            <a:br>
              <a:rPr sz="3600"/>
            </a:br>
            <a:r>
              <a:rPr b="1" lang="zh-CN" sz="3600" spc="-1" strike="noStrike">
                <a:solidFill>
                  <a:srgbClr val="669900"/>
                </a:solidFill>
                <a:latin typeface="华文楷体"/>
                <a:ea typeface="华文楷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物态变化</a:t>
            </a:r>
            <a:r>
              <a:rPr b="1" lang="zh-CN" sz="3600" spc="-1" strike="noStrike">
                <a:solidFill>
                  <a:srgbClr val="669900"/>
                </a:solidFill>
                <a:latin typeface="华文楷体"/>
                <a:ea typeface="华文楷体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5"/>
          <p:cNvSpPr/>
          <p:nvPr/>
        </p:nvSpPr>
        <p:spPr>
          <a:xfrm>
            <a:off x="468360" y="4325760"/>
            <a:ext cx="92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华文楷体"/>
                <a:ea typeface="华文楷体"/>
              </a:rPr>
              <a:t>(2)</a:t>
            </a:r>
            <a:r>
              <a:rPr b="1" lang="zh-CN" sz="3600" spc="-1" strike="noStrike">
                <a:solidFill>
                  <a:srgbClr val="669900"/>
                </a:solidFill>
                <a:latin typeface="华文楷体"/>
                <a:ea typeface="华文楷体"/>
              </a:rPr>
              <a:t>烧瓶中又出现液态酒精</a:t>
            </a:r>
            <a:r>
              <a:rPr b="1" lang="en-US" sz="3600" spc="-1" strike="noStrike">
                <a:solidFill>
                  <a:srgbClr val="669900"/>
                </a:solidFill>
                <a:latin typeface="华文楷体"/>
                <a:ea typeface="华文楷体"/>
              </a:rPr>
              <a:t>, </a:t>
            </a:r>
            <a:r>
              <a:rPr b="1" lang="zh-CN" sz="3600" spc="-1" strike="noStrike">
                <a:solidFill>
                  <a:srgbClr val="669900"/>
                </a:solidFill>
                <a:latin typeface="华文楷体"/>
                <a:ea typeface="华文楷体"/>
              </a:rPr>
              <a:t>发生了怎样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9900"/>
                </a:solidFill>
                <a:latin typeface="华文楷体"/>
                <a:ea typeface="华文楷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物态变化</a:t>
            </a:r>
            <a:r>
              <a:rPr b="1" lang="zh-CN" sz="3600" spc="-1" strike="noStrike">
                <a:solidFill>
                  <a:srgbClr val="669900"/>
                </a:solidFill>
                <a:latin typeface="华文楷体"/>
                <a:ea typeface="华文楷体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6"/>
          <p:cNvSpPr/>
          <p:nvPr/>
        </p:nvSpPr>
        <p:spPr>
          <a:xfrm>
            <a:off x="504720" y="5373720"/>
            <a:ext cx="961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华文楷体"/>
                <a:ea typeface="华文楷体"/>
              </a:rPr>
              <a:t>(3)</a:t>
            </a:r>
            <a:r>
              <a:rPr b="1" lang="zh-CN" sz="3600" spc="-1" strike="noStrike">
                <a:solidFill>
                  <a:srgbClr val="669900"/>
                </a:solidFill>
                <a:latin typeface="华文楷体"/>
                <a:ea typeface="华文楷体"/>
              </a:rPr>
              <a:t>实验说明了气体在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什么情况</a:t>
            </a:r>
            <a:r>
              <a:rPr b="1" lang="zh-CN" sz="3600" spc="-1" strike="noStrike">
                <a:solidFill>
                  <a:srgbClr val="669900"/>
                </a:solidFill>
                <a:latin typeface="华文楷体"/>
                <a:ea typeface="华文楷体"/>
              </a:rPr>
              <a:t>下能发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9900"/>
                </a:solidFill>
                <a:latin typeface="华文楷体"/>
                <a:ea typeface="华文楷体"/>
              </a:rPr>
              <a:t>   </a:t>
            </a:r>
            <a:r>
              <a:rPr b="1" lang="zh-CN" sz="3600" spc="-1" strike="noStrike">
                <a:solidFill>
                  <a:srgbClr val="669900"/>
                </a:solidFill>
                <a:latin typeface="华文楷体"/>
                <a:ea typeface="华文楷体"/>
              </a:rPr>
              <a:t>物态变化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9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9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Text Box 2"/>
          <p:cNvSpPr/>
          <p:nvPr/>
        </p:nvSpPr>
        <p:spPr>
          <a:xfrm>
            <a:off x="755640" y="1190520"/>
            <a:ext cx="72723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（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实验中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瓶口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____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白雾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蒸发皿部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  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3"/>
          <p:cNvSpPr/>
          <p:nvPr/>
        </p:nvSpPr>
        <p:spPr>
          <a:xfrm>
            <a:off x="611280" y="2525760"/>
            <a:ext cx="834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（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实验中，瓶口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雾，蒸发皿底部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4"/>
          <p:cNvSpPr/>
          <p:nvPr/>
        </p:nvSpPr>
        <p:spPr>
          <a:xfrm>
            <a:off x="5661000" y="1187280"/>
            <a:ext cx="135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出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5"/>
          <p:cNvSpPr/>
          <p:nvPr/>
        </p:nvSpPr>
        <p:spPr>
          <a:xfrm>
            <a:off x="2627280" y="1838160"/>
            <a:ext cx="28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有水珠出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6"/>
          <p:cNvSpPr/>
          <p:nvPr/>
        </p:nvSpPr>
        <p:spPr>
          <a:xfrm>
            <a:off x="6159600" y="2525760"/>
            <a:ext cx="143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没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7"/>
          <p:cNvSpPr/>
          <p:nvPr/>
        </p:nvSpPr>
        <p:spPr>
          <a:xfrm>
            <a:off x="4456080" y="3029040"/>
            <a:ext cx="320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没有水珠出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8"/>
          <p:cNvSpPr/>
          <p:nvPr/>
        </p:nvSpPr>
        <p:spPr>
          <a:xfrm>
            <a:off x="2843280" y="115920"/>
            <a:ext cx="33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华文行楷"/>
              </a:rPr>
              <a:t>阅读探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9"/>
          <p:cNvSpPr/>
          <p:nvPr/>
        </p:nvSpPr>
        <p:spPr>
          <a:xfrm>
            <a:off x="2289240" y="4797360"/>
            <a:ext cx="440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4400" spc="-1" strike="noStrike">
                <a:solidFill>
                  <a:srgbClr val="669900"/>
                </a:solidFill>
                <a:latin typeface="Arial"/>
                <a:ea typeface="华文行楷"/>
              </a:rPr>
              <a:t>雨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的形成，经历了怎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的物态变化？有何要求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AutoShape 10"/>
          <p:cNvSpPr/>
          <p:nvPr/>
        </p:nvSpPr>
        <p:spPr>
          <a:xfrm>
            <a:off x="1258920" y="3860640"/>
            <a:ext cx="2592360" cy="1008360"/>
          </a:xfrm>
          <a:prstGeom prst="cloudCallout">
            <a:avLst>
              <a:gd name="adj1" fmla="val -55268"/>
              <a:gd name="adj2" fmla="val 4653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想一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矩形 10"/>
          <p:cNvSpPr/>
          <p:nvPr/>
        </p:nvSpPr>
        <p:spPr>
          <a:xfrm>
            <a:off x="4124160" y="3244680"/>
            <a:ext cx="55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  <a:ea typeface="方正大黑简体"/>
              </a:rPr>
              <a:t>Z  x   x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9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AutoShape 2"/>
          <p:cNvSpPr/>
          <p:nvPr/>
        </p:nvSpPr>
        <p:spPr>
          <a:xfrm>
            <a:off x="1979640" y="836640"/>
            <a:ext cx="5184720" cy="936720"/>
          </a:xfrm>
          <a:custGeom>
            <a:avLst/>
            <a:gdLst>
              <a:gd name="textAreaLeft" fmla="*/ 1183320 w 5184720"/>
              <a:gd name="textAreaRight" fmla="*/ 4001400 w 5184720"/>
              <a:gd name="textAreaTop" fmla="*/ 11340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955" y="0"/>
                </a:lnTo>
                <a:arcTo wR="675" hR="654" stAng="16200000" swAng="5400000"/>
                <a:lnTo>
                  <a:pt x="7630" y="2617"/>
                </a:lnTo>
                <a:lnTo>
                  <a:pt x="13970" y="2617"/>
                </a:lnTo>
                <a:lnTo>
                  <a:pt x="13970" y="654"/>
                </a:lnTo>
                <a:arcTo wR="675" hR="654" stAng="10800000" swAng="5400000"/>
                <a:lnTo>
                  <a:pt x="21600" y="0"/>
                </a:lnTo>
                <a:lnTo>
                  <a:pt x="18900" y="9492"/>
                </a:lnTo>
                <a:lnTo>
                  <a:pt x="21600" y="18983"/>
                </a:lnTo>
                <a:lnTo>
                  <a:pt x="16670" y="18983"/>
                </a:lnTo>
                <a:lnTo>
                  <a:pt x="16670" y="20946"/>
                </a:lnTo>
                <a:arcTo wR="675" hR="654" stAng="0" swAng="5400000"/>
                <a:lnTo>
                  <a:pt x="5605" y="21600"/>
                </a:lnTo>
                <a:arcTo wR="675" hR="654" stAng="5400000" swAng="5400000"/>
                <a:lnTo>
                  <a:pt x="4930" y="18983"/>
                </a:lnTo>
                <a:lnTo>
                  <a:pt x="0" y="18983"/>
                </a:lnTo>
                <a:lnTo>
                  <a:pt x="2700" y="9492"/>
                </a:lnTo>
                <a:close/>
              </a:path>
              <a:path fill="none" w="21600" h="21600">
                <a:moveTo>
                  <a:pt x="7630" y="654"/>
                </a:moveTo>
                <a:arcTo wR="675" hR="654" stAng="0" swAng="5400000"/>
                <a:lnTo>
                  <a:pt x="5605" y="1309"/>
                </a:lnTo>
                <a:arcTo wR="675" hR="654" stAng="16200000" swAng="-5400000"/>
                <a:arcTo wR="675" hR="654" stAng="10800000" swAng="-5400000"/>
                <a:lnTo>
                  <a:pt x="7630" y="2617"/>
                </a:lnTo>
              </a:path>
              <a:path fill="none" w="21600" h="21600">
                <a:moveTo>
                  <a:pt x="13970" y="654"/>
                </a:moveTo>
                <a:arcTo wR="675" hR="654" stAng="10800000" swAng="-5400000"/>
                <a:lnTo>
                  <a:pt x="15995" y="1309"/>
                </a:lnTo>
                <a:arcTo wR="675" hR="654" stAng="16200000" swAng="5400000"/>
                <a:arcTo wR="675" hR="654" stAng="0" swAng="5400000"/>
                <a:lnTo>
                  <a:pt x="13970" y="2617"/>
                </a:lnTo>
              </a:path>
              <a:path fill="none" w="21600" h="21600">
                <a:moveTo>
                  <a:pt x="4930" y="1963"/>
                </a:moveTo>
                <a:lnTo>
                  <a:pt x="4930" y="18983"/>
                </a:lnTo>
              </a:path>
              <a:path fill="none" w="21600" h="21600">
                <a:moveTo>
                  <a:pt x="16670" y="1963"/>
                </a:moveTo>
                <a:lnTo>
                  <a:pt x="16670" y="18983"/>
                </a:lnTo>
              </a:path>
            </a:pathLst>
          </a:custGeom>
          <a:solidFill>
            <a:srgbClr val="ffd7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对照实验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3"/>
          <p:cNvSpPr/>
          <p:nvPr/>
        </p:nvSpPr>
        <p:spPr>
          <a:xfrm>
            <a:off x="971640" y="2060640"/>
            <a:ext cx="727236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玻璃片置于盛满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开水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水瓶口，观察是否有水珠出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将玻璃片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加热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再次置于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开水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瓶口，观察是否有水珠出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Text Box 2"/>
          <p:cNvSpPr/>
          <p:nvPr/>
        </p:nvSpPr>
        <p:spPr>
          <a:xfrm>
            <a:off x="1993320" y="836640"/>
            <a:ext cx="456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物质由气态变为液态的现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3"/>
          <p:cNvSpPr/>
          <p:nvPr/>
        </p:nvSpPr>
        <p:spPr>
          <a:xfrm>
            <a:off x="4211640" y="1773360"/>
            <a:ext cx="309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  <a:ea typeface="华文行楷"/>
              </a:rPr>
              <a:t>-----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行楷"/>
              </a:rPr>
              <a:t>液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4"/>
          <p:cNvSpPr/>
          <p:nvPr/>
        </p:nvSpPr>
        <p:spPr>
          <a:xfrm>
            <a:off x="1619280" y="2708280"/>
            <a:ext cx="44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液化过程要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新魏"/>
              </a:rPr>
              <a:t>放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6T02:07:27Z</dcterms:created>
  <dc:creator>Administrator</dc:creator>
  <dc:description/>
  <cp:keywords/>
  <dc:language>en-US</dc:language>
  <cp:lastModifiedBy>User</cp:lastModifiedBy>
  <dcterms:modified xsi:type="dcterms:W3CDTF">2014-09-29T06:11:03Z</dcterms:modified>
  <cp:revision>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93</vt:lpwstr>
  </property>
</Properties>
</file>