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0898-1F34-4D48-A03F-4B740957F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992-903F-4B91-BE21-5F143CC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D31F-8528-4427-8D3D-84173FC8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000-7828-4BBC-B911-CC79FB4E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E09B-7C64-4B75-9393-F9AC3030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949-E5EF-4366-98A0-08DF6651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D92-4DFD-4A86-925E-C8B29A36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C2C8-0CEB-433D-A16F-4FEAA53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8E21-996C-46A4-B5B4-AB38A7EF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777-7641-429F-98E1-F14238AB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3FEB-968E-4194-82C8-2D9DAAE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707E-18AA-473E-AFE0-52E4686B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703D-C47F-45EC-A555-C8C5B8B1D7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01840" y="1341360"/>
            <a:ext cx="507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大自然的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515772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武进区夏溪小学 许荣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015720" y="187920"/>
            <a:ext cx="312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寻找大自然的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——</a:t>
            </a: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花木文化语文综合学习活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班级       姓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116000" y="1557360"/>
          <a:ext cx="7128000" cy="4930920"/>
        </p:xfrm>
        <a:graphic>
          <a:graphicData uri="http://schemas.openxmlformats.org/drawingml/2006/table">
            <a:tbl>
              <a:tblPr/>
              <a:tblGrid>
                <a:gridCol w="4757760"/>
                <a:gridCol w="2370240"/>
              </a:tblGrid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观察发现的现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探究方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5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得 出 结 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92360" y="1916280"/>
            <a:ext cx="4174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981000"/>
            <a:ext cx="75614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学会认识大自然的文字，从小就应当到树林里或者田野上走走，注意观察。假如有什么不明白的地方，应再到书里去寻找，看那里有没有解释。你还应该去请教有学问的人：这是什么石头？这是什么树？总是坐在家里的人，永远不会懂得大自然的文字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伊   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76720" y="907920"/>
            <a:ext cx="2663640" cy="352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68360" y="189000"/>
            <a:ext cx="2749680" cy="3671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012000" y="260280"/>
            <a:ext cx="273672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16000" y="45813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运用文艺的形式  ，散文的笔法  ，生动有趣的故事 ，形象具体的描写 ，来引人入胜地讲解科学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1480" y="1562040"/>
            <a:ext cx="570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417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森林里行走，有时会忽然看到树林当中立着一块很大的花岗石，上面披着青苔，就像披着毛皮一般。它是怎么到这儿来的呢？谁有这么大的力气把它搬到森林里来的呢？而且，它又是怎样穿过茂密树林的呢？认识大自然文字的人，立即会说，它不是人搬来的，而是冰搬来的。那些冰块从寒冷的北方“爬”过来，沿路把大大小小的石块带着一起走。这是好久好久以前的事了，当时这儿根本就没有森林。周围的森林是后来才长起来的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141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24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260280"/>
            <a:ext cx="777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云，也是天空这本大书上的文字。炎热的夏季，远远耸立着一座白色的云山，从这座云山向左右伸出两个尖头，山变得就像铁匠的铁砧了。飞行员知道，砧状云是雷雨的预兆，应该离它远些才好。如果在它里面飞行，它会把飞机毁掉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3429000"/>
            <a:ext cx="77137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76560" y="2209680"/>
            <a:ext cx="54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9480" y="2066760"/>
            <a:ext cx="203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765000"/>
            <a:ext cx="49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筑工地上挖出了一块灰色的石头，你只知道这不过是一块普通的石头，可在懂得大自然文字的人看来，它并不普通。它是石灰石，是由碎贝壳造成的。大家都知道贝类是海洋里的居民，可见在远古时代，现在是城市的这块地方曾经是一片汪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672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32000" y="907920"/>
            <a:ext cx="46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Arial"/>
                <a:ea typeface="宋体-PUA"/>
              </a:rPr>
              <a:t>课外拓展练笔</a:t>
            </a:r>
            <a:r>
              <a:rPr b="0" lang="zh-CN" sz="18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340000" y="206064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7280" y="1989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2800" spc="-1" strike="noStrike">
                <a:solidFill>
                  <a:srgbClr val="99cc00"/>
                </a:solidFill>
                <a:latin typeface="微软雅黑"/>
                <a:ea typeface="微软雅黑"/>
              </a:rPr>
              <a:t>仿照《大自然的文字》，也写一篇完整的科普小品文，向大家介绍你发现的大自然的文字，如自己熟悉的天上飞的，地上跑的，花鸟虫鱼，风霜雪雨，尝试用不同的修辞手法或者具体的描绘使自己的习作更生动形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7T13:11:15Z</dcterms:created>
  <dc:creator>User</dc:creator>
  <dc:description/>
  <dc:language>en-US</dc:language>
  <cp:lastModifiedBy>User</cp:lastModifiedBy>
  <dcterms:modified xsi:type="dcterms:W3CDTF">2014-09-18T13:57:16Z</dcterms:modified>
  <cp:revision>7</cp:revision>
  <dc:subject/>
  <dc:title>幻灯片 1</dc:title>
</cp:coreProperties>
</file>