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DE4-16E9-4129-B2A3-BF8BB734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B51-828B-4D4D-94A6-5AE5F1F9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9F1-A056-4C26-BAE0-DE0B141E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657-6A61-43B0-A63B-4DF2F915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481-82E2-4A99-A9BD-32DEA773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6F3-41DD-4214-841D-5EBE1681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0A1-BFAB-476E-A8C9-9F938C66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A22-DE0A-4088-91DC-F626307F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52D-2F38-4CD5-B30F-D5755891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512-6857-411C-9C05-EC8C34A9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330-054E-48BE-A781-7ABC3CC7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B60-5C4F-4FC1-9B5D-00E443BB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972B-0385-476E-B262-539D326E0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4000" y="549360"/>
            <a:ext cx="842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135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51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826920" y="1413000"/>
            <a:ext cx="7005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0200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4360" y="692280"/>
            <a:ext cx="777528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775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064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13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064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98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0674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9419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656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381640" cy="260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6427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5543640" cy="3438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6124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324400" cy="3219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672336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95280" y="333360"/>
            <a:ext cx="820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27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7680" y="2076480"/>
            <a:ext cx="68468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66760" y="1009800"/>
            <a:ext cx="680868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064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0:50:33Z</dcterms:created>
  <dc:creator>pc</dc:creator>
  <dc:description/>
  <dc:language>en-US</dc:language>
  <cp:lastModifiedBy>pc</cp:lastModifiedBy>
  <dcterms:modified xsi:type="dcterms:W3CDTF">2013-08-06T11:05:03Z</dcterms:modified>
  <cp:revision>2</cp:revision>
  <dc:subject/>
  <dc:title>幻灯片 1</dc:title>
</cp:coreProperties>
</file>