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D43-92B1-454F-B31F-A11439C0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AD6-C072-4F04-86A0-408E27D9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342-862D-41FB-B950-0A2A941B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CD5-55D8-461F-98BD-7F5E1196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425-5E17-4F34-86E1-DFC4C789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775-A460-4319-A6FD-6C477452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C40-C35F-4122-880B-494F30FB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19D-5D1D-42A0-96C7-1B113990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6BA-C752-4A43-A178-603E807A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218-2798-405E-8D6E-52B0DCC6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68E-F701-425B-9071-6BB89B7C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EEA-17FC-448C-86DD-AB47C39F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29CE-6927-4EE3-B626-1ECC8C13BF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1828800"/>
            <a:ext cx="10591920" cy="830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1752480"/>
            <a:ext cx="764856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（</a:t>
            </a: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）一日常规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0"/>
            <a:ext cx="5105160" cy="2819520"/>
          </a:xfrm>
          <a:custGeom>
            <a:avLst/>
            <a:gdLst>
              <a:gd name="textAreaLeft" fmla="*/ 0 w 5105160"/>
              <a:gd name="textAreaRight" fmla="*/ 5105520 w 5105160"/>
              <a:gd name="textAreaTop" fmla="*/ 365400 h 2819520"/>
              <a:gd name="textAreaBottom" fmla="*/ 245412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3962520"/>
            <a:ext cx="5181480" cy="2666880"/>
          </a:xfrm>
          <a:custGeom>
            <a:avLst/>
            <a:gdLst>
              <a:gd name="textAreaLeft" fmla="*/ 0 w 5181480"/>
              <a:gd name="textAreaRight" fmla="*/ 5181840 w 5181480"/>
              <a:gd name="textAreaTop" fmla="*/ 345600 h 2666880"/>
              <a:gd name="textAreaBottom" fmla="*/ 23212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38080" y="457200"/>
            <a:ext cx="4191120" cy="2971800"/>
          </a:xfrm>
          <a:prstGeom prst="cloudCallout">
            <a:avLst>
              <a:gd name="adj1" fmla="val -63939"/>
              <a:gd name="adj2" fmla="val 60685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2971800"/>
            <a:ext cx="3810240" cy="3657600"/>
          </a:xfrm>
          <a:prstGeom prst="cloudCallout">
            <a:avLst>
              <a:gd name="adj1" fmla="val -75791"/>
              <a:gd name="adj2" fmla="val 4952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057400" y="2286000"/>
            <a:ext cx="4572000" cy="15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952880" cy="396252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2743200"/>
            <a:ext cx="4800600" cy="38862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457200"/>
            <a:ext cx="3581280" cy="2209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3886200"/>
            <a:ext cx="4647960" cy="2590920"/>
          </a:xfrm>
          <a:prstGeom prst="plus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609480"/>
            <a:ext cx="3276720" cy="1905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0"/>
            <a:ext cx="5029200" cy="3200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3657600"/>
            <a:ext cx="5639040" cy="2971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4419720" cy="3962520"/>
          </a:xfrm>
          <a:custGeom>
            <a:avLst/>
            <a:gdLst>
              <a:gd name="textAreaLeft" fmla="*/ 1038600 w 4419720"/>
              <a:gd name="textAreaRight" fmla="*/ 3377880 w 4419720"/>
              <a:gd name="textAreaTop" fmla="*/ 465840 h 3962520"/>
              <a:gd name="textAreaBottom" fmla="*/ 2485440 h 396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438280"/>
            <a:ext cx="4724280" cy="4419720"/>
          </a:xfrm>
          <a:custGeom>
            <a:avLst/>
            <a:gdLst>
              <a:gd name="textAreaLeft" fmla="*/ 1110240 w 4724280"/>
              <a:gd name="textAreaRight" fmla="*/ 3610800 w 4724280"/>
              <a:gd name="textAreaTop" fmla="*/ 519480 h 4419720"/>
              <a:gd name="textAreaBottom" fmla="*/ 2772360 h 4419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4600" y="304920"/>
            <a:ext cx="3657600" cy="2133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666880"/>
            <a:ext cx="3962160" cy="3657600"/>
          </a:xfrm>
          <a:custGeom>
            <a:avLst/>
            <a:gdLst>
              <a:gd name="textAreaLeft" fmla="*/ 1632600 w 3962160"/>
              <a:gd name="textAreaRight" fmla="*/ 2329560 w 3962160"/>
              <a:gd name="textAreaTop" fmla="*/ 1506960 h 3657600"/>
              <a:gd name="textAreaBottom" fmla="*/ 21506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2590920"/>
            <a:ext cx="3429000" cy="3733560"/>
          </a:xfrm>
          <a:custGeom>
            <a:avLst/>
            <a:gdLst>
              <a:gd name="textAreaLeft" fmla="*/ 1413000 w 3429000"/>
              <a:gd name="textAreaRight" fmla="*/ 2016000 w 3429000"/>
              <a:gd name="textAreaTop" fmla="*/ 1538280 h 3733560"/>
              <a:gd name="textAreaBottom" fmla="*/ 219528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1295280"/>
            <a:ext cx="3353040" cy="335304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1371600"/>
            <a:ext cx="3429000" cy="327672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00200" y="533520"/>
            <a:ext cx="6477120" cy="5333760"/>
          </a:xfrm>
          <a:prstGeom prst="irregularSeal2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00200" y="685800"/>
            <a:ext cx="5943600" cy="5638680"/>
          </a:xfrm>
          <a:prstGeom prst="irregularSeal1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5-01T15:22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