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D2D-AAD1-47EC-B73C-84F7E6DA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976-C733-4FC9-9ED2-D973CDF2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12B-C9B9-47A8-AF24-DB3F821E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353-7A80-491F-979D-6D5E774E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DE4-43C0-4A8E-B01A-76B0C89A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92B-03E3-49A6-A345-A474F54D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EF7-951F-4888-8380-3CEBC087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734-7403-4EBA-B14F-8CD153B6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3B0-2C73-42E4-9692-C2351EF3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6E0-14C3-4236-B8E5-D73F3150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AE9-D339-4C91-BE98-EEB46803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10E-58F0-4A61-A573-D703D9DF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B7DB-8854-403B-9E04-A1D92D776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日常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放学后认真打扫教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858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62320" y="1143000"/>
            <a:ext cx="45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运动场上的奋力拼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3880" y="2036880"/>
            <a:ext cx="60199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09680" y="9907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春游时的兴奋欢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6386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28800" y="1523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班级里的黑板报小能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6172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师未到先打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6172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未进教室先闻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657600" cy="403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886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小干部作用大，老师未来先领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4864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上高举的小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59436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做操时的认真整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6172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吃饭时的互帮互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53337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饭后认真整理餐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64771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放学时主动跟老师说再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6553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rffyuuyyuasdsuuuuuuuasdf7ccxuix u yy'hA  </cp:lastModifiedBy>
  <dcterms:modified xsi:type="dcterms:W3CDTF">2011-05-04T01:12:4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