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E49-C575-4737-A229-19935FC4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91B-1BC9-4810-8CF1-3E21A98E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F03-D17C-4C7F-83F6-C22DAA0F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351-D348-4F31-8A39-448A3511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9DAD-26FA-4AEE-BE85-2A550770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1DDA-B111-4F3D-862B-C6EB8130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3407-F7EA-4FA5-9AE8-78CA7599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C5DB-AE4F-4039-997B-1BA97E5C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C963-4A63-47E3-8D58-64931A7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3CC0-1644-4EEB-88CC-F3EBE0B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74B7-B3CD-4354-B9E4-7BA3ACD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735-520F-4741-AC79-E56CEDE1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308F-9AEA-453A-A7A2-093D8DB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47E9-80C4-4B94-86FA-C189A74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75B7-E90E-43C6-9C2F-13D8210A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147F-80BA-42CD-92DA-9AB1AAE2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D872-3FDC-43CD-BA90-41111D93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302A-6B36-4BE3-8B2C-CC143FA5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573B-4EAB-4F10-928C-0E86EE57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A4AA-D9A8-47B0-B767-B3630FA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B0E0-F021-4BC6-B50C-5C9D828D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1178-C1B1-4945-B62F-C2A63DEA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5C1-6CF3-4430-879A-DC6E8981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ACE0-F282-4B58-9659-C02A5AF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14C4-FC16-46BD-A622-F32E239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8279-6E2B-4C35-893B-1E02D02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1845-7806-4794-96B4-C7F2533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59CF-BBBB-4124-9527-65F9668A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01F5-CC93-40D2-8A19-81B60D2D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425A-ECB1-4B73-BCAC-969D10B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D8D-2DFE-43BB-8BAD-A619768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6E0-954A-43A1-9672-C8CD218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0B5-D1B0-46BC-84F1-6FCBCD66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0F7-492E-4F0A-B76D-5175B37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BF1-1DE0-4480-97C4-8935972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176-38B8-46BD-AE14-D2BF175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C66-415C-4701-BF2E-9E8BF56542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FCA4-EEAA-4A2B-8CFA-1BD3BF2344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01EB-6BCB-4039-BBD2-0193AF14E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24000" y="1557360"/>
            <a:ext cx="5040000" cy="1880640"/>
            <a:chOff x="2124000" y="1557360"/>
            <a:chExt cx="5040000" cy="1880640"/>
          </a:xfrm>
        </p:grpSpPr>
        <p:sp>
          <p:nvSpPr>
            <p:cNvPr id="126" name="">
              <a:hlinkClick r:id="" action="ppaction://hlinkshowjump?jump=nextslide"/>
            </p:cNvPr>
            <p:cNvSpPr/>
            <p:nvPr/>
          </p:nvSpPr>
          <p:spPr>
            <a:xfrm>
              <a:off x="2124000" y="1557360"/>
              <a:ext cx="5040000" cy="1880640"/>
            </a:xfrm>
            <a:prstGeom prst="horizontalScroll">
              <a:avLst>
                <a:gd name="adj" fmla="val 12847"/>
              </a:avLst>
            </a:prstGeom>
            <a:noFill/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680" y="206208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生物的生殖方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195640" y="3852720"/>
            <a:ext cx="4966920" cy="2097000"/>
            <a:chOff x="2195640" y="3852720"/>
            <a:chExt cx="4966920" cy="2097000"/>
          </a:xfrm>
        </p:grpSpPr>
        <p:sp>
          <p:nvSpPr>
            <p:cNvPr id="129" name="">
              <a:hlinkClick r:id="" action="ppaction://hlinkshowjump?jump=nextslide"/>
            </p:cNvPr>
            <p:cNvSpPr/>
            <p:nvPr/>
          </p:nvSpPr>
          <p:spPr>
            <a:xfrm>
              <a:off x="2195640" y="3852720"/>
              <a:ext cx="4966920" cy="2097000"/>
            </a:xfrm>
            <a:prstGeom prst="horizontalScroll">
              <a:avLst>
                <a:gd name="adj" fmla="val 12847"/>
              </a:avLst>
            </a:prstGeom>
            <a:noFill/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7160" y="44388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生物的发育方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625120" y="549360"/>
            <a:ext cx="418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第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14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章 生物的生殖与发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33520" y="3797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的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3797280"/>
            <a:ext cx="24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的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3824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的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3824280"/>
            <a:ext cx="26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虞美人的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4764240"/>
            <a:ext cx="22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自身的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47642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风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96360" y="476424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风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87680" y="4764240"/>
            <a:ext cx="32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动物或人类的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68520" y="4359240"/>
            <a:ext cx="0" cy="4572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92520" y="4359240"/>
            <a:ext cx="0" cy="4572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4359240"/>
            <a:ext cx="0" cy="4572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4359240"/>
            <a:ext cx="0" cy="4572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76360" y="2602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生物发育方式的知识体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79280" y="1341360"/>
          <a:ext cx="8713800" cy="4973760"/>
        </p:xfrm>
        <a:graphic>
          <a:graphicData uri="http://schemas.openxmlformats.org/drawingml/2006/table">
            <a:tbl>
              <a:tblPr/>
              <a:tblGrid>
                <a:gridCol w="1220760"/>
                <a:gridCol w="830520"/>
                <a:gridCol w="1076040"/>
                <a:gridCol w="1067040"/>
                <a:gridCol w="2884320"/>
                <a:gridCol w="1635120"/>
              </a:tblGrid>
              <a:tr h="944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动物种类（举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生殖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受精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发育时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发育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昆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家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有性生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体内受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受精卵→幼虫→蛹→成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完全变态发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蝗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受精卵→幼虫→成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完全变态发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两栖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青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有性生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体外受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受精卵→蝌蚪→幼蛙→成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变态发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鸟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家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有性生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体内受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体内－体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243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章 生物的遗传和变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3840" y="1581120"/>
            <a:ext cx="46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DNA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是主要的遗传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24987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白鼠会生下灰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33684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黑体"/>
                <a:ea typeface="黑体"/>
              </a:rPr>
              <a:t>这个实验能说明：生物遗传信息中心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细胞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71640" y="857160"/>
            <a:ext cx="7129440" cy="2952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605680" y="2438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4720" y="2611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41600" y="31194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62880" y="3900600"/>
            <a:ext cx="65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上图中，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是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_______,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它主要是由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_______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组成；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是双螺旋结构的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______,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上面有特定遗传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片段的是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_______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。正常人体的体细胞中含有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的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是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_____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85520" y="3835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25360" y="380196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81520" y="3835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28640" y="423396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1640" y="473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00000" y="51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25640" y="196920"/>
            <a:ext cx="49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染色体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和基因三者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核、染色体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基因三者之间的关系：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核     染色体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13334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3880" y="9810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0065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2560" y="9810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10065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78960" y="16462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22520" y="210348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590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男性精子的类型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3276720"/>
            <a:ext cx="8686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女性体细胞中染色体的组成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女性生殖细胞（卵细胞）染色体的组成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性体细胞中染色体的组成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性生殖细胞（精子）染色体的组成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646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女性体细胞中性染色体组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男性体细胞中性染色体组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决定胎儿性别的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87600" y="3213000"/>
            <a:ext cx="25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染色体＋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720" y="436572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染色体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66440" y="49417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染色体＋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63040" y="6021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常染色体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常染色体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891560" y="4267080"/>
            <a:ext cx="1252440" cy="1828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676520" y="609480"/>
            <a:ext cx="205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96080" y="6667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42200" y="457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12952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亲代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性状表现</a:t>
            </a:r>
            <a:r>
              <a:rPr b="1" lang="zh-CN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生殖细胞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10280" y="2590920"/>
            <a:ext cx="91440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2514600"/>
            <a:ext cx="91440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77320" y="2666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4956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子代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基因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子代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性状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5720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耳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457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耳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21932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1143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2666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2666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3276720"/>
            <a:ext cx="10666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791320" y="342900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4343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5105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耳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8672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部有耳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16765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467480" y="17524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遗传图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76520" y="609480"/>
            <a:ext cx="205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96080" y="6667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18520" y="533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12952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609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亲代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性状表现</a:t>
            </a:r>
            <a:r>
              <a:rPr b="1" lang="zh-CN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362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华文新魏"/>
                <a:ea typeface="华文新魏"/>
              </a:rPr>
              <a:t>生殖细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001000" y="228600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91440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2209680"/>
            <a:ext cx="838080" cy="83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2209680"/>
            <a:ext cx="838080" cy="83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362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686800" y="2133720"/>
            <a:ext cx="4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2670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后代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基因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性状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5943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31240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3200400"/>
            <a:ext cx="15238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80920" y="3124080"/>
            <a:ext cx="34290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028840" y="3200400"/>
            <a:ext cx="34290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3048120"/>
            <a:ext cx="22860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3048120"/>
            <a:ext cx="33526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1880" y="33526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91520" y="32004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33520"/>
            <a:ext cx="2057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耳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1143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1520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457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耳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3623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2286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2362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153280" y="2286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4343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5105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有耳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43434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9568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有耳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4343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510552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有耳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01000" y="4267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20120" y="5105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新魏"/>
                <a:ea typeface="华文新魏"/>
              </a:rPr>
              <a:t>无耳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5715000"/>
            <a:ext cx="1371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410080" y="563868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38320" y="5715000"/>
            <a:ext cx="12956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29200" y="6178680"/>
            <a:ext cx="18288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61563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933960" y="5791320"/>
            <a:ext cx="14475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24480" y="6216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505320" y="1676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5200" y="175248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01000" y="175248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04920" y="197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性别决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287800" y="21002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12240" y="2133720"/>
            <a:ext cx="4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8000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84560" y="33955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27720" y="3357720"/>
            <a:ext cx="8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3720" y="490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43520" y="49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5791320"/>
            <a:ext cx="57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代男女比率都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57200" y="160020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2438280"/>
            <a:ext cx="43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维生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佝偻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160020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化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23623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丙酮尿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5335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常见的遗传病种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3276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体综合症（先天性愚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6" action="ppaction://hlinksldjump"/>
          </p:cNvPr>
          <p:cNvSpPr/>
          <p:nvPr/>
        </p:nvSpPr>
        <p:spPr>
          <a:xfrm>
            <a:off x="395280" y="4032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叫综合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41800" y="396252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友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下列疾病中属于遗传病的是</a:t>
            </a:r>
            <a:r>
              <a:rPr b="0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A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艾滋病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B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感冒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C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破伤风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D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血友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236000" y="1413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28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生物生殖方式的知识体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9760" y="1319040"/>
            <a:ext cx="13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嫁接扦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压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59200" y="1471680"/>
            <a:ext cx="282600" cy="2490840"/>
          </a:xfrm>
          <a:custGeom>
            <a:avLst/>
            <a:gdLst>
              <a:gd name="textAreaLeft" fmla="*/ 180720 w 282600"/>
              <a:gd name="textAreaRight" fmla="*/ 282960 w 282600"/>
              <a:gd name="textAreaTop" fmla="*/ 64800 h 2490840"/>
              <a:gd name="textAreaBottom" fmla="*/ 2426040 h 24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63760" y="18446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营养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67000" y="1143000"/>
            <a:ext cx="23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出芽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682720"/>
            <a:ext cx="457200" cy="3108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000 h 3108600"/>
              <a:gd name="textAreaBottom" fmla="*/ 3027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760" y="2362320"/>
            <a:ext cx="2057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1" action="ppaction://hlinksldjump"/>
              </a:rPr>
              <a:t>无性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41008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有性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5200" y="1514520"/>
            <a:ext cx="358560" cy="13968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63760" y="3625920"/>
            <a:ext cx="22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组织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92760" y="1295280"/>
            <a:ext cx="206640" cy="609840"/>
          </a:xfrm>
          <a:custGeom>
            <a:avLst/>
            <a:gdLst>
              <a:gd name="textAreaLeft" fmla="*/ 132120 w 206640"/>
              <a:gd name="textAreaRight" fmla="*/ 207000 w 206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99400" y="990720"/>
            <a:ext cx="13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27800" y="3124080"/>
            <a:ext cx="156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优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22880" y="3352680"/>
            <a:ext cx="358920" cy="1397160"/>
          </a:xfrm>
          <a:custGeom>
            <a:avLst/>
            <a:gdLst>
              <a:gd name="textAreaLeft" fmla="*/ 229320 w 358920"/>
              <a:gd name="textAreaRight" fmla="*/ 359280 w 358920"/>
              <a:gd name="textAreaTop" fmla="*/ 36360 h 1397160"/>
              <a:gd name="textAreaBottom" fmla="*/ 1360800 h 139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4920" y="5210280"/>
            <a:ext cx="381816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  <a:hlinkClick r:id="rId2" action="ppaction://hlinksldjump"/>
              </a:rPr>
              <a:t>植物的个体生殖</a:t>
            </a:r>
            <a:br>
              <a:rPr sz="3600"/>
            </a:br>
            <a:r>
              <a:rPr b="0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  <a:hlinkClick r:id="rId3" action="ppaction://hlinksldjump"/>
              </a:rPr>
              <a:t>动物的个体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55627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0880" y="304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近亲结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2920" y="1295280"/>
            <a:ext cx="11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优生优育的措施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20574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禁止近亲结婚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倡遗传咨询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产前诊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76320" y="685800"/>
          <a:ext cx="8915400" cy="287640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3200400"/>
              </a:tblGrid>
              <a:tr h="106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遗传病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正常结婚后代患病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近亲结婚后代患病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先天性聋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/11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/1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苯丙酮尿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/14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/17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全色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/73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/4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22860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  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7339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选择其中一种遗传病“全色盲”计算：近亲结婚比正常结婚的后代患病率高出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这个表格中你可以得出什么结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5638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答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近亲结婚，后代易得遗传病，应该禁止近亲结婚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2200" y="4114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16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下列叙述不正确的是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A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近亲结婚</a:t>
            </a:r>
            <a:r>
              <a:rPr b="1" lang="zh-CN" sz="4400" spc="-1" strike="noStrike">
                <a:solidFill>
                  <a:srgbClr val="000808"/>
                </a:solidFill>
                <a:latin typeface="华文新魏"/>
                <a:ea typeface="华文新魏"/>
              </a:rPr>
              <a:t>可使子女患遗传病的机会增大（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书上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1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页表格看懂</a:t>
            </a:r>
            <a:r>
              <a:rPr b="1" lang="zh-CN" sz="4400" spc="-1" strike="noStrike">
                <a:solidFill>
                  <a:srgbClr val="000808"/>
                </a:solidFill>
                <a:latin typeface="华文新魏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 </a:t>
            </a:r>
            <a:r>
              <a:rPr b="1" lang="zh-CN" sz="4400" spc="-1" strike="noStrike">
                <a:solidFill>
                  <a:srgbClr val="000808"/>
                </a:solidFill>
                <a:latin typeface="华文新魏"/>
                <a:ea typeface="华文新魏"/>
              </a:rPr>
              <a:t>B.</a:t>
            </a:r>
            <a:r>
              <a:rPr b="1" lang="zh-CN" sz="4400" spc="-1" strike="noStrike">
                <a:solidFill>
                  <a:srgbClr val="000808"/>
                </a:solidFill>
                <a:latin typeface="华文新魏"/>
                <a:ea typeface="华文新魏"/>
              </a:rPr>
              <a:t>目前遗传病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一般不能得到根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C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优生优育的唯一措施是产前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D.</a:t>
            </a: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性状相同，基因组成不一定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 rot="10708200">
            <a:off x="6443640" y="403200"/>
            <a:ext cx="3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57200" y="457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生物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129528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可遗传的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不可遗传的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43000" y="350532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利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不利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14479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33360"/>
            <a:ext cx="922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生物变异中，可以遗传给后代的是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类的镰刀型细胞贫血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奶牛因饲养条件好所表现的高产奶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卵双生双胞胎兄弟，生活在农村的弟弟皮肤较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稻因光照不足引起的减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948360" y="33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2852640"/>
            <a:ext cx="9144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下列有关变异的叙述中正确的是  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A.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变异对生物的生存都是有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B.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变异一旦出现，就可以遗传给后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C.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变异对生物的生存都是不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D.</a:t>
            </a:r>
            <a:r>
              <a:rPr b="1" lang="zh-CN" sz="2800" spc="-1" strike="noStrike">
                <a:solidFill>
                  <a:srgbClr val="000808"/>
                </a:solidFill>
                <a:latin typeface="华文新魏"/>
                <a:ea typeface="华文新魏"/>
              </a:rPr>
              <a:t>有的变异是由遗传物质变化引起的，有的则是由不同环境引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72360" y="278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4480" y="4800600"/>
            <a:ext cx="725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材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植物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含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培养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191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嫁接中，接上去的芽或枝，叫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77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要提高嫁接的成活率，应使两者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密的结合在一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154160"/>
            <a:ext cx="93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植物依靠营养器官进行的无性生殖，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969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适宜的条件下，水螅一般进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3280" y="3962520"/>
            <a:ext cx="26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85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出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1143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5796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见的营养生殖的方式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521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嫁接、扦插、压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946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7150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可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可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6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形成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562720"/>
            <a:ext cx="1523880" cy="1150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55680" y="236520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接的植物体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97320" y="236232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砧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3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：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条件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二、回顾课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4800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器官、组织、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73240" y="42670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715000"/>
            <a:ext cx="15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595680"/>
            <a:ext cx="69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嫁接后，所结出的果实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品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71840" y="5219640"/>
            <a:ext cx="43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种营养物质和植物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571500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短时间内生产出大批的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87480" y="6134040"/>
            <a:ext cx="37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防止植物病毒的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2057400"/>
            <a:ext cx="8991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花粉从花药中散放出来，落到雌蕊柱头上的过程，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就叫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157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当花的各部分成熟的时候，花就要开放，这就是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4768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植物为了扩大自己的生活范围，凭借各种力量，进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行果实和种子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452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9718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花粉萌发，产生精子，精子和卵细胞融合成一个细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胞，这个过程叫       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受精作用完成后，花的各部分发生明显变化，形成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352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受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267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果实和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4922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传粉的方式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花传粉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异花传粉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763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二、回顾课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2057400"/>
            <a:ext cx="99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28954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3809880"/>
            <a:ext cx="10670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4724280"/>
            <a:ext cx="198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563868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>
            <a:lum contrast="18000"/>
          </a:blip>
          <a:srcRect l="0" t="0" r="46669" b="0"/>
          <a:stretch/>
        </p:blipFill>
        <p:spPr>
          <a:xfrm>
            <a:off x="0" y="0"/>
            <a:ext cx="3138480" cy="3311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63640" y="2349360"/>
            <a:ext cx="163188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92360" y="1699920"/>
            <a:ext cx="1778040" cy="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763640" y="1341360"/>
            <a:ext cx="164628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340000" y="333360"/>
            <a:ext cx="1109520" cy="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40000" y="692280"/>
            <a:ext cx="1038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58339" t="11927" r="0" b="0"/>
          <a:stretch/>
        </p:blipFill>
        <p:spPr>
          <a:xfrm>
            <a:off x="6659640" y="3429000"/>
            <a:ext cx="2484360" cy="2808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349800" y="302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花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68520" y="4762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花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3080" y="260280"/>
            <a:ext cx="142920" cy="50472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85680"/>
            <a:ext cx="4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雄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3440" y="10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柱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148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花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1337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子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1268280"/>
            <a:ext cx="216000" cy="107964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6000" y="1341360"/>
            <a:ext cx="5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雌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4508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2133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3284640"/>
          <a:ext cx="1692360" cy="33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84640"/>
                    <a:ext cx="16923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476360" y="580536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458136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434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受精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486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珠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5516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子房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4653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胚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52038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7044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5157720"/>
            <a:ext cx="717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8360" y="4365720"/>
            <a:ext cx="1006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27640" y="4221000"/>
            <a:ext cx="144720" cy="648000"/>
          </a:xfrm>
          <a:custGeom>
            <a:avLst/>
            <a:gdLst>
              <a:gd name="textAreaLeft" fmla="*/ 360 w 144720"/>
              <a:gd name="textAreaRight" fmla="*/ 52560 w 1447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436360" y="4508640"/>
            <a:ext cx="71640" cy="792000"/>
          </a:xfrm>
          <a:custGeom>
            <a:avLst/>
            <a:gdLst>
              <a:gd name="textAreaLeft" fmla="*/ -360 w 71640"/>
              <a:gd name="textAreaRight" fmla="*/ 2556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果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708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40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85080" y="4221000"/>
            <a:ext cx="21600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472428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700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4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5877000"/>
            <a:ext cx="360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443640" y="537372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68360" y="3789000"/>
            <a:ext cx="0" cy="576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3789360"/>
            <a:ext cx="446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32720" y="3789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03640" y="4076280"/>
            <a:ext cx="0" cy="64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4076640"/>
            <a:ext cx="252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4076640"/>
            <a:ext cx="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5516640"/>
            <a:ext cx="647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003640" y="5157360"/>
            <a:ext cx="0" cy="35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5157720"/>
            <a:ext cx="324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867280" y="4797000"/>
            <a:ext cx="5050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76320" y="70020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果实的各部分结构分别由受精后的子房的哪部分发育而来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2422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9350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16304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房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1845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胚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19350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554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果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3184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193500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422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292572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510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珠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3763800"/>
            <a:ext cx="23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受精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2925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4068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2620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3763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2925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58339" t="0" r="0" b="0"/>
          <a:stretch/>
        </p:blipFill>
        <p:spPr>
          <a:xfrm>
            <a:off x="380880" y="4435560"/>
            <a:ext cx="1905120" cy="2422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90920" y="57913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391520" y="4343400"/>
          <a:ext cx="1395360" cy="23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4343400"/>
                    <a:ext cx="139536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95288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75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75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400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们平时吃桃子，吃的是它的哪一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99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为下一代桃树的幼体的是桃子果实中的哪一个结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476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95640" y="213372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429264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68580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有一个描述果实的谜语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麻屋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红帐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里头住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胖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1843200"/>
            <a:ext cx="0" cy="4572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1843200"/>
            <a:ext cx="0" cy="4572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18432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2300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果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300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种皮</a:t>
            </a:r>
            <a:r>
              <a:rPr b="1" lang="zh-CN" sz="2800" spc="-1" strike="noStrike">
                <a:solidFill>
                  <a:srgbClr val="c22c0e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2300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5029200"/>
            <a:ext cx="74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它们又分别是由哪一部分发育而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2833560"/>
            <a:ext cx="0" cy="4572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7800" y="2833560"/>
            <a:ext cx="0" cy="4572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8720" y="283356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33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子房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38880" y="3367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受精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367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珠被</a:t>
            </a:r>
            <a:r>
              <a:rPr b="1" lang="zh-CN" sz="2800" spc="-1" strike="noStrike">
                <a:solidFill>
                  <a:srgbClr val="c22c0e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4337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它们分别是指的花生的哪一部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604960" cy="3047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676520" cy="1265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38080" y="838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把用线将下列植物与最适当的营养繁殖方式连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2320" y="2484360"/>
            <a:ext cx="1828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苹果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桃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02720" y="2565360"/>
            <a:ext cx="66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嫁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扦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压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916360" y="3860640"/>
            <a:ext cx="302400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276720" y="2852280"/>
            <a:ext cx="259056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965320" y="2923920"/>
            <a:ext cx="2901960" cy="393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16360" y="3789360"/>
            <a:ext cx="3024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6360" y="4724280"/>
            <a:ext cx="302400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02:54Z</dcterms:created>
  <dc:creator>*</dc:creator>
  <dc:description/>
  <dc:language>en-US</dc:language>
  <cp:lastModifiedBy>jz</cp:lastModifiedBy>
  <dcterms:modified xsi:type="dcterms:W3CDTF">2008-10-27T23:51:22Z</dcterms:modified>
  <cp:revision>7</cp:revision>
  <dc:subject/>
  <dc:title>幻灯片 1</dc:title>
</cp:coreProperties>
</file>