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9822-51DF-4C21-951D-904C83E5A7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097-B4D9-45D6-A93F-C4A7E391E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E104-D638-4077-9909-6D6AE763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29AC-B4E2-4381-BE57-F804736B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1448-E17C-4A70-8BA9-690B13BFA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8F2E-D4F5-4562-BAFB-A5712B2A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A6E5-A469-4B45-A7C3-BD02AC872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62B9-61A3-44F9-8C76-F9ADDE2C2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26DF-BF1F-45D4-A860-01BFD0BC1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44D4-DABF-4244-ADAC-93CF85A57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EE16-4F88-4DBC-88DF-5223E4210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2D37-1FDD-40B6-A9E4-391E80097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90D9-E902-4BE8-BD54-A389C5677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173C-3835-49FB-BE00-FF2EBB864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2BB3-0EA3-4F64-93E9-C6501A2A1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DF73-7914-4BD2-B94E-7997261B8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ABED-3A28-44FC-9578-AC13B5146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35D6-2466-40EF-8EFA-FCB34DF9A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FB44-C3C8-4B09-9CED-E661963F3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32AA-3CC4-44ED-BDB9-79853B1A1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41DA-C348-4325-9246-7B81CF75D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标题副本"/>
          <p:cNvPicPr/>
          <p:nvPr/>
        </p:nvPicPr>
        <p:blipFill>
          <a:blip r:embed="rId2"/>
          <a:stretch/>
        </p:blipFill>
        <p:spPr>
          <a:xfrm>
            <a:off x="254160" y="2076480"/>
            <a:ext cx="86342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979640" y="1268280"/>
            <a:ext cx="5715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伯牙鼓琴遇知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俞伯牙与钟子期偶遇，相见恨晚，成为知音。临别时，伯牙希望子期能再回来看望自己，但子期不敢答应，他说：“小弟不敢轻薄而寡信，许了贤兄，就当践约，万一禀命二亲，二亲不允，使仁兄悬望数千里之外，小弟之罪更大矣。”</a:t>
            </a:r>
            <a:r>
              <a:rPr b="0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050920" y="177336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一、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轻许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诺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二、对他人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宽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如果不能践诺，一定要设法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弥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三、采用适当的方法</a:t>
            </a: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提醒自己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再出现类似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949400" y="4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贴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692360" y="549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五元钱与诚信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214280" y="1413000"/>
            <a:ext cx="69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一名中学生，修车没带钱，于是答应改天把修车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钱送去，修车的老大爷见了他的校徽，相信他是一个守信的人，就只问了他的名字。但是过了好几天，他都没有来。于是找到学校，但是学校告诉他这里根本就没这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44760" y="3701880"/>
            <a:ext cx="79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此人给人一种什么样的印象？对他有何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059280" y="6021360"/>
            <a:ext cx="34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结合书本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P10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554120" y="4437000"/>
            <a:ext cx="68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活中还有哪些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不践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142520" y="5229360"/>
            <a:ext cx="9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信守承诺对一个人来说有何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2124000" y="2781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信守承诺会得到回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052"/>
          <p:cNvSpPr/>
          <p:nvPr/>
        </p:nvSpPr>
        <p:spPr>
          <a:xfrm>
            <a:off x="1692360" y="446040"/>
            <a:ext cx="63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诚信是买东西忘记带钱时，老板仍将货物塞在你手中送你出门的轻轻一笑；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054"/>
          <p:cNvSpPr/>
          <p:nvPr/>
        </p:nvSpPr>
        <p:spPr>
          <a:xfrm>
            <a:off x="5731200" y="1320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（良好的人际关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55"/>
          <p:cNvSpPr/>
          <p:nvPr/>
        </p:nvSpPr>
        <p:spPr>
          <a:xfrm>
            <a:off x="6714360" y="2565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（尊重、赞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56"/>
          <p:cNvSpPr/>
          <p:nvPr/>
        </p:nvSpPr>
        <p:spPr>
          <a:xfrm>
            <a:off x="6873480" y="3619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（信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57"/>
          <p:cNvSpPr/>
          <p:nvPr/>
        </p:nvSpPr>
        <p:spPr>
          <a:xfrm>
            <a:off x="6728400" y="4843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（友谊、帮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58"/>
          <p:cNvSpPr/>
          <p:nvPr/>
        </p:nvSpPr>
        <p:spPr>
          <a:xfrm>
            <a:off x="6873480" y="621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（自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60"/>
          <p:cNvSpPr/>
          <p:nvPr/>
        </p:nvSpPr>
        <p:spPr>
          <a:xfrm>
            <a:off x="1692360" y="1916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诚信是在风雨中等待许久后，失主紧紧地握着你的手感激的眼神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61"/>
          <p:cNvSpPr/>
          <p:nvPr/>
        </p:nvSpPr>
        <p:spPr>
          <a:xfrm>
            <a:off x="1692360" y="299232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诚信是百年老店里赊帐的帐单，也可以是今天人们手中的信用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62"/>
          <p:cNvSpPr/>
          <p:nvPr/>
        </p:nvSpPr>
        <p:spPr>
          <a:xfrm>
            <a:off x="1692360" y="409428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诚信是在一连串失败后，朋友们主动伸出的那一双双温热的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63"/>
          <p:cNvSpPr/>
          <p:nvPr/>
        </p:nvSpPr>
        <p:spPr>
          <a:xfrm>
            <a:off x="1692360" y="5413320"/>
            <a:ext cx="64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诚信是费了九牛二虎之力兑现诺言后，人们的一句“你真棒！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92360" y="476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 一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692360" y="278136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知道哪些企业、商家信守承诺的例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700360" y="836640"/>
            <a:ext cx="3887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宪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产品质量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反不正当竞争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消费者权益保护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民法通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经济合同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979640" y="242100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民法通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第四条规定：“民事活动应当遵循自愿、公平、等价有偿、诚实信用的原则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1763640" y="2060640"/>
            <a:ext cx="633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承诺</a:t>
            </a:r>
            <a:r>
              <a:rPr b="1" i="1" lang="zh-CN" sz="2800" spc="-1" strike="noStrike">
                <a:solidFill>
                  <a:srgbClr val="ff0000"/>
                </a:solidFill>
                <a:latin typeface="宋体"/>
              </a:rPr>
              <a:t>不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蓝天上的</a:t>
            </a:r>
            <a:r>
              <a:rPr b="1" i="1" lang="zh-CN" sz="2800" spc="-1" strike="noStrike">
                <a:solidFill>
                  <a:srgbClr val="ff0000"/>
                </a:solidFill>
                <a:latin typeface="宋体"/>
              </a:rPr>
              <a:t>白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逍遥、飘逸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承诺</a:t>
            </a:r>
            <a:r>
              <a:rPr b="1" i="1" lang="zh-CN" sz="2800" spc="-1" strike="noStrike">
                <a:solidFill>
                  <a:srgbClr val="ff0000"/>
                </a:solidFill>
                <a:latin typeface="宋体"/>
              </a:rPr>
              <a:t>如同珍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它的盈润是蚌痛苦的代价，也是蚌的荣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857960" y="47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承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35"/>
          <p:cNvSpPr/>
          <p:nvPr/>
        </p:nvSpPr>
        <p:spPr>
          <a:xfrm>
            <a:off x="1979640" y="155736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个生者对死者的承诺，只是良心的自我约束，但是他却为此坚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，放弃了梦想、幸福和骨肉亲情，淡去火红的时代背景，他身上有古典意识的风范，无论在哪个年代，坚守承诺始终是支撑人性的基石，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对人如此，对一个民族更是如此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36"/>
          <p:cNvSpPr/>
          <p:nvPr/>
        </p:nvSpPr>
        <p:spPr>
          <a:xfrm>
            <a:off x="1940040" y="47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颁奖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053"/>
          <p:cNvSpPr/>
          <p:nvPr/>
        </p:nvSpPr>
        <p:spPr>
          <a:xfrm>
            <a:off x="1647720" y="1922400"/>
            <a:ext cx="63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搜集有关承诺的俗语、成语、名句以及名人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054"/>
          <p:cNvSpPr/>
          <p:nvPr/>
        </p:nvSpPr>
        <p:spPr>
          <a:xfrm>
            <a:off x="1647720" y="2989440"/>
            <a:ext cx="63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搜集诚信或者不诚信的企业或商家的例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55"/>
          <p:cNvSpPr/>
          <p:nvPr/>
        </p:nvSpPr>
        <p:spPr>
          <a:xfrm>
            <a:off x="1692360" y="41338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阅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P107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志的信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059"/>
          <p:cNvSpPr/>
          <p:nvPr/>
        </p:nvSpPr>
        <p:spPr>
          <a:xfrm>
            <a:off x="1899000" y="47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F200602100143112387921701"/>
          <p:cNvPicPr/>
          <p:nvPr/>
        </p:nvPicPr>
        <p:blipFill>
          <a:blip r:embed="rId2"/>
          <a:srcRect l="0" t="0" r="0" b="21543"/>
          <a:stretch/>
        </p:blipFill>
        <p:spPr>
          <a:xfrm>
            <a:off x="1692360" y="1844640"/>
            <a:ext cx="4876560" cy="3311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1690560" y="4762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当承诺变成一种感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1908000" y="2492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为一名中学生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角色赋予我们怎样的责任呢？请设计一份中学生誓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共青团团歌.mp3" descr=""/>
          <p:cNvPicPr/>
          <p:nvPr/>
        </p:nvPicPr>
        <p:blipFill>
          <a:blip r:embed="rId2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949400" y="4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行动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2447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200602100143112387921701"/>
          <p:cNvPicPr/>
          <p:nvPr/>
        </p:nvPicPr>
        <p:blipFill>
          <a:blip r:embed="rId2"/>
          <a:srcRect l="0" t="0" r="0" b="21345"/>
          <a:stretch/>
        </p:blipFill>
        <p:spPr>
          <a:xfrm>
            <a:off x="1692360" y="1916280"/>
            <a:ext cx="6624720" cy="390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Text Box 5"/>
          <p:cNvSpPr/>
          <p:nvPr/>
        </p:nvSpPr>
        <p:spPr>
          <a:xfrm>
            <a:off x="2411280" y="112536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感动中国人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陈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视频底"/>
          <p:cNvPicPr/>
          <p:nvPr/>
        </p:nvPicPr>
        <p:blipFill>
          <a:blip r:embed="rId2"/>
          <a:stretch/>
        </p:blipFill>
        <p:spPr>
          <a:xfrm>
            <a:off x="2627280" y="1695600"/>
            <a:ext cx="4648320" cy="4254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927440" y="46368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　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00360" y="2133720"/>
            <a:ext cx="4535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195640" y="2349360"/>
            <a:ext cx="561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话算话   人而无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知其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民无信不立   言必信，行必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君子一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驷马难追   一言九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宋体"/>
              </a:rPr>
              <a:t>一诺千金   一饭千金  曾子杀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763640" y="62064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　你知道哪些有关承诺的俗语、成语或名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42920" y="249696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一、信守承诺是我国人民的传统美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692360" y="476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 一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835280" y="227664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你在生活中信守承诺的情况如何呢？（结合书本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P105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感悟”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14200" y="227664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二、既然作出了承诺，就要兑现承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641600" y="47628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 一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763640" y="2852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怎样避免不能兑现承诺的情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4:05:55Z</dcterms:created>
  <dc:creator>xajh</dc:creator>
  <dc:description/>
  <dc:language>en-US</dc:language>
  <cp:lastModifiedBy>weiping</cp:lastModifiedBy>
  <dcterms:modified xsi:type="dcterms:W3CDTF">2008-07-11T09:08:21Z</dcterms:modified>
  <cp:revision>99</cp:revision>
  <dc:subject/>
  <dc:title>幻灯片 1</dc:title>
</cp:coreProperties>
</file>